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F22A4-DF84-45B2-B715-47B0DA94D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F51D-EB02-4DEB-952F-3DCE3A66B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0FF7D-1476-4023-9859-EFFE365C1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D9F54-D044-4E5E-B9BF-101563FE3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B8E3-1700-474B-8EA8-8D65027AF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F8AB3-B535-421E-B9CA-4B294AE6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50F18-139C-4DCB-8163-8F19C2554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1771B-FCBD-45FC-9A30-D4B5C1B5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B1F60-0942-4079-9685-A21381CC8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EE098-379A-45D6-9FA7-9B18ABDB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DD9BF-4A93-4169-9E20-FA0BCCCE9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347E-CDC1-447D-86F1-46ECC5331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7CE1-865D-4DCF-891D-0C96C2E49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160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EUVERING YOUR SAILPLANE EFFICIENTLY</a:t>
            </a:r>
            <a:endParaRPr b="0" lang="en-US" sz="3600" spc="-1" strike="noStrike">
              <a:solidFill>
                <a:srgbClr val="000000"/>
              </a:solidFill>
              <a:latin typeface="Arial"/>
            </a:endParaRPr>
          </a:p>
        </p:txBody>
      </p:sp>
      <p:sp>
        <p:nvSpPr>
          <p:cNvPr id="42" name="PlaceHolder 2"/>
          <p:cNvSpPr>
            <a:spLocks noGrp="1"/>
          </p:cNvSpPr>
          <p:nvPr>
            <p:ph type="subTitle"/>
          </p:nvPr>
        </p:nvSpPr>
        <p:spPr>
          <a:xfrm>
            <a:off x="1295280" y="3276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USAGE AND OTHER SUBTLETES</a:t>
            </a:r>
            <a:endParaRPr b="0" lang="en-US" sz="3200" spc="-1" strike="noStrike">
              <a:solidFill>
                <a:srgbClr val="000000"/>
              </a:solidFill>
              <a:latin typeface="Arial"/>
            </a:endParaRPr>
          </a:p>
        </p:txBody>
      </p:sp>
      <p:sp>
        <p:nvSpPr>
          <p:cNvPr id="43" name=""/>
          <p:cNvSpPr/>
          <p:nvPr/>
        </p:nvSpPr>
        <p:spPr>
          <a:xfrm>
            <a:off x="7391520" y="60958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457200"/>
            <a:ext cx="868680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w to practice the above maneuver</a:t>
            </a:r>
            <a:r>
              <a:rPr b="0" lang="en-US" sz="1600" spc="-1" strike="noStrike">
                <a:solidFill>
                  <a:srgbClr val="000000"/>
                </a:solidFill>
                <a:latin typeface="Arial"/>
              </a:rPr>
              <a:t>. – Starting from level flight and at your normal thermalling airspeed, mentally note the effects that air quality (roughness / smoothness) has on the airspeed and yaw string.  These are the acceptable tolerances for same throughout the maneuver. Roll into the selected bank at the chosen rate (slow, normal, or fast).  Be deliberate (slow) for the rate the ailerons are applied. This applies for rolling, both into and out of the ban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olling In</a:t>
            </a:r>
            <a:r>
              <a:rPr b="0" lang="en-US" sz="1600" spc="-1" strike="noStrike">
                <a:solidFill>
                  <a:srgbClr val="000000"/>
                </a:solidFill>
                <a:latin typeface="Arial"/>
              </a:rPr>
              <a:t>:  Observe the yaw string and A/S.  If the rudder has been applied commiserate with the aileron application, and the elevator is being applied appropriate to the increase in bank angle, the yaw string and A/S will remain unchanged.  Another indicator of proper elevator application (bringing the stick back as the bank increases) is pitch attitude – no change in same, if done correct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uggestion</a:t>
            </a:r>
            <a:r>
              <a:rPr b="0" lang="en-US" sz="1600" spc="-1" strike="noStrike">
                <a:solidFill>
                  <a:srgbClr val="000000"/>
                </a:solidFill>
                <a:latin typeface="Arial"/>
              </a:rPr>
              <a:t>:  If the A/S and/or the yaw string drifts from the ideal only try to arrest, or minimize, the excursion, don’t try to bring back.  Make </a:t>
            </a:r>
            <a:r>
              <a:rPr b="0" lang="en-US" sz="1600" spc="-1" strike="noStrike" u="sng">
                <a:solidFill>
                  <a:srgbClr val="000000"/>
                </a:solidFill>
                <a:uFillTx/>
                <a:latin typeface="Arial"/>
              </a:rPr>
              <a:t>that </a:t>
            </a:r>
            <a:r>
              <a:rPr b="0" lang="en-US" sz="1600" spc="-1" strike="noStrike">
                <a:solidFill>
                  <a:srgbClr val="000000"/>
                </a:solidFill>
                <a:latin typeface="Arial"/>
              </a:rPr>
              <a:t>adjustment on the next ‘roll in / roll out’ attem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topping the Roll at the Desired Bank Angle</a:t>
            </a:r>
            <a:r>
              <a:rPr b="0" lang="en-US" sz="1600" spc="-1" strike="noStrike">
                <a:solidFill>
                  <a:srgbClr val="000000"/>
                </a:solidFill>
                <a:latin typeface="Arial"/>
              </a:rPr>
              <a:t>:  As the bank angle is approaching the target angle the controls should be moving from the ‘roll in’ application (position) to what can best be described as the ‘steady state’ (repeatable) position for the selected turn (bank angle and airspe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olling Out, and into the Opposite Direction Turn:</a:t>
            </a:r>
            <a:r>
              <a:rPr b="0" lang="en-US" sz="1600" spc="-1" strike="noStrike">
                <a:solidFill>
                  <a:srgbClr val="000000"/>
                </a:solidFill>
                <a:latin typeface="Arial"/>
              </a:rPr>
              <a:t>  Remain in the turn long enough to get back on condition (Airspeed and coordinated).  The transition to the opposite direction turn should be done at the same original  roll rate.  Here again the yaw string and airspeed are the measure for the quality of the maneuvering. Try different roll rates rolling into (and out of) typical thermalling turns.  The yardsticks are the yaw string (should be centered throughout) and airspeed / pitch attitude (remains constant).  Find the roll-rates / bank angles where this can be done successfully and work to expand the (roll rates and bank angles) envelope.</a:t>
            </a:r>
            <a:endParaRPr b="0" lang="en-US" sz="1600" spc="-1" strike="noStrike">
              <a:solidFill>
                <a:srgbClr val="000000"/>
              </a:solidFill>
              <a:latin typeface="Arial"/>
            </a:endParaRPr>
          </a:p>
        </p:txBody>
      </p:sp>
      <p:sp>
        <p:nvSpPr>
          <p:cNvPr id="65" name=""/>
          <p:cNvSpPr/>
          <p:nvPr/>
        </p:nvSpPr>
        <p:spPr>
          <a:xfrm>
            <a:off x="3809880" y="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5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APPLICA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ying (Maneuvering) with water ballas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urbulen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level maneuvering</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7162920" y="60199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838080"/>
            <a:ext cx="8915400" cy="40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ater Ballast:</a:t>
            </a:r>
            <a:r>
              <a:rPr b="0" lang="en-US" sz="1600" spc="-1" strike="noStrike">
                <a:solidFill>
                  <a:srgbClr val="000000"/>
                </a:solidFill>
                <a:latin typeface="Arial"/>
              </a:rPr>
              <a:t>  Faster A/S’s / same pitch attitudes.  Higher roll Moment of inertia (MOI) which increases sluggishness in starting and stopping the roll.  Stall / spin departures will develop slower (giving a false sense of improved stability) but, in autorotation, will be slower to recover. In a thermal give the center to those W/O water and let them b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urbulence:</a:t>
            </a:r>
            <a:r>
              <a:rPr b="0" lang="en-US" sz="1600" spc="-1" strike="noStrike">
                <a:solidFill>
                  <a:srgbClr val="000000"/>
                </a:solidFill>
                <a:latin typeface="Arial"/>
              </a:rPr>
              <a:t> Correct for the ‘averages’, not each individual upset. Vertical gusts will result in the nose wanting to drop (A/S increases) in response to an ‘up-gust’ and pitch up (A/S decreases) when hitting the sink or down-gust.  The elevator response should be in reestablishing the desired pitch attitude but only after the trend in airspeed change has been controlled (rever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 gusts don’t require much of a response (unless one is in the landing flair) as the sailplane just ‘weathervanes’ into the gust plus some secondary rolling opposite to the yawing.  Small control deflections of the type to “center-the-yaw string” are in ord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Low-Level Maneuvering</a:t>
            </a:r>
            <a:r>
              <a:rPr b="0" lang="en-US" sz="1600" spc="-1" strike="noStrike">
                <a:solidFill>
                  <a:srgbClr val="000000"/>
                </a:solidFill>
                <a:latin typeface="Arial"/>
              </a:rPr>
              <a:t>:  Extra airspeed is always in order when low – either on a ridge, or low in a landing pattern.  Give up altitude as required to maintain that (A/S) marg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landing Patterns – When turning (hopefully to final) use more bank early (over bank) so the wings can be rolling towards level in the later stages of the tur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dge Running (good lift)- Stay smooth (especially pitch) brace ‘stick hand’ to minimize PIO’s.</a:t>
            </a:r>
            <a:endParaRPr b="0" lang="en-US" sz="1600" spc="-1" strike="noStrike">
              <a:solidFill>
                <a:srgbClr val="000000"/>
              </a:solidFill>
              <a:latin typeface="Arial"/>
            </a:endParaRPr>
          </a:p>
        </p:txBody>
      </p:sp>
      <p:sp>
        <p:nvSpPr>
          <p:cNvPr id="70" name=""/>
          <p:cNvSpPr/>
          <p:nvPr/>
        </p:nvSpPr>
        <p:spPr>
          <a:xfrm>
            <a:off x="4191120" y="152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g. 6 No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3716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T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ssumption is that everyone here is a safe, competent pilot. This presentation is intended / suggested as a “Do- it-Yourself” project” for the ‘fine tuning’ of your control usage techniques. Most, if not all of you probably work hard on technique; keeping the yaw string centered, and the airspeed close to the desired value.  Our discussion for the most part, will deal with maneuvering the sailplane in that  thermal (speeds and bank angles) enviro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get our hands around the subject we will talk about some of the sailplane factors, some pilot factors, and then the system factors, where we combine the two.  Lastly, we will relate control usage technique to some other areas such as ‘flying with water ballast’, Flying in (severe) turbulence, and low level maneuvering (ridge running and landing pattern flying).</a:t>
            </a:r>
            <a:endParaRPr b="0" lang="en-US" sz="1800" spc="-1" strike="noStrike">
              <a:solidFill>
                <a:srgbClr val="000000"/>
              </a:solidFill>
              <a:latin typeface="Arial"/>
            </a:endParaRPr>
          </a:p>
        </p:txBody>
      </p:sp>
      <p:sp>
        <p:nvSpPr>
          <p:cNvPr id="45" name=""/>
          <p:cNvSpPr/>
          <p:nvPr/>
        </p:nvSpPr>
        <p:spPr>
          <a:xfrm>
            <a:off x="3581280" y="228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 1 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formance - Getting the most out of the sailplan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fety – For yourself and those in your thermal / airspac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tter feedback - interpreting what your sailplane is telling you.</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7543800" y="6172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16765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erformance</a:t>
            </a:r>
            <a:r>
              <a:rPr b="0" lang="en-US" sz="1800" spc="-1" strike="noStrike">
                <a:solidFill>
                  <a:srgbClr val="000000"/>
                </a:solidFill>
                <a:latin typeface="Arial"/>
              </a:rPr>
              <a:t>:  Common mistakes are over controlling (each unnecessary control surface deflection costs you), and/ or uncoordination (Keep the pointy end going forw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afety</a:t>
            </a:r>
            <a:r>
              <a:rPr b="0" lang="en-US" sz="1800" spc="-1" strike="noStrike">
                <a:solidFill>
                  <a:srgbClr val="000000"/>
                </a:solidFill>
                <a:latin typeface="Arial"/>
              </a:rPr>
              <a:t>: Don’t spin out in a gaggle.  Good habits pay off in bad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eedback:</a:t>
            </a:r>
            <a:r>
              <a:rPr b="0" lang="en-US" sz="1800" spc="-1" strike="noStrike">
                <a:solidFill>
                  <a:srgbClr val="000000"/>
                </a:solidFill>
                <a:latin typeface="Arial"/>
              </a:rPr>
              <a:t>  Your sailplane is a 15M wide ‘air sampler’, each up-set / correction is a piece of the puzzle,  Poor control technique masks this information . (Consistency, including mistakes, beats erratic). I think the picture that the really good pilots paint (The Striediecks, Moffets of this world) is roughly analogous to the way the south seas islanders (before GPS) could navigate, days away from any land, by reading the waves / interference patterns caused by distant islands.</a:t>
            </a:r>
            <a:endParaRPr b="0" lang="en-US" sz="1800" spc="-1" strike="noStrike">
              <a:solidFill>
                <a:srgbClr val="000000"/>
              </a:solidFill>
              <a:latin typeface="Arial"/>
            </a:endParaRPr>
          </a:p>
        </p:txBody>
      </p:sp>
      <p:sp>
        <p:nvSpPr>
          <p:cNvPr id="50" name=""/>
          <p:cNvSpPr/>
          <p:nvPr/>
        </p:nvSpPr>
        <p:spPr>
          <a:xfrm>
            <a:off x="3657600" y="3049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 2 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ILPLANE FACTORS</a:t>
            </a:r>
            <a:br>
              <a:rPr sz="4000"/>
            </a:br>
            <a:r>
              <a:rPr b="0" lang="en-US" sz="2400" spc="-1" strike="noStrike">
                <a:solidFill>
                  <a:srgbClr val="000000"/>
                </a:solidFill>
                <a:latin typeface="Arial"/>
              </a:rPr>
              <a:t>KNOW YOUR SAILPLANE</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 OF GRAVIT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LERON DIFFERENTI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BANK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APS (AND DIVE BRAKES) </a:t>
            </a:r>
            <a:endParaRPr b="0" lang="en-US" sz="3200" spc="-1" strike="noStrike">
              <a:solidFill>
                <a:srgbClr val="000000"/>
              </a:solidFill>
              <a:latin typeface="Arial"/>
            </a:endParaRPr>
          </a:p>
        </p:txBody>
      </p:sp>
      <p:sp>
        <p:nvSpPr>
          <p:cNvPr id="53" name=""/>
          <p:cNvSpPr/>
          <p:nvPr/>
        </p:nvSpPr>
        <p:spPr>
          <a:xfrm>
            <a:off x="7315200" y="6248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1143000"/>
            <a:ext cx="89917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G</a:t>
            </a:r>
            <a:r>
              <a:rPr b="0" lang="en-US" sz="1600" spc="-1" strike="noStrike">
                <a:solidFill>
                  <a:srgbClr val="000000"/>
                </a:solidFill>
                <a:latin typeface="Arial"/>
              </a:rPr>
              <a:t>:  Some fly better with an aft CG / more neutral stability (Better climbing).  Others better @ mid range (Better for cruise). A ‘forward’ CG will increase the stick (elevator) movement required, as a function of bank angle, to maintain a constant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ileron differential</a:t>
            </a:r>
            <a:r>
              <a:rPr b="0" lang="en-US" sz="1600" spc="-1" strike="noStrike">
                <a:solidFill>
                  <a:srgbClr val="000000"/>
                </a:solidFill>
                <a:latin typeface="Arial"/>
              </a:rPr>
              <a:t>: The travel of the ‘up’ aileron is more than the ‘down’ aileron – usually 3 to 1 at full deflection.  Because of the ‘closed loop’ nature of the control system the ‘differential’ at 0° deflection is 1/1.  This means that the balance between rudder and aileron, for coordinated rolling, will vary depending on aileron deflection. For thermal maneuvering find the roll rate (range) that works best for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ver banking: </a:t>
            </a:r>
            <a:r>
              <a:rPr b="0" lang="en-US" sz="1600" spc="-1" strike="noStrike">
                <a:solidFill>
                  <a:srgbClr val="000000"/>
                </a:solidFill>
                <a:latin typeface="Arial"/>
              </a:rPr>
              <a:t>In a turn the outside wing is moving faster than the inside wing… The reason apposite aileron is required in the ‘steady state’ turn. (As stated elsewhere: When rolling into the turn before reaching the desired bank the controls should be transitioning from the ‘roll-in’ to the ‘steady state’ positions for the selected bank a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laps and dive brakes</a:t>
            </a:r>
            <a:r>
              <a:rPr b="0" lang="en-US" sz="1600" spc="-1" strike="noStrike">
                <a:solidFill>
                  <a:srgbClr val="000000"/>
                </a:solidFill>
                <a:latin typeface="Arial"/>
              </a:rPr>
              <a:t>: Know pitching characteristics (important for …) Increasing the flap setting (even landing flaps, momentarily) can get one through the ‘soft side’ of a thermal.</a:t>
            </a:r>
            <a:endParaRPr b="0" lang="en-US" sz="1600" spc="-1" strike="noStrike">
              <a:solidFill>
                <a:srgbClr val="000000"/>
              </a:solidFill>
              <a:latin typeface="Arial"/>
            </a:endParaRPr>
          </a:p>
        </p:txBody>
      </p:sp>
      <p:sp>
        <p:nvSpPr>
          <p:cNvPr id="55" name=""/>
          <p:cNvSpPr/>
          <p:nvPr/>
        </p:nvSpPr>
        <p:spPr>
          <a:xfrm>
            <a:off x="3886200" y="228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 3 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LOT FACTORS</a:t>
            </a:r>
            <a:br>
              <a:rPr sz="4400"/>
            </a:br>
            <a:r>
              <a:rPr b="0" lang="en-US" sz="2400" spc="-1" strike="noStrike">
                <a:solidFill>
                  <a:srgbClr val="000000"/>
                </a:solidFill>
                <a:latin typeface="Arial"/>
              </a:rPr>
              <a:t>KNOW YOURSELF</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ITS &amp; REFLEX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of mi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7620120" y="62485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1143000"/>
            <a:ext cx="830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bits &amp; Reflexes</a:t>
            </a:r>
            <a:r>
              <a:rPr b="0" lang="en-US" sz="1800" spc="-1" strike="noStrike">
                <a:solidFill>
                  <a:srgbClr val="000000"/>
                </a:solidFill>
                <a:latin typeface="Arial"/>
              </a:rPr>
              <a:t>: Watch yourself when you are operating on ‘auto pilot’.  (Note those areas that need improvement) and fix the ‘bad habits’.  Develop the habit of self observ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ess</a:t>
            </a:r>
            <a:r>
              <a:rPr b="0" lang="en-US" sz="1800" spc="-1" strike="noStrike">
                <a:solidFill>
                  <a:srgbClr val="000000"/>
                </a:solidFill>
                <a:latin typeface="Arial"/>
              </a:rPr>
              <a:t>:  Those ‘bad habits’ may reemerge in stressful situations.  Can be used as indicator of physical deterioration (dehydration, fatigue, faulty O2 system.)</a:t>
            </a:r>
            <a:endParaRPr b="0" lang="en-US" sz="1800" spc="-1" strike="noStrike">
              <a:solidFill>
                <a:srgbClr val="000000"/>
              </a:solidFill>
              <a:latin typeface="Arial"/>
            </a:endParaRPr>
          </a:p>
        </p:txBody>
      </p:sp>
      <p:sp>
        <p:nvSpPr>
          <p:cNvPr id="60" name=""/>
          <p:cNvSpPr/>
          <p:nvPr/>
        </p:nvSpPr>
        <p:spPr>
          <a:xfrm>
            <a:off x="3886200" y="304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 4 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EVALUATION</a:t>
            </a:r>
            <a:br>
              <a:rPr sz="4000"/>
            </a:br>
            <a:r>
              <a:rPr b="0" lang="en-US" sz="2400" spc="-1" strike="noStrike">
                <a:solidFill>
                  <a:srgbClr val="000000"/>
                </a:solidFill>
                <a:latin typeface="Arial"/>
              </a:rPr>
              <a:t>PILOT + SAILPLANE</a:t>
            </a:r>
            <a:endParaRPr b="0" lang="en-US" sz="2400" spc="-1" strike="noStrike">
              <a:solidFill>
                <a:srgbClr val="000000"/>
              </a:solidFill>
              <a:latin typeface="Arial"/>
            </a:endParaRPr>
          </a:p>
        </p:txBody>
      </p:sp>
      <p:sp>
        <p:nvSpPr>
          <p:cNvPr id="62" name="PlaceHolder 2"/>
          <p:cNvSpPr>
            <a:spLocks noGrp="1"/>
          </p:cNvSpPr>
          <p:nvPr>
            <p:ph/>
          </p:nvPr>
        </p:nvSpPr>
        <p:spPr>
          <a:xfrm>
            <a:off x="457200" y="2514240"/>
            <a:ext cx="8229600" cy="297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rmal maneuvering (EXERCIS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Start from level, at the target airspeed.  Roll into the desired bank / turn.  Hold the turn only long enough to correct (as required) the yaw string, bank angle, and airspeed.  When on condition, roll back though level to the same bank, opposite direction turn.</a:t>
            </a:r>
            <a:endParaRPr b="0" lang="en-US" sz="2000" spc="-1" strike="noStrike">
              <a:solidFill>
                <a:srgbClr val="000000"/>
              </a:solidFill>
              <a:latin typeface="Arial"/>
            </a:endParaRPr>
          </a:p>
        </p:txBody>
      </p:sp>
      <p:sp>
        <p:nvSpPr>
          <p:cNvPr id="63" name=""/>
          <p:cNvSpPr/>
          <p:nvPr/>
        </p:nvSpPr>
        <p:spPr>
          <a:xfrm>
            <a:off x="7391520" y="6248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01:48:28Z</dcterms:created>
  <dc:creator>MellenBR</dc:creator>
  <dc:description/>
  <dc:language>en-US</dc:language>
  <cp:lastModifiedBy>Douglas Jacobs</cp:lastModifiedBy>
  <dcterms:modified xsi:type="dcterms:W3CDTF">2007-04-01T11:15:58Z</dcterms:modified>
  <cp:revision>13</cp:revision>
  <dc:subject/>
  <dc:title>FLYING EFFICIENTLY</dc:title>
</cp:coreProperties>
</file>