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1B5-63C6-4E23-AB9E-EF2EBB17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AF6-49E9-4AA6-A4FF-D3EEFEEC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59F-B521-4606-900A-37D419F3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753-ADB3-4530-A786-9621A938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E9D-AE95-438E-BE68-06A83681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D3D-9387-42B9-A0FA-F71FC29E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930-092A-49A5-B156-55931156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B17-0E3A-4AD0-988A-4B062D8A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A37-DF6F-4107-99BA-284CD3B2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C9D-BB18-4F01-AF42-17A4D3E6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BEB-1C6D-4BD9-8546-A4183193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A92-CB06-4FD3-9A21-42C46A4A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D8E5-AB4E-40AA-B06A-C261F1E94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-685800"/>
            <a:ext cx="11906280" cy="7937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7280" y="0"/>
            <a:ext cx="396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6520" y="3849840"/>
            <a:ext cx="37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Team/PGC XC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rl Striedi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03480" y="80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8195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9:15:10Z</dcterms:created>
  <dc:creator>Douglas Jacobs</dc:creator>
  <dc:description/>
  <dc:language>en-US</dc:language>
  <cp:lastModifiedBy>Douglas Jacobs</cp:lastModifiedBy>
  <dcterms:modified xsi:type="dcterms:W3CDTF">2005-05-15T13:02:54Z</dcterms:modified>
  <cp:revision>2</cp:revision>
  <dc:subject/>
  <dc:title>Slide 1</dc:title>
</cp:coreProperties>
</file>