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FB5-109E-4348-95C4-AB0B29C1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783-86AA-441E-8264-18E0490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223-0042-4946-ABEF-F6FEF257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45D-BDBD-4DF6-8D7E-DE4DCB3C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B10-7F99-4BBE-9221-5C6D808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00F-F3F7-4BB0-958F-C255427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49D-81E9-4EBB-9C28-37244FA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40A-8E0A-4F5C-9571-5AB8975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D1F-17E1-47A0-82D6-03C3C3A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9F9-5D84-4A82-9533-E5F517E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66E-0D8B-4C8F-A946-9327829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11D-35A7-4E2A-9251-C1F66C7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C4C-22FF-4BBA-BF65-BE8BFD72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8320" y="45720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06240" y="302256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0160" y="4227480"/>
            <a:ext cx="18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1 Co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 Jac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2160" y="304920"/>
            <a:ext cx="749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Glide – I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flying climb and glide on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the last 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can fly the McCready spe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 the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a safety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now a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de angle over the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ter with a tail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per with a head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s wing loading and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your calculator accu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requires prac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so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for badge and distance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, for speed tasks and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mprovement to average sp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1360" y="798480"/>
            <a:ext cx="7041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nal Glide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now your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levatio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errain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rrival Height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ergy to Land Saf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afety Margi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xtra 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omm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limbing in weak lift – off McCready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eep the thermal selection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oing straight home – up a sink stre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eep flying the energy lines down to arrival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aking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nd steaming home at 130kts, doing 15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aking too li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nd trying to oomph up on the glide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5000" y="493560"/>
            <a:ext cx="709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ychological Pressures are intense on Final G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de angle visually flat in modern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’ll never make 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cially down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ssive sink might be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ing very fast, very loud, ver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turbulence gets rougher 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the pilot’s IQ starts to f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 visions/narrowed focus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fly the airplane to a safe landing, not just a good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lides in 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lides around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ough height for FG before last TP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wind/tailwind switchover at 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ring” TP’s to direct finishing traff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Glides in MAT’s, AA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FG to be the largest proportion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flight pos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y? – Because it’s your fastest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w? – come in just after Minimum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 we’ll discuss further in Contes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-457200"/>
            <a:ext cx="82296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39625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87840" y="3998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G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-533520"/>
            <a:ext cx="11277720" cy="9021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61200" y="11034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s 18M National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30844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final glide a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ly to av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78680" y="630360"/>
            <a:ext cx="7832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’ve got to practice,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et 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ood Finish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21:05:17Z</dcterms:created>
  <dc:creator>Jacobs Family</dc:creator>
  <dc:description/>
  <dc:language>en-US</dc:language>
  <cp:lastModifiedBy>Jacobs Family</cp:lastModifiedBy>
  <dcterms:modified xsi:type="dcterms:W3CDTF">2008-06-19T11:29:34Z</dcterms:modified>
  <cp:revision>10</cp:revision>
  <dc:subject/>
  <dc:title>Slide 1</dc:title>
</cp:coreProperties>
</file>