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BC3-0773-422B-989D-2A447709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8DC-5832-4A4E-975E-830AA830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F98-6E06-497D-9EB5-1CACFD64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6AE-009C-4191-8F17-A6F91E14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4E21-D834-4F26-AA5E-65AE590E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D7C0-E966-4EC4-8C35-FFD76B5F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298C-5F07-4791-B940-D25C4999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7418-188C-4A17-990F-11D1999F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910F-30A6-4CA6-95A3-5E00DEAF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B985-2B4A-4C67-83B4-68E5A6F9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ADE4-8533-433F-9A46-4842C135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679-084B-441D-991F-1A2DC6EA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BBFD-B62E-4D11-8B95-408D529F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05FD-80EB-475D-9F6F-5CC00C7D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BBD6-6913-4C10-801A-6B2FFF84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4B95-CCCD-4044-BA56-508CB9B5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6966-2C59-4810-946B-DA49BE5C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3E6-693D-4213-A7CF-5A6B29BE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205-2FB6-42E5-B518-1DF2CC0D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7DC-4887-4543-BCF9-16A7B1F4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A61-9956-4ABF-B6C5-8CD59CF7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745-DFE0-4ABB-BE08-DD3FF6C8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603-B069-42F6-9437-0C98DB97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0AB-99B6-48BA-8591-F2C3C045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5C04-5D67-425B-997E-142D654B2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1892-C376-432D-85CE-E442674F0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ternet weather resourc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sites and how to us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OES INTERACTIVE SAT. VIEW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1680" y="1676520"/>
            <a:ext cx="8540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1680" y="1676520"/>
            <a:ext cx="8540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YPICAL SEQUE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s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ellite—visual and 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ar—loop if ppt. an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 for dew point s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map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sou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n’t Blipmap enoug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ptic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e m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nostic m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weather warn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discu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ing refin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eaking dew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ing several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s when Blipmap is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data vie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mapp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ie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eather.unisy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320" y="152280"/>
            <a:ext cx="9067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UC surface precip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ccu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3152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OAA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1680" y="1676520"/>
            <a:ext cx="8540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DDS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http://adds.aviationweather.noaa.gov/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AD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0:21:31Z</dcterms:created>
  <dc:creator>soarsz</dc:creator>
  <dc:description/>
  <dc:language>en-US</dc:language>
  <cp:lastModifiedBy>soarsz</cp:lastModifiedBy>
  <dcterms:modified xsi:type="dcterms:W3CDTF">2007-03-31T11:54:09Z</dcterms:modified>
  <cp:revision>3</cp:revision>
  <dc:subject/>
  <dc:title>Internet weather resources</dc:title>
</cp:coreProperties>
</file>