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A18-542D-4FB9-B6BD-E0877D0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3C9-97DB-40EE-867E-EF92383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A32-3022-449F-B588-B174BFC2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A73-26CF-4BAD-AA13-C2544F49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677-C577-4584-9CDB-A8C8776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441-1D08-4615-81BF-695C554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17C-9613-49BF-A2C3-8024046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E50-2811-4A89-80DF-77B08AEA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FBF-F5DD-438C-85A8-89BA57F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8C7-7968-4808-8B03-9096B7B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84C-4CF3-41DB-92DB-FA271AC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0A2-4ECE-477A-B1A0-E1B01AE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6622-D9D3-463B-B596-FBF988FD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amp Logo"/>
          <p:cNvPicPr/>
          <p:nvPr/>
        </p:nvPicPr>
        <p:blipFill>
          <a:blip r:embed="rId1"/>
          <a:stretch/>
        </p:blipFill>
        <p:spPr>
          <a:xfrm>
            <a:off x="5372280" y="533520"/>
            <a:ext cx="3120840" cy="335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7840" y="801720"/>
            <a:ext cx="38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Do It Yourself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ather 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5160" y="175248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thanks to Sam Zimm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37168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the Big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ynoptic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lou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, past, present and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Trends, and out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max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Direction a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ring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ings, if you 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pmap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1371600"/>
            <a:ext cx="12801600" cy="1024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09480" y="-1447920"/>
            <a:ext cx="13106160" cy="10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-944640"/>
            <a:ext cx="975348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21640" y="3636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-frd.fsl.noaa.gov/mab/sounding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295280" y="-1143000"/>
            <a:ext cx="12496680" cy="999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2438280" y="-1295280"/>
            <a:ext cx="14401800" cy="115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600200" y="-1295280"/>
            <a:ext cx="13182480" cy="105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920" y="3636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rjack.info/BLIP/RUC/N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10440" cy="72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10200" y="2017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B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080" y="3636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dds.aviationweather.gov/prog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5400" y="-396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ation Digital Data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99240" y="1126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dds.aviationweather.gov/data/progs/hpc_12_fcst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36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Hour 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5716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70360" y="0"/>
            <a:ext cx="36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weather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emiuma.accuweath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73240" y="65898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st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622440"/>
            <a:ext cx="74674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858000" cy="572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06720" y="1890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red and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0360" y="380880"/>
            <a:ext cx="53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emiuma.accuweather.com/adcbin/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838080" y="-1066680"/>
            <a:ext cx="14477760" cy="1158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2120" y="-1143000"/>
            <a:ext cx="12954240" cy="10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762120" y="-838080"/>
            <a:ext cx="12877920" cy="103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3:43:09Z</dcterms:created>
  <dc:creator>Douglas Jacobs</dc:creator>
  <dc:description/>
  <dc:language>en-US</dc:language>
  <cp:lastModifiedBy>Jacobs Family</cp:lastModifiedBy>
  <dcterms:modified xsi:type="dcterms:W3CDTF">2004-06-17T11:15:37Z</dcterms:modified>
  <cp:revision>9</cp:revision>
  <dc:subject/>
  <dc:title>Slide 1</dc:title>
</cp:coreProperties>
</file>