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8.jpeg" ContentType="image/jpeg"/>
  <Override PartName="/ppt/media/image4.png" ContentType="image/png"/>
  <Override PartName="/ppt/media/image3.png" ContentType="image/png"/>
  <Override PartName="/ppt/media/image22.wmf" ContentType="image/x-wmf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3AD56-BA6A-4C1A-9388-396EF3643B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mtp.jpl.nasa.gov/notes/altitude/altitude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mtp.jpl.nasa.gov/notes/altitude/AviationAltiudeScales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75D1-2262-4476-883A-FA6F755E0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CA2A-1C88-480A-8A32-8FCED348B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676B-AA61-4E0C-AB13-3D73BB274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A040-6D7C-4895-B1AB-D2A75FA18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3C2D0-FC9F-4EF5-B65A-DC6A6CF7C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3AC4D-3D2D-4BA9-9E9B-263B2AF5E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86821-F439-42A9-9DE5-354352F24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EA3D1-C238-4C35-946E-06876EE3E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6096E-2325-4C8D-A44E-9973CD73B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9B265-DF64-4DDF-A41E-D58E08B1B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DBA39-4B7D-4647-A2C0-F6FFB76F2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6DB0-D60B-4625-A34B-533405205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D1A08-D38D-4C9A-B5EB-BAD5AF8B4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A4EB8-0689-4CB8-B43C-33BB19E6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B90C4-B1C5-4093-BE5E-4A6D38FE8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15FA8-7444-4A04-A5CD-92158FBA6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4113B-5DC7-45A0-AB41-D3D17EC1A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D04D-2FC7-472A-8562-4BB0059A6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97C6-290C-424E-9C69-EC571CBEE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81B8-8F21-434D-BC4B-D649C5CE7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4940-6770-4618-8D32-0A7BC8CCA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705E-07A7-4983-8182-381FC65D4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C80F-4977-48A5-A960-9CB04026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557B-1CC7-459C-AB52-67526A9E6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2AA6A-2112-41E5-8E8F-02D6936E5A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937640" y="5743440"/>
            <a:ext cx="1050840" cy="92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3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F25AE-FE22-49E8-BE7D-E1C60920B7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01800" y="597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IRCRAFT INSTRUME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21337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RING 2007 PERRY CROSS COUNTRY CAM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ENTED B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CHARD KELLERMAN (QV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M U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219320" y="138276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cc66"/>
                </a:solidFill>
                <a:latin typeface="Arial"/>
              </a:rPr>
              <a:t>WHAT YOU SEE IS NOT WHAT YOU GET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LTIMETER SETTING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A PARKED GLIDE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QN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 SET KOLLSMAN = 1013.2 hPa (29.92 I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HOWS PRESSURE ALTITU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QF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 SET KOLLSMAN = STATION PRESS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HOWS ZERO IN STANDARD ATMOSPHE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QN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 SET KOLLSMAN = BAROMETRIC PRESS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HOWS FIELD ELEVATION IN STANDARD ATMOSPHE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SEA BREEZ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D HE SAY SEA BREEZ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ES – IF YOU UNDERSTAND THE SEA BREEZE YOU WILL UNDERSTAND PRESSURE LEV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SEA BREEZE, WRONG!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831852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06320" y="290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SEA BREEZE, RIGH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23960" y="1506600"/>
            <a:ext cx="7012080" cy="45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AIR ALOFT FLOWS OFFSHORE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84280" y="1739880"/>
            <a:ext cx="7012080" cy="45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LOCAL HIGHS AND LOWS SET UP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98320" y="1760400"/>
            <a:ext cx="7012080" cy="45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LTIMETERS AND GLIDE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TERRAIN CLEAR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200 FT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QNH NOT QF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CROSS COUNTRY HEAL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RID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FINAL GLIDE CALCUL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INAL GLIDE CONSIDERAT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TRUMENT ERRORS CANC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SSURE CHANGES ONE INCH = 1,000 FT CAN BE +/- 200 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STANDARD LAPSE RATE – DEVIATIONS GENERALLY POSITIVE 100 – 300 FT AT 5,000 FT AND 300 – 900 AT 15,000 F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THE ASI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6" name="ASI" descr=""/>
          <p:cNvPicPr/>
          <p:nvPr/>
        </p:nvPicPr>
        <p:blipFill>
          <a:blip r:embed="rId1"/>
          <a:srcRect l="34990" t="9445" r="22841" b="32065"/>
          <a:stretch/>
        </p:blipFill>
        <p:spPr>
          <a:xfrm>
            <a:off x="2665440" y="2057400"/>
            <a:ext cx="3429000" cy="373680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AT IT MEASUR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r>
              <a:rPr b="0" lang="en-US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stagna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P</a:t>
            </a:r>
            <a:r>
              <a:rPr b="0" lang="en-US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stati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</a:t>
            </a:r>
            <a:r>
              <a:rPr b="0" lang="en-US" sz="28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ρV</a:t>
            </a:r>
            <a:r>
              <a:rPr b="0" lang="en-US" sz="2800" spc="-1" strike="noStrike" baseline="30000">
                <a:solidFill>
                  <a:srgbClr val="3366ff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/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905120" y="1676520"/>
            <a:ext cx="552132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STICK AND RUDDER”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AIRCRAFT DON’T BEHAVE THE WAY PILOT’S THINK THEY 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NEITHER DO INSTRU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AT IT SHOW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1" name="ASI" descr=""/>
          <p:cNvPicPr/>
          <p:nvPr/>
        </p:nvPicPr>
        <p:blipFill>
          <a:blip r:embed="rId1"/>
          <a:srcRect l="34990" t="9445" r="22841" b="32065"/>
          <a:stretch/>
        </p:blipFill>
        <p:spPr>
          <a:xfrm>
            <a:off x="2665440" y="2057400"/>
            <a:ext cx="3429000" cy="373680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Y “INDICATED AIRSPEED”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PENDS  ON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ρV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ERODYNAMIC FORCES ALSO DEPEND ON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ρV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QUADRATIC IN V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AS AND TAS FOR A 747 AT 40,000 F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SI’s AND GLIDE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WESTERN FLY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FINAL GLI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CROSS COUNTRY ENERGY MANAG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THE CLOCK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7710" t="9051" r="6605" b="13166"/>
          <a:stretch/>
        </p:blipFill>
        <p:spPr>
          <a:xfrm>
            <a:off x="1828800" y="2209680"/>
            <a:ext cx="5329080" cy="32353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Y A CLOCK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YING TIME CONTROLLED TAS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RITE DOWN START TIME, THEN FINISH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TTING HO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LY REMINDER THAT WHEN THERMALLING VMG IS ~ ZE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NOW WHERE YOUR GPS CLOCK HI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COMPAS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4448" b="4020"/>
          <a:stretch/>
        </p:blipFill>
        <p:spPr>
          <a:xfrm>
            <a:off x="2286000" y="1752480"/>
            <a:ext cx="4341960" cy="44132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OXING THE COMPAS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2590920" y="1719360"/>
            <a:ext cx="3903480" cy="4300560"/>
            <a:chOff x="2590920" y="1719360"/>
            <a:chExt cx="3903480" cy="4300560"/>
          </a:xfrm>
        </p:grpSpPr>
        <p:pic>
          <p:nvPicPr>
            <p:cNvPr id="164" name="" descr=""/>
            <p:cNvPicPr/>
            <p:nvPr/>
          </p:nvPicPr>
          <p:blipFill>
            <a:blip r:embed="rId1"/>
            <a:stretch/>
          </p:blipFill>
          <p:spPr>
            <a:xfrm>
              <a:off x="2590920" y="1719360"/>
              <a:ext cx="3903480" cy="430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 txBox="1"/>
            <p:nvPr/>
          </p:nvSpPr>
          <p:spPr>
            <a:xfrm>
              <a:off x="2590920" y="1719360"/>
              <a:ext cx="3903480" cy="4300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00"/>
                </a:spcBef>
                <a:buClr>
                  <a:srgbClr val="000044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56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ODERN ROS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890720" y="1303200"/>
            <a:ext cx="5114880" cy="511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WINGING THE COMPAS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FIND A RO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ORIENT N, NOTE RE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ORIENT S, ADJUST 50% OF ERR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REPEAT TO CONSTANT ERR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REPEAT FOR E/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USING THE COMPAS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PS IS SIMPLY BET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LESS EXCEPT IN UNACCELERATED F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CC USEFUL FOR SITUATIONAL AWARE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CATING OTHER GLID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AT THEY SAY AND WHAT THEY D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WHAT IT SAYS IT MEAS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ALTIMETER:  HEIGH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ASI:  SPE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COMPASS:  DIRE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VARIO:  RATE-OF-CLIM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WHAT IT DOES MEAS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STATIC PRESS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TOTAL – STATIC PRESS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LOCAL MAGNETIC VEC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GLIDER ENERG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ERE ARE YOU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03480" y="2251080"/>
            <a:ext cx="93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5324400" y="3807000"/>
            <a:ext cx="1997280" cy="459720"/>
            <a:chOff x="5324400" y="3807000"/>
            <a:chExt cx="1997280" cy="459720"/>
          </a:xfrm>
        </p:grpSpPr>
        <p:sp>
          <p:nvSpPr>
            <p:cNvPr id="175" name=""/>
            <p:cNvSpPr/>
            <p:nvPr/>
          </p:nvSpPr>
          <p:spPr>
            <a:xfrm>
              <a:off x="5324400" y="38070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28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857920" y="3807000"/>
              <a:ext cx="146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20 S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5965920" y="5396040"/>
            <a:ext cx="1752120" cy="628200"/>
            <a:chOff x="5965920" y="5396040"/>
            <a:chExt cx="1752120" cy="628200"/>
          </a:xfrm>
        </p:grpSpPr>
        <p:grpSp>
          <p:nvGrpSpPr>
            <p:cNvPr id="178" name=""/>
            <p:cNvGrpSpPr/>
            <p:nvPr/>
          </p:nvGrpSpPr>
          <p:grpSpPr>
            <a:xfrm>
              <a:off x="5965920" y="5396040"/>
              <a:ext cx="1629720" cy="628200"/>
              <a:chOff x="5965920" y="5396040"/>
              <a:chExt cx="1629720" cy="628200"/>
            </a:xfrm>
          </p:grpSpPr>
          <p:sp>
            <p:nvSpPr>
              <p:cNvPr id="179" name=""/>
              <p:cNvSpPr/>
              <p:nvPr/>
            </p:nvSpPr>
            <p:spPr>
              <a:xfrm>
                <a:off x="6742080" y="5567400"/>
                <a:ext cx="85356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965920" y="5396040"/>
                <a:ext cx="1158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30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>
              <a:off x="6483240" y="5396040"/>
              <a:ext cx="12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15 S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426960" y="2079720"/>
            <a:ext cx="5410440" cy="3962160"/>
            <a:chOff x="426960" y="2079720"/>
            <a:chExt cx="5410440" cy="3962160"/>
          </a:xfrm>
        </p:grpSpPr>
        <p:sp>
          <p:nvSpPr>
            <p:cNvPr id="183" name=""/>
            <p:cNvSpPr/>
            <p:nvPr/>
          </p:nvSpPr>
          <p:spPr>
            <a:xfrm flipH="1" flipV="1">
              <a:off x="1645920" y="2536920"/>
              <a:ext cx="3429000" cy="2743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923000" y="5127480"/>
              <a:ext cx="914400" cy="914400"/>
            </a:xfrm>
            <a:prstGeom prst="sun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26960" y="2079720"/>
              <a:ext cx="123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GOA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46520" y="5359320"/>
              <a:ext cx="104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YOU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1874520" y="2612520"/>
            <a:ext cx="6786720" cy="1829160"/>
            <a:chOff x="1874520" y="2612520"/>
            <a:chExt cx="6786720" cy="1829160"/>
          </a:xfrm>
        </p:grpSpPr>
        <p:sp>
          <p:nvSpPr>
            <p:cNvPr id="188" name=""/>
            <p:cNvSpPr/>
            <p:nvPr/>
          </p:nvSpPr>
          <p:spPr>
            <a:xfrm flipH="1" flipV="1">
              <a:off x="1874520" y="2612520"/>
              <a:ext cx="5334120" cy="1219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056360" y="3527280"/>
              <a:ext cx="914400" cy="914400"/>
            </a:xfrm>
            <a:prstGeom prst="sun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253200" y="2943360"/>
              <a:ext cx="2408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YOUR BUDD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ERE I AM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IF THE OTHER GLIDER HAS A BEARING TO A GOAL GREATER THAN YOURS HE’S ON YOUR LEF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IF HE IS CLOSER HE’S AHEAD OF YO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IF HE’S FURTHER, LOOK BEHI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SAME BEARING, SAME DISTANCE – LOOK OUT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THE EYES HAVE IT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819520" y="2133720"/>
            <a:ext cx="3625560" cy="32464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LOOKING OU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HER AIRCRA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OU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ZE DOM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RRAIN FEA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RDS, OTHER GLIDERS, TRA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THE INSTRU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GLIDESLOPE AND STF COMPUTER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2209680" y="1752480"/>
            <a:ext cx="4461120" cy="45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US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SENTIAL FOR FINAL GLI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ACTIC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TTY MUCH ESSENTIAL WHEN RUN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PDA OR DEDICATED INSTRU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THE RADIO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666880" y="1752480"/>
            <a:ext cx="3784680" cy="45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ADIO USAG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UALLY BETTER OFF THAN 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CAMP AN EXCEP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0 MILE RAN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DGE FLY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INS YOUR BATTERY AS IT DRAINS THE PATIENCE OF FELLOW PILO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DIO MASA/RADIO WURTSBORO SQUEEZ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SEAT-OF-THE-PANTS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5426"/>
          <a:stretch/>
        </p:blipFill>
        <p:spPr>
          <a:xfrm>
            <a:off x="2209680" y="1752480"/>
            <a:ext cx="4168800" cy="40719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7086600" y="5638680"/>
            <a:ext cx="1619280" cy="8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AT-OF THE PA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MAL EN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RIO FIL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THE PANEL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8" name="Panel" descr=""/>
          <p:cNvPicPr/>
          <p:nvPr/>
        </p:nvPicPr>
        <p:blipFill>
          <a:blip r:embed="rId1"/>
          <a:srcRect l="5962" t="9570" r="5962" b="2209"/>
          <a:stretch/>
        </p:blipFill>
        <p:spPr>
          <a:xfrm>
            <a:off x="1884240" y="1981080"/>
            <a:ext cx="5375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THE VARIOS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514600" y="1828800"/>
            <a:ext cx="4030560" cy="4092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YP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CTRON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CHANICA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OW SENS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SSURE SENS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XTRAORDINARY SENSITIVIT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752400" y="1865160"/>
            <a:ext cx="7012080" cy="45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.E. MAGIC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LIDER ENERGY IS MV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/2 + MGH (K.E + P.E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GH IS = CONSTANT x STATIC PRESS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V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/2 = CONSTANT x DYNAMIC PRESS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TOTAL ENERGY SOURCE IS STATIC + DYNAMIC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PRICE WE PA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UST SENSITIV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USTS ARE SCALE INVARI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LLS PEEP OVER HILLS, AND ALPS ON ALPS ARIS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OW RESPON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THE VOLTMETER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6462720" cy="4668840"/>
          </a:xfrm>
          <a:prstGeom prst="rect">
            <a:avLst/>
          </a:prstGeom>
          <a:ln w="38160">
            <a:solidFill>
              <a:srgbClr val="3333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ONITOR BATTERY CONDI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% CAPACITY REMAI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ALL HEAL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RLY IN-FLIGHT WAR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339840" y="1093680"/>
            <a:ext cx="7367400" cy="501804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OPEN CIRCUIT V </a:t>
            </a:r>
            <a:r>
              <a:rPr b="0" i="1" lang="en-US" sz="2800" spc="-1" strike="noStrike">
                <a:solidFill>
                  <a:srgbClr val="ffcc66"/>
                </a:solidFill>
                <a:latin typeface="Times New Roman"/>
              </a:rPr>
              <a:t>VS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 REMAINING CHARGE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THE YAW STRING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7" name="Yaw_String" descr=""/>
          <p:cNvPicPr/>
          <p:nvPr/>
        </p:nvPicPr>
        <p:blipFill>
          <a:blip r:embed="rId1"/>
          <a:srcRect l="18115" t="12449" r="15303" b="0"/>
          <a:stretch/>
        </p:blipFill>
        <p:spPr>
          <a:xfrm>
            <a:off x="2438280" y="1981080"/>
            <a:ext cx="4113360" cy="40546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STALL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ALLY ON C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T OF THE W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TACH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THE ALTIMETER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914400" y="1797120"/>
            <a:ext cx="7238880" cy="3897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US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AIGHT FL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RCLING FL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LIPPING AND SKIDD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rcRect l="55855" t="45613" r="7181" b="23007"/>
          <a:stretch/>
        </p:blipFill>
        <p:spPr>
          <a:xfrm>
            <a:off x="1523880" y="1295280"/>
            <a:ext cx="6554880" cy="43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GENERAL CONSIDERATIONS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12 (!) INSTRUMENTS IN MY PANEL, ONE ON THE CANOP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NEED TO UNDERSTAND WHAT THEY ARE TELLING 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NEED TO KEEP EYES OUTSIDE OF COCKP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NEED BATTERIES THAT WORK WITH FUSES AT THE BATTE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NEED AT LEAST ONE BACKUP BATTE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NEED TO MONITOR BATTERY STAT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NEED A SIMPLE AND CLEAR WAY TO SELECT BATTER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NEED TO DEVELOP A SC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PRACTICAL CONSIDERATIONS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2 AWG IS ~0.02 OHMS/F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UB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INYL TAKES A SET AND HARDENS, SILICONE BE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ATTERYNSOURCE IMPEDANCE A FEW MILLIOHMS - MUST HAVE ONE ON EVERY BATTERY!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TEN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PS,  ELT, CO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B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.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APACITI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SUL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CATION AND TUBING LENG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IABATIC COOLING AND HEA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CAN SHARE A T.E SOURCE, BUT NOT A CAPAC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MORE PRACTICAL CONSIDERATION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LT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AT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TTERY SELECT SWIT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DJUSTING SUC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rot="19962600">
            <a:off x="3733560" y="3047760"/>
            <a:ext cx="685800" cy="28954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657600" y="3505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rot="19984200">
            <a:off x="3048120" y="3117600"/>
            <a:ext cx="685800" cy="91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457880" y="2425680"/>
            <a:ext cx="209520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0532"/>
              <a:gd name="adj5" fmla="val 79166"/>
              <a:gd name="adj6" fmla="val -35532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DD LENGTH FOR MORE SUC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98400" y="3898800"/>
            <a:ext cx="2273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MEASURES STATIC PRESS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DISPLAYS ALTITU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USES STANDARD ATMOSPH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REQUIRES A REFER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NUMEROUS ERR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RRO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STANDARD TEMPERATURES OF THE ATMOSPHE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STANDARD ATMOSPHERIC PRESSUR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RCRAFT STATIC PRESSURE SYSTEMS (POSITION ERROR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RUMENT ERROR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ANDARD ATMOSPHER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HYPOTHETICAL VERTICAL DISTRIBUTION OF T, P, AND 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ASSUME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TO BE A PERFECT G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TO OBEY THE HYDROSTATIC EQ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TO CONTAIN NO WATER VAP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ACCELERATION DUE TO GRAVITY     CONSTA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LTITUD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OMETR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D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OPOTENT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SS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NS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4T01:03:13Z</dcterms:created>
  <dc:creator> </dc:creator>
  <dc:description/>
  <dc:language>en-US</dc:language>
  <cp:lastModifiedBy> </cp:lastModifiedBy>
  <dcterms:modified xsi:type="dcterms:W3CDTF">2007-04-02T01:01:49Z</dcterms:modified>
  <cp:revision>30</cp:revision>
  <dc:subject/>
  <dc:title>AIRCRAFT INSTRUMENTS </dc:title>
</cp:coreProperties>
</file>