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C5F0-562D-4389-A60D-C4080EF00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the purpose of the rules we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ypes of tasks do we f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strategies to fly ea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and forem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 circles to sepa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me of these have multiple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gliders apart, reduce gagg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atural result of some tasks/weath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think of everyone on the score 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tigue during long/slow f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 airport landings over field lan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proceeding into bad weather/passing air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r to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luck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hrough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same time, enough of a challenge to separate the field, provide basis for sc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luck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leaching factor – not very challenging way to tie some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pilot selected tasks as a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rybody likes but tests weather assessment, performance est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ly difficult chall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cour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task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wea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determine an overall winner fair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k about scoring at the end, but better than baseball to get an argument g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B60C-5A1B-481F-8236-7BA9441C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5DF8-91C6-48B1-886D-DEABAEC0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DD90-05A2-43F6-97D2-99412EDC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0EA4-6574-45B0-A68C-A4CDD8F4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BEAA1-FFF8-4BEF-A2BB-4BA5E19C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AE0E9-ADB7-4B9D-8539-A00D73DE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4C271-83F0-4049-B206-D2A28B6E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C2DFD-E164-4501-9710-2D4904E6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66BF1-08F8-4AF4-A2C9-CFCE0369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F3886-01B6-454A-B5E4-D6871502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9533E-F711-4C9D-8124-A158C644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9B60-86B8-4475-9D93-A53669CE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210CF-4F43-4032-A80A-CED6C2FD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89E34-17F6-4C79-9508-B83B2831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CC121-AAF3-4B37-83C3-B09BB935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B86C6-650F-49C6-96DB-4FA35175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1156B-D856-4A23-9C89-2B0A852D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1C379-B9B1-4F95-BEA9-64C214AE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BF920-F628-4C60-B517-7A69FB67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01514-FB5C-489B-AFD2-EB6B05B3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95F40-3F6E-4BC8-BE0D-A123F572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E0A5D-7DCA-4F49-B242-299B4E03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18A8-A475-46FC-A9DB-D70B550B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02C68-F1D8-434E-A996-A0B9A1DE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0A9EF-C267-4242-90BD-073D0F18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6E76B-F467-41F8-AAA0-B1B9264A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B1A4B-D7CE-4CF4-BFD6-7F20A07B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06DCB-9D97-409F-995B-9C612AF7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0C8DF-DAD2-4496-9782-442EFB2B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42A0F-3ECC-491D-BD4A-272102EB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C583E1-8CAF-496D-913C-CEC1796D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59DE48-E1C3-4315-BB79-07EF4B1B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1F436F-AFA7-4C30-9EF6-709EEFA7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7E7A-1CA6-4060-9714-A707ED5D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02EA1A-0E35-4B40-A282-082D1561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466E69-1CBD-464F-BFC1-3AD26C98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165669-0A9F-4D1B-B267-98AE793C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7F83DE-2244-49B5-9CFC-9797632F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06AA16-11A8-430E-B452-E2E0B764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E25550-4C26-40D8-9ED1-6F208748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8B8DB2-6963-468E-B3A3-FE156B72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395906-10AD-461B-9154-F2CFEF3C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4A3505-1032-4B3A-8486-81316F5F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9F4B0-011A-4EE0-86CB-1C592212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1DD9-0BFA-4FF8-BF58-9000BABA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A21D8-6808-4CF7-B994-1F342CB3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C6232-6482-488A-968D-0A0251B3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F1E13-1F8E-4E38-9C6B-185FCDEA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340BA-F3E5-4142-906F-97C8654E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05BF6-1893-4039-9649-B921E115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25BD3-FD7A-4B8A-B172-19A32D5E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0B1CB-C066-4758-BC42-50BDB9C9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09D0E-B8C8-4AF8-BFC8-190CD142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A74DA-9A8D-46FB-B48F-02C7FA18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2FDF4-E869-4E3B-B3FC-36300EAA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DDBB-C8DA-4D84-BB8E-A41F0FAE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5E003-306F-43B9-86FA-6DCB81779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9082-00A0-4074-8FFC-738FB89A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C3AA-0089-4F4A-ABA5-F4CEBEE7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2178-0AFE-4392-8BBB-ED8DB0C4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2198-6155-4F0F-8523-B466488DC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E5CC-8885-45D7-B47B-85432B843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8273-2477-4100-A8EF-DEF0F981E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8728-968D-4FAA-876E-B51E2905E7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BAD2-5FD0-46C4-B5DA-4FCBFD41FD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57200" y="533520"/>
            <a:ext cx="815328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ules, Tasks and Task Strate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 Tea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gion 1 Compet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ug Jacob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-609480"/>
            <a:ext cx="8991720" cy="76960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335560" y="4191120"/>
            <a:ext cx="292392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ry MAT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5 hour mi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1 kt avg li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30 m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9.6 mp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ask Types: Modified Assigned Task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all your time!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st know achieved XC speed vs. lif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st think through alternative courses – longer/short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st be upwind for Final Glid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nt Final Glide to be a maximum % of the fligh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stest leg of the day – 2X average spe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lies ideal finish time is right on minim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t don’t get crazy – overtime distance still scored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douts are expensive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w Cloudbase/Long day – less critic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 Cloudbase/Short day – more critic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`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n FG paths of different lengths toward bunched TP’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ume 2 miles/minute on F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-10 minute overtime margins a go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light Computers can help but require practice - don’t get distracted by the electronic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indefinite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indefinite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indefinite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indefinite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indefinite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indefinite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indefinite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indefinite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indefinite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indefinite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indefinite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indefinite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65" dur="indefinite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69" dur="indefinite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73" dur="indefinite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77" dur="indefinite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81" dur="indefinite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85" dur="indefinite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89" dur="indefinite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93" dur="indefinite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97" dur="indefinite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01" dur="indefinite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05" dur="indefinite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09" dur="indefinite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13" dur="indefinite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ask Types: Turn Area Task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igned turn areas, not points – usually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g circles (at least in the US) – 5 to 25 mi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ow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enormous differences in max/min course length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imum Time – no maxim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asic Racing Strategy Variab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nderstand the course geomet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ere are the max/min point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ad for the max, fall back toward the min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y straight li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void the tendency to wander aro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o to the best part of turn are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Critical First Turn Are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n’t limit your options ear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indefinite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indefinite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indefinite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indefinite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indefinite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indefinite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indefinite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indefinite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indefinite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indefinite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indefinite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indefinite"/>
                                        <p:tgtEl>
                                          <p:spTgt spid="2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indefinite"/>
                                        <p:tgtEl>
                                          <p:spTgt spid="2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47" dur="indefinite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51" dur="indefinite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55" dur="indefinite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59" dur="indefinite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63" dur="indefinite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67" dur="indefinite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71" dur="indefinite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75" dur="indefinite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79" dur="indefinite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83" dur="indefinite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87" dur="indefinite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91" dur="indefinite"/>
                                        <p:tgtEl>
                                          <p:spTgt spid="2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95" dur="indefinite"/>
                                        <p:tgtEl>
                                          <p:spTgt spid="2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ask Types: Turn Area Task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Dilemma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st achieve enough distance/burn up enough time to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void coming home undertime, bu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n’t want to stay too long in weak early turn area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ccurate Time/Speed Estimation a mu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rticularly to first are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st know remaining potential course length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nknown conditions in other turn area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as toward going deep into first turn are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gain, want FG %  of flight maximiz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ce FG height attained, DJ rule is 2 miles a minute ho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indefinite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indefinite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indefinite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indefinite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indefinite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indefinite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indefinite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indefinite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indefinite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indefinite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23" dur="indefinite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27" dur="indefinite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31" dur="indefinite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35" dur="indefinite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39" dur="indefinite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43" dur="indefinite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47" dur="indefinite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51" dur="indefinite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55" dur="indefinite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59" dur="indefinite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929200" y="392436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rry A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-228600" y="-533520"/>
            <a:ext cx="9601200" cy="76201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227280" y="3851280"/>
            <a:ext cx="25034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ry A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18/285 mile min/m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5 hour 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.7 kts av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6.6mp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-2057400" y="-1447920"/>
            <a:ext cx="11201400" cy="89614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096800" y="87012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bbs 2006 18M Con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0 mile final l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g speed 114.0 m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. . . Undertim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coring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mary goal is Spe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ed score is proportional, not scal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ery day is 1000 points, unless devalu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aluations for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imum Ti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imum # of Comple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douts always b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 points maximum assuming no devalu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orts Class is handicapped by glider typ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speed consistent days fun but less meaningfu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k weather determines contest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AT’s and MAT’s matter more than AST’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y take? – Go as fast as you can, use all your time, do not land out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indefinite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indefinite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indefinite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indefinite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indefinite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indefinite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indefinite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indefinite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indefinite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indefinite"/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indefinite"/>
                                        <p:tgtEl>
                                          <p:spTgt spid="2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indefinite"/>
                                        <p:tgtEl>
                                          <p:spTgt spid="2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indefinite"/>
                                        <p:tgtEl>
                                          <p:spTgt spid="2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indefinite"/>
                                        <p:tgtEl>
                                          <p:spTgt spid="2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indefinite"/>
                                        <p:tgtEl>
                                          <p:spTgt spid="2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97" dur="indefinite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01" dur="indefinite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05" dur="indefinite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09" dur="indefinite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13" dur="indefinite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17" dur="indefinite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21" dur="indefinite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25" dur="indefinite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29" dur="indefinite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33" dur="indefinite"/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37" dur="indefinite"/>
                                        <p:tgtEl>
                                          <p:spTgt spid="2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41" dur="indefinite"/>
                                        <p:tgtEl>
                                          <p:spTgt spid="2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45" dur="indefinite"/>
                                        <p:tgtEl>
                                          <p:spTgt spid="2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49" dur="indefinite"/>
                                        <p:tgtEl>
                                          <p:spTgt spid="2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53" dur="indefinite"/>
                                        <p:tgtEl>
                                          <p:spTgt spid="2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794400" y="3778200"/>
            <a:ext cx="282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have fu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Tasking Philosophy - Safety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start/finish circ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 height maximu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 speed limit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r can control poi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/AAT ar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lent star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ll aimed at separating gli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5% speed object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ximum cockpit hours before rest d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port landout 25 pt bon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uctive landout poi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sking Philosophy: Fairnes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d3135"/>
                </a:solidFill>
                <a:latin typeface="Times New Roman"/>
              </a:rPr>
              <a:t>20 minute grid to launch ti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d3135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d3135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d3135"/>
                </a:solidFill>
                <a:latin typeface="Times New Roman"/>
              </a:rPr>
              <a:t>15 minute interval before task ope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d3135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d3135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d3135"/>
                </a:solidFill>
                <a:latin typeface="Times New Roman"/>
              </a:rPr>
              <a:t>Rotating grid posi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d3135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d3135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d3135"/>
                </a:solidFill>
                <a:latin typeface="Times New Roman"/>
              </a:rPr>
              <a:t>Start height maximum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d3135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d3135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d3135"/>
                </a:solidFill>
                <a:latin typeface="Times New Roman"/>
              </a:rPr>
              <a:t>Silent star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d3135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d3135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d3135"/>
                </a:solidFill>
                <a:latin typeface="Times New Roman"/>
              </a:rPr>
              <a:t>Handicapp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d3135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d3135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d3135"/>
                </a:solidFill>
                <a:latin typeface="Times New Roman"/>
              </a:rPr>
              <a:t>Equalized Wing loa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indefinite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indefinite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4" dur="indefinite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equately challenging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456840"/>
            <a:ext cx="853416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imum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 miles in Nationals/ 50 Reg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 miles in Sports Nats/40 Reg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imum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hours in Nation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hours in Regionals/1.5 S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`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lot’s Choice of course on MAT/TAT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ther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ed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rability of sc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ed tasks vs. Pilot select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to score weak vs. strong weather day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to score landouts vs. comple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aluation for “luck”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um # of pilots completing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um distance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indefinite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indefinite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indefinite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indefinite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indefinite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indefinite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1" dur="indefinite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5" dur="indefinite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9" dur="indefinite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3" dur="indefinite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7" dur="indefinite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31" dur="indefinite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Read the Rules before every contest!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35812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Times New Roman"/>
              </a:rPr>
              <a:t>Every task is a speed task!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ask Types: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ssigned Speed Task or AS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ditional speed tas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 mile radius turnpoint radi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be O&amp;R, triangle, quadrangle, bow-tie, et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ored for full distance made inside turnpoint radi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ores usually bunched, particularly on good day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Basic Racing Strategy Variabl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rt time – alone or with company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rmal selection/Operating band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urse deviations? – wind considera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ching/marker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wind turnpoints – as low as you d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wnwind – get high going i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nal Glid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now how to FG around corn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indefinite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indefinite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indefinite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indefinite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indefinite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indefinite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indefinite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indefinite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indefinite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indefinite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indefinite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indefinite"/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indefinite"/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indefinite"/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indefinite"/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69" dur="indefinite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73" dur="indefinite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77" dur="indefinite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1" dur="indefinite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5" dur="indefinite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9" dur="indefinite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93" dur="indefinite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97" dur="indefinite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1" dur="indefinite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5" dur="indefinite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9" dur="indefinite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13" dur="indefinite"/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17" dur="indefinite"/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21" dur="indefinite"/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25" dur="indefinite"/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52280" y="-380880"/>
            <a:ext cx="9144000" cy="76197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622840" y="1257480"/>
            <a:ext cx="321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ypical Perry Speed Ta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53 M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0.2 mph av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.1 kts av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9000 ft cloudbas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5 mile FG @ 120m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ask Types: Modified Assigned Task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e or more assigned turnpoi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ually first, sometimes last as wel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ilot’s choice after th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ored for a Minimum Tim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Maximum Tim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Basic Racing Strategy Variabl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 to go? - Best part of sky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eeting a must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ind the maximum energy lines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y  in straight lines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y long legs early, shorter ones lat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ways get a turnpoint in the direction you’re go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now your turnpoint geograph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Groupings are good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ching usually not a factor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indefinite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indefinite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indefinite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indefinite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indefinite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indefinite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indefinite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indefinite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indefinite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indefinite"/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indefinite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indefinite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indefinite"/>
                                        <p:tgtEl>
                                          <p:spTgt spid="2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67" dur="indefinite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71" dur="indefinite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79" dur="indefinite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83" dur="indefinite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87" dur="indefinite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91" dur="indefinite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95" dur="indefinite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99" dur="indefinite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03" dur="indefinite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07" dur="indefinite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11" dur="indefinite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15" dur="indefinite"/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19" dur="indefinite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23" dur="indefinite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27" dur="indefinite"/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31" dur="indefinite"/>
                                        <p:tgtEl>
                                          <p:spTgt spid="2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5:49:04Z</dcterms:created>
  <dc:creator>Douglas Jacobs</dc:creator>
  <dc:description/>
  <dc:language>en-US</dc:language>
  <cp:lastModifiedBy>Jacobs Family</cp:lastModifiedBy>
  <dcterms:modified xsi:type="dcterms:W3CDTF">2008-06-16T11:15:07Z</dcterms:modified>
  <cp:revision>21</cp:revision>
  <dc:subject/>
  <dc:title>Contest Tasking and Rules</dc:title>
</cp:coreProperties>
</file>