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151-C357-42BF-AD56-AD835AF8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32A-C787-4EB8-A835-BB164C69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3FB-D52D-44BF-AB2A-1DBE0C74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BB7-0D29-4D11-BA87-79CF19C9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7829-7ABB-4379-AFD5-19E0D477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0464-F176-45C1-A508-3C4B6E93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37E5-D05B-4607-B9C8-F3C3C8E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BCD6-E33F-46FB-9C5B-121EF548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1BA9-BF91-49F3-BA7F-29CDB79C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093D-4DA5-482E-A6C0-43DDC07F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2163-EF92-4B2A-880B-ED1847BA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248-2C4B-4E6B-AEB2-85B795F9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FB97-D712-48C4-B977-582FA4D2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3752-C8E7-4768-8728-F0D5FFF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E1CB-173C-45AE-87D0-567D3E75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446A-F70A-4FA2-8981-25E6991E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BB68-8F29-4D15-B4AA-B6045DFB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DDF-8C97-4664-B72E-263E581A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FD5-B854-48BC-A1AF-87791980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167-FD1A-4B6D-8635-ED4B9612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FA5-3B4F-456F-B0F7-03B5D2AE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786-64F8-49AE-8898-46E1840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DFB-405B-488C-9454-3ED01050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E21-E0C4-4638-85D9-BCF1BC79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0A07-D398-4BD3-9DCD-35D2E7B57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054-AABF-45D1-BD3F-3662B49E5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IRCRAFT INSTRUMEN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2005 PGC CROSS COUNTRY C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ARD KELLERMAN (Q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66"/>
                </a:solidFill>
                <a:latin typeface="Arial"/>
              </a:rPr>
              <a:t>WHAT YOU SEE IS NOT WHAT YOU GE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2860560" cy="1855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TIMETER SET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PARKED GLID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NE:  SET KOLLSMAN = 1013.2 hPa (29.92 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WS PRESSURE ALT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FE: SET KOLLSMAN = STATION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WS ZERO IN STANDARD ATMO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NH:  SET KOLLSMAN = BAROMETRIC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WS FIELD ELEVATION IN STANDARD ATMO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EA BREEZ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HE SAY SEA BREEZ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 – IF YOU UNDERSTAND THE SEA BREEZE YOU WILL UNDERSTAND PRESSURE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EA BREEZE, WRONG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3185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EA BREEZE, R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1172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IR ALOFT FLOWS OFFSHO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120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LOCAL HIGHS AND LOWS SET UP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0120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TIMETERS AND GLID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ERRAIN CL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200 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QNH NOT Q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ROSS COUNTRY 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RID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NAL GLIDE CALC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GLIDE CONSIDER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MENT ERRORS CAN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 CHANGES ONE INCH = 1,000 FT CAN BE +/- 200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STANDARD LAPSE RATE – DEVIATIONS GENERALLY POSITIVE 100 – 300 FT AT 5,000 FT AND 300 – 900 AT 15,000 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AS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5" name="ASI" descr=""/>
          <p:cNvPicPr/>
          <p:nvPr/>
        </p:nvPicPr>
        <p:blipFill>
          <a:blip r:embed="rId1"/>
          <a:srcRect l="34990" t="9445" r="22841" b="32065"/>
          <a:stretch/>
        </p:blipFill>
        <p:spPr>
          <a:xfrm>
            <a:off x="2665440" y="2057400"/>
            <a:ext cx="3429000" cy="3736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T MEAS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stag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P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ρV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521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TICK AND RUDDER”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IRCRAFT DON’T BEHAVE THE WAY PILOT’S THINK THEY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EITHER DO INSTR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T SHOW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ASI" descr=""/>
          <p:cNvPicPr/>
          <p:nvPr/>
        </p:nvPicPr>
        <p:blipFill>
          <a:blip r:embed="rId1"/>
          <a:srcRect l="34990" t="9445" r="22841" b="32065"/>
          <a:stretch/>
        </p:blipFill>
        <p:spPr>
          <a:xfrm>
            <a:off x="2665440" y="2057400"/>
            <a:ext cx="3429000" cy="3736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“INDICATED AIRSPEED”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 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RODYNAMIC FORCES ALSO DEPEND 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QUADRATIC IN V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AS AND TAS FOR A 747 AT 40,000 F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SI’s AND GLID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WESTERN FL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NAL GL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ROSS COUNTRY ENERGY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CLOCK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710" t="9051" r="6605" b="13166"/>
          <a:stretch/>
        </p:blipFill>
        <p:spPr>
          <a:xfrm>
            <a:off x="1828800" y="2209680"/>
            <a:ext cx="5329080" cy="3235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A CLOCK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ING TIME CONTROLLED TA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DOWN START TIME, THEN FINIS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TING 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LY REMINDER THAT WHEN THERMALLING VMG IS ~ Z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WHERE YOUR GPS CLOCK H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OMPA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4448" b="4020"/>
          <a:stretch/>
        </p:blipFill>
        <p:spPr>
          <a:xfrm>
            <a:off x="2286000" y="1752480"/>
            <a:ext cx="4341960" cy="441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OXING THE COMPA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90920" y="1719360"/>
            <a:ext cx="3903480" cy="4300560"/>
            <a:chOff x="2590920" y="1719360"/>
            <a:chExt cx="3903480" cy="430056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2590920" y="1719360"/>
              <a:ext cx="3903480" cy="43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2590920" y="1719360"/>
              <a:ext cx="3903480" cy="430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969696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WINGING THE COMPA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FIND A R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IENT N, NOTE 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IENT S, ADJUST 50% OF 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PEAT TO CONSTANT 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PEAT FOR E/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THE COMPA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PS IS SIMPLY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LESS EXCEPT IN UNACCELERATED F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CC USEFUL FOR SITUATIONAL AWAR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NG OTHER GL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RE ARE YOU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03480" y="2251080"/>
            <a:ext cx="93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9880" y="5527800"/>
            <a:ext cx="8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38080" y="2286000"/>
            <a:ext cx="8001000" cy="3962520"/>
            <a:chOff x="838080" y="2286000"/>
            <a:chExt cx="8001000" cy="3962520"/>
          </a:xfrm>
        </p:grpSpPr>
        <p:sp>
          <p:nvSpPr>
            <p:cNvPr id="153" name=""/>
            <p:cNvSpPr/>
            <p:nvPr/>
          </p:nvSpPr>
          <p:spPr>
            <a:xfrm flipH="1" flipV="1">
              <a:off x="2057040" y="2743200"/>
              <a:ext cx="342900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2285640" y="2819520"/>
              <a:ext cx="533412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4120" y="5334120"/>
              <a:ext cx="914400" cy="914400"/>
            </a:xfrm>
            <a:prstGeom prst="su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7480" y="3733920"/>
              <a:ext cx="914400" cy="914400"/>
            </a:xfrm>
            <a:prstGeom prst="su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8080" y="228600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O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24480" y="5562720"/>
              <a:ext cx="11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464832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20 S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2160" y="556272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15 S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9480" y="5638680"/>
              <a:ext cx="16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LIDER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47080" y="3200400"/>
              <a:ext cx="16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LIDER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THEY SAY AND WHAT THEY 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WHAT IT SAYS IT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LTIMETER: H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SI: SP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MPASS:DIR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VARIO: RATE-OF-CLI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AT IT DOES ME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TATIC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TOTAL – STATIC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LOCAL MAGNETIC V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GLIDER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RE I AM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F THE OTHER GLIDER HAS A BEARING TO A GOAL GREATER THAN YOURS HE’S ON YOUR LE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F HE IS CLOSER HE’S AHEAD OF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F HE’S FURTHER, LOOK BEH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AME BEARING, SAME DISTANCE – LOOK OU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EYES HAVE I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625560" cy="3246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OKING O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AIR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ZE D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RAIN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RDS, OTHER GLIDERS, T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INSTR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LIDESLOPE AND STF COMPUTE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4611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SENTIAL FOR FINAL GL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TY MUCH ESSENTIAL WHEN RU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DA OR DEDICATED INSTR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RADI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846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ADIO US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BETTER OFF THAN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MP AN 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 MILE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DGE FL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INS YOUR BATTERY AS IT DRAINS THE PATIENCE OF FELLOW PI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MASA/RADIO WURTSBORO SQUEE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EAT-OF-THE-PAN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5426"/>
          <a:stretch/>
        </p:blipFill>
        <p:spPr>
          <a:xfrm>
            <a:off x="2209680" y="1752480"/>
            <a:ext cx="4168800" cy="407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086600" y="5638680"/>
            <a:ext cx="161928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AT-OF THE PA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O FIL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VARI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030560" cy="409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PANE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7" name="Panel" descr=""/>
          <p:cNvPicPr/>
          <p:nvPr/>
        </p:nvPicPr>
        <p:blipFill>
          <a:blip r:embed="rId1"/>
          <a:srcRect l="5962" t="9570" r="5962" b="2209"/>
          <a:stretch/>
        </p:blipFill>
        <p:spPr>
          <a:xfrm>
            <a:off x="1884240" y="1981080"/>
            <a:ext cx="537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 SEN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 SEN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TRAORDINARY SENSITIV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01208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.E. MAG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IDER ENERGY IS MV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2 + MGH (K.E + P.E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H IS = CONSTANT x STATIC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V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2 = CONSTANT x DYNAMIC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TAL ENERGY SOURCE IS STATIC + DYNAMIC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RICE WE P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ST SENSI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STS ARE SCALE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LLS PEEP OVER HILLS, AND ALPS ON ALPS ARI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VOLTMETE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62720" cy="466884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NITOR BATTERY COND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CAPACITY REM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 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IN-FLIGHT W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2b2b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67400" cy="5018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EN CIRCUIT V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REMAINING CHARG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YAW STR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3" name="Yaw_String" descr=""/>
          <p:cNvPicPr/>
          <p:nvPr/>
        </p:nvPicPr>
        <p:blipFill>
          <a:blip r:embed="rId1"/>
          <a:srcRect l="18115" t="12449" r="15303" b="0"/>
          <a:stretch/>
        </p:blipFill>
        <p:spPr>
          <a:xfrm>
            <a:off x="2438280" y="1981080"/>
            <a:ext cx="4113360" cy="4054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LLY ON C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 OF THE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F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RCLING F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HE ALTIMETE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23888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1619280" cy="876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LIPPING AND SKIDD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55855" t="45613" r="7181" b="23007"/>
          <a:stretch/>
        </p:blipFill>
        <p:spPr>
          <a:xfrm>
            <a:off x="1523880" y="1295280"/>
            <a:ext cx="655488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GENERAL CONSIDER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2 (!) INSTRUMENTS IN MY PANEL, ONE ON THE CANO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TO UNDERSTAND WHAT THEY ARE TELLING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TO KEEP EYES OUTSIDE OF COCKP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BATTERIES THAT WORK WITH FUSES AT THE BATT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AT LEAST ONE BACKUP BATT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TO MONITOR BATTERY ST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A SIMPLE AND CLEAR WAY TO SELECT BATT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TO DEVELOP A S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ACTICAL CONSIDER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2 AWG IS ~0.02 OHMS/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B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NYL TAKES A SET AND HARDENS, SILICONE B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ERYNSOURCE IMPEDANCE A FEW MILLIOHMS - MUST HAVE ONE ON EVERY BATTERY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N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PS,  ELT, 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.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PAC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ION AND TUBING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IABATIC COOLING AND HE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SHARE A T.E SOURCE, BUT NOT A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ORE PRACTICAL CONSIDERATION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A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ERY SELECT SWI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JUSTING S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9962600">
            <a:off x="3733560" y="3047760"/>
            <a:ext cx="685800" cy="2895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9984200">
            <a:off x="3048120" y="3117600"/>
            <a:ext cx="685800" cy="9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57880" y="2425680"/>
            <a:ext cx="20952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0532"/>
              <a:gd name="adj5" fmla="val 79166"/>
              <a:gd name="adj6" fmla="val -3553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LENGTH FOR MORE S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8400" y="3898800"/>
            <a:ext cx="227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EASURES STATIC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ISPLAYS ALTI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USES STANDARD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QUIRES A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UMEROUS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RR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STANDARD TEMPERATURES OF THE ATMOSP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STANDARD ATMOSPHERIC PRESS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CRAFT STATIC PRESSURE SYSTEMS (POSITION ERROR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MENT ERR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NDARD ATMOSPHE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HYPOTHETICAL VERTICAL DISTRIBUTION OF T, P, AND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SSUM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O BE A PERFECT 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O OBEY THE HYDROSTATIC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O CONTAIN NO WATER VA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CCELERATION DUE TO GRAVITY    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TITU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POTE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1:03:13Z</dcterms:created>
  <dc:creator> </dc:creator>
  <dc:description/>
  <dc:language>en-US</dc:language>
  <cp:lastModifiedBy>Jacobs Family</cp:lastModifiedBy>
  <dcterms:modified xsi:type="dcterms:W3CDTF">2005-06-04T15:04:23Z</dcterms:modified>
  <cp:revision>24</cp:revision>
  <dc:subject/>
  <dc:title>AIRCRAFT INSTRU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9914122</vt:r8>
  </property>
  <property fmtid="{D5CDD505-2E9C-101B-9397-08002B2CF9AE}" pid="3" name="_AuthorEmail">
    <vt:lpwstr>rkellerman@nkhome.com</vt:lpwstr>
  </property>
  <property fmtid="{D5CDD505-2E9C-101B-9397-08002B2CF9AE}" pid="4" name="_AuthorEmailDisplayName">
    <vt:lpwstr>Richard Kellerman</vt:lpwstr>
  </property>
  <property fmtid="{D5CDD505-2E9C-101B-9397-08002B2CF9AE}" pid="5" name="_EmailSubject">
    <vt:lpwstr>instruments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