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1858-89CF-49F7-BAD1-C734467B9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 Flying is great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o flat land flying as gliding is to power flying – a whole new and rich dim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requires more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a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r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C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Von Kalkreuth – Segglen uber den Al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 soaring requires complete confidence in controlled, tight circling close to ter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Circles in ther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 Ridge Fl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s narrow at the peaks, wider at al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flatland thermal circling won’t keep you in the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feel comfortable with 18 second full circles – up to 45 degre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ter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direction circles must be equally smooth and contro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quires practice!!!! – Go out and practice regul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s with these skills will have considerably higher climb rates and cross country sp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n around terrain br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 patterns disru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have sink wirb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upwind for obstructions producing disturbed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out for this scene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 Ridges (“front” versus main ri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 high speed mountain XC never includes ridge soaring – always thermalling in lift above the 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eak chain, follow the cu’s above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 off the ri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dges in the Alps, New Zealand and Vermont are just not continuous en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in’t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safer and faster hig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means weak lift must be taken for tactical reasons – must get up into the good lift zone at all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valley’s never work in high mountains, rarely work in Vermont except for the widest, broadest vall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cross ridges, plan on jumping from peak to pe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leys generally not work or be w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n to hit next peak no lower than peak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ke weaker lift/fly slower  - a good trade-of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ringfield to Ru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ckbridge to Rut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ast-west courses gener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viously, ridge lines can be used – right side of sl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is not really ridge flying PA sty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thermal ridging – that’s where the lift breaks, particularly on the sunward 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 to 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ast ridge to Stow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ts talk about ridge fly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ic PA flying is low – 800-2000 feet above valley terr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nuous ridges but gaps to be cross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st lift at ridgeline and wind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vy glider, fast flying, and turbulent ride is fas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little too easy, really, but for the gaps and when the kid gets to ask “Wind quit on you Mister?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mont not like th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dges not continu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that well alig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easant for short bursts – east ridge to Stockbrid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ter for coming home to the bush than going out on course – going to be low and land any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bound can be fast for short stretches -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 where do you go from there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no thermal just where you want it, no search radi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wever, fly the ridge lines but higher, in the thermal zone for best lift/maximum energy p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y along ridge looking for lift, not straight in to i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wave spots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t 100 – Sugarbush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we toward Mt. Mans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dams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Washington down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well connected to each other except for N-S Mad river valley r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 not that strong versus increase in headwinds/decrease in cross country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bing in rotor requires very tight circles, strong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wave tasks need to be planned around known wav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r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by understanding the daily cycle in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warms perpendicular surfaces most – important to remember all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with E facing slopes – above valley inv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lly moves up the sky involving more of the fl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starts to dissolve the valley inversion formed the previous ev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– sun facing peaks work first, even before the vall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Angle critical – keep being awar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Angle critical – most perpendicular slope is where the lif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ggerated view of the daily cycle – applicable to high mountain soaring but useful even in V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with East facing peaks beginning to warm with inversion in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mid-day, valley comes to life as wind starts to blow up valley  - anabatic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noon sun warms the western peaks more, best lift area shifts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afternoon mountains start to cool – catabatic winds begin down the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produce gentle area of lift in mid-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untain Therm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y so much stronger than valleys or flatland?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act with the surface for longer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ir transparent to sunsh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ound warms air directly above 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rmal begi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T – in mountains thermals generally climb up the slopes – especially if aided by wi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inues to warm the thermal air mo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aks are in cleaner air: more radiation gets throug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untain surface – albedo – also plays a role in mountains which are above the tree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VT, mostly this is about deciduous vs fir trees – fir better thermal genera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 reaches grou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rk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ss transpi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edles retain heat better than leav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ft better in spring before leaves come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 message: Mountain thermals produce stronger lift as they climb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 that lift is weak low, strong high – important implic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 also that the area of lift is narrow low, still narrow at the peak when the thermal breaks free, and onl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creases in diameter with height above the pe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view showing continually warmed ther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reaks where the mountain chang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ause premature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cause turbulent flow until climb reesta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u’s form over the 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cation – thermals at the peak height are very small, narrow and power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irection also 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ind and sun from same direction, lift is augm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wind increases with al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ds to hold the thermal on the slope for a long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higher wind speeds/lift strength ratios, cu forms well down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TW, wind direction in the mountains not always ob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rling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se the higher the mountains and higher the wind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in VT to some ex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don’t always assume the prevailing or computer calculated wind is right at your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checking drift, leaf b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opposite to the direction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s form on the lee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fighting the dynamic wind which is downslope at the trigger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turbulent lift that is hard to c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bing efficiently – very different at different altit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long look at this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on the mountain means s-turns – lift band too n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d climb pretty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 mountain break may allow an opportunity to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 all the way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ghtly stro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anteed to raise your heartb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ing into the mountain half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really circle until you get to the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 becomes more “roun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size progressively increases with al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bank angle to stay centered dec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time “contact” fly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comfortable/good at th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ain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and safe but slow climbing f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assured circling in tight lift close to the 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say “Dominate the mountain!”  If you’re not above the peak, go find a smaller mountain to cli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 above the peaks for fast cross-country fl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the peaks show only 1/3 to ½ the climb rate of the space abo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125-6C7D-4563-B5F4-D78B7C52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B1E9-39C6-48E2-869C-11472E36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6089-6AD9-48A1-99EE-5A3EAB81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527-D8A3-4CE8-ADFE-D057F5C6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9A0-84B3-4582-BF64-974712FD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3F1-62C3-4E0C-A969-0B512443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23FA-98B8-4111-A05C-8F2A5E12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3B1E-6729-4DCC-B862-3F66CF2D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A69-48EF-4DE1-B661-83E93CF0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88AC-2EA3-4B7B-BA6C-A6454F5A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3776-88E3-4772-AA4E-0C3FBDF2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389E-E1AF-4531-B6C7-3BE93FBF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DEEB-D819-4F85-8B80-F8A1E0AA6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ain Fly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’re in for a trea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bush XC/Racing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802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11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620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27000"/>
            <a:ext cx="806148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2935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79320" y="4202280"/>
            <a:ext cx="6141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 is good above the pea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r – more terrain clea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fields in r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lower climb rates to stay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time being pinned down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550360" cy="5327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706640" y="316080"/>
            <a:ext cx="31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se aligns with Ri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280" y="239760"/>
            <a:ext cx="37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se perpendicular to Ri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2640" cy="585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655280" y="849240"/>
            <a:ext cx="532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 Flying is great for f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rarely a factor in competitio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82840" y="304920"/>
            <a:ext cx="2703600" cy="6553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94000" y="1001880"/>
            <a:ext cx="201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ily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447840"/>
            <a:ext cx="8853480" cy="6289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2600" y="87480"/>
            <a:ext cx="507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ily Cycle over the Course of the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939080" cy="6865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14600" y="0"/>
            <a:ext cx="275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Lift Deve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Thermal Clim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l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66760"/>
            <a:ext cx="9144000" cy="6448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45200" y="468360"/>
            <a:ext cx="294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ffect of the Slope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 Can V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040680" cy="4967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63840" y="163440"/>
            <a:ext cx="563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/Sun Direction can help – Luv Thermal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27000"/>
            <a:ext cx="8153280" cy="6831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47240" y="1535040"/>
            <a:ext cx="308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hinder – Lee Ther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1800" y="304920"/>
            <a:ext cx="3435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what’s it all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ain Soaring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b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7086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7070760" cy="6821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488760" y="392040"/>
            <a:ext cx="296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ght, Controlled Circ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13:20:04Z</dcterms:created>
  <dc:creator>Jacobs Family</dc:creator>
  <dc:description/>
  <dc:language>en-US</dc:language>
  <cp:lastModifiedBy>Douglas Jacobs</cp:lastModifiedBy>
  <dcterms:modified xsi:type="dcterms:W3CDTF">2004-06-06T18:42:11Z</dcterms:modified>
  <cp:revision>6</cp:revision>
  <dc:subject/>
  <dc:title>Mountain Flying </dc:title>
</cp:coreProperties>
</file>