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BEA-E989-4AE0-896B-B2877EB8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FBC-AD04-4D1A-9E14-EDDC681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55E-C823-43A6-BE9B-0E3E1491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F11-9E4C-453F-8AA1-282CD327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3F15-3344-4024-9574-09A7C079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9B8-939A-47B7-9F08-D073AA7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CD4-1303-4D96-9F7E-32C2EA5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80DF-719A-40F6-8B42-6FF2496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942B-E88A-4260-8E3E-A79F716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C781-8451-4F59-890F-3F404B7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8C3-5D88-47BA-A7C5-6DF5C06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B0-F6C8-4491-A1A1-BBA2075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C78F-3174-4EA3-843F-06AB8FE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F30A-56E4-4210-BA08-D1FC0D6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A276-4402-46EF-BA04-8727271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C0A0-00EB-4130-859B-77B6B03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3AB-5569-4FDB-A43F-AFD84B5E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428-E856-486B-8351-02724FD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02D-50BF-4BCC-9EB0-4DEC9A87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426-D88F-4234-B07D-E2FD45C0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B9D-1590-432D-94AD-F0861A03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A4D-73C1-413A-B42F-403D874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BA8-BF95-417D-B0B3-7313FBB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298-A74B-45D6-9017-63983C2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BA6-7EDA-4316-82FF-93406AAE75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C58F-3016-4C61-A708-A1F00A2A9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utlanding Procedure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reparation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a buddy (or tw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 your cell phone in the cockp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the phone number list in the cockp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s in your vehicle – don’t hid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ler ready to leave – everything a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f landing out . . 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 call to mentor with approximate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 call to buddy(ies) with the same in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note down that group’s frequ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no joy, try a tow plane on 123.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the radio and land saf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first three are optional and only if you have time, the last mandator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ce on the 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e the gl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 status to mentor/bud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cell phone numbers of bud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have to wait until the end of their f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try others on the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hangar phone if unable to conn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ce together with retriev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your mentor to report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unable to get through, call 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unable to get through call han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a last resort, call Al Tyler’s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27:25Z</dcterms:created>
  <dc:creator>Douglas Jacobs</dc:creator>
  <dc:description/>
  <dc:language>en-US</dc:language>
  <cp:lastModifiedBy>Douglas Jacobs</cp:lastModifiedBy>
  <dcterms:modified xsi:type="dcterms:W3CDTF">2007-02-28T17:33:43Z</dcterms:modified>
  <cp:revision>2</cp:revision>
  <dc:subject/>
  <dc:title>Outlanding Procedure</dc:title>
</cp:coreProperties>
</file>