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18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1729-9864-400B-BE60-2CE73C11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rienced pilots do a mixture of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encountering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 into a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itting the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y away from the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onstant hypotheses about where the cor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 emphasis on speed/bank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UP – amazing number of pilots do not look where it would be most advantageous to look in a thermal – straight up – that’s where cloud and wisp development will tell you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ling is hard work – don’t distract yourself with radio calls, map reading, pee bags and th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n Wills quote “If you can make a radio call and thermal at the same time, you haven’t optimized the th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low is a fact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c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with lift and wait for it to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ve full command of the glider and practice makes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glass gliders WILL spin, contrary to popular notions.  Try this in yours – well away from everyone – you’ll be surprised.  But then you’ll recognize and be able to a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a student of 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cloud cycle from the ground before you take off, from climbing before you start your task, get mental image of start-middle-end of clou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– pilots I ride with just don’t see as much as I think they should – lots of clues are mi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y the heading you want to fly, fly straight lines, else the lift will push you around through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thing you can do to improve XC and racing speed is to climb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thermal models are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ower, bigger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middle, weaker or sink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strength at all al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/narrow 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st in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zzle out before cloud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recognize life cycle of the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istinguish by cloud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trigger point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don’t know how small a therm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 pretends he’s a v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“beep, beep, beep” like an audio in lift for 10 seconds, which is a long time, class starts to la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? – see, thermals aren’t that big – they’re l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to stay in, must make circle little to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 critical in doing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2895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38095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ing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y chart, but key ins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how much bigger circle is between 20 and 30 degrees of bank – 50% or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not so much bigger between 30 and 4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how much bigger circle is between 50 and 60 knots (on the 30 degree curve, worse on the 20 degree cur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no so much bigger on the 40 or 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bank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 – bank angle and speed critical to staying in the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bank and speed angle changes (perhaps unnoticed by pilot) make big difference in whether you stay in the thermal or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experience pilots don’t recognize this, let bank angle and speed vary too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various center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s vary to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a pretty mechanic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a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 in the “flying straight” portion to what we just learned about thermal size – easy to lose the whole thing while flying straight, if you must, do it for only a very short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224-67B4-4429-B1F8-E34B7DDB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6CC-D7C0-4A42-915F-4994545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7D5-6B58-40F4-AD8C-192A743F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127-8B29-4B51-AEB9-0518B9A6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542-EFEF-4B2C-80EC-70AA334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DA1-E23A-4066-BD73-E9E0BA3C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549-8CDB-497C-B3A2-D1C72FA4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542-203D-4CE6-A9ED-00AA2C3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079-D418-43FB-9D31-1B144609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35A-C45E-4AD9-8981-C422C84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F8F-2578-4AC4-AB71-0FDA2A4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2D9-CD69-4BA8-BEA4-2A9263D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28C0-81C9-4D73-8F76-4D75DBB8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2880" y="4724280"/>
            <a:ext cx="41911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Team/Perry XC/Racing 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Jac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678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Angle Change Metho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ghter in Lift/Open in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don’t know where the cor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pen in Lift/Tighter in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know where the cor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39900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934320" y="4191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Problem for lower time pilots is flying past the lift, racking up in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30556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o dwell on while you the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o the center quickly and stay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use to fly through the same sink t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to adjust the circle continu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speed/bank angle yourself – don’t let the thermal do 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you - Attitude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out the window for c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– emerging wisps, new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– birds, gliders, deb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– birds, gliders, dust devils, swirl patterns on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y off th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hard enough as it is, and we haven’t even got to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making on where to g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762120"/>
            <a:ext cx="74833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ling 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saves are a fact of so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n ridge f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icult much below 1000 feet – and that’s for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very narrow with sharp boundaries between sink and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very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dangerous as hell with any wi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38480" y="3124080"/>
            <a:ext cx="5105520" cy="340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124080"/>
            <a:ext cx="344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ve a field pi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dd a bit mor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ect to be in and out of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 for overall average positive c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ay with what you got – it’ll probably get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mall circle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04920"/>
            <a:ext cx="8001000" cy="67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ct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s usual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s perf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at least sa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ely practice the following at the end of the day with any excess altitude (well above pattern, of course, and after clearing turn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Second Cir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5 kn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5 degree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/Exit/Chang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id Adherence to constant speed/bank 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aw string in the middle – no “speed brak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constantly change required in rudder position for bank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ost pilots </a:t>
            </a:r>
            <a:r>
              <a:rPr b="0" i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unde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rudder when they increase bank and </a:t>
            </a:r>
            <a:r>
              <a:rPr b="0" i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ve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rudder when they reduce ban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t to Know your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’s easy to spin from a tight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harp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Lots of rudder, left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pposite aileron to hold the bank constant, nose starts to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levator to pull the nos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Look out bel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2711160" cy="556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7680" y="420840"/>
            <a:ext cx="35208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Entry/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from the side, don’t aim for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 your bank to fit yourself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in the same direction of the first sailplan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just above or just below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cutting across the nose of a slow cli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bomb through the center upon leaving, no matter what XX s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32480" y="838080"/>
            <a:ext cx="2711520" cy="386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2400" y="344520"/>
            <a:ext cx="709056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r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 is where you find it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can improve your chances quite a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/cloud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direction,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r to that clou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until it fizz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rs - use your ey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st/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su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/ground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ge 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get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b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mental profile of the 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feel for lift on your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765520" cy="337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22800" y="6035760"/>
            <a:ext cx="24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on’t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7320" y="496800"/>
            <a:ext cx="6629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Observations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rmals I’v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ng lift goes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interthermal distances ar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don’t get l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ak lift goes only to moderate al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ends to be more generously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mal strength varies quite a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ut of five ar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the weak ones except in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’s an optimal XC height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2/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s of the convection band is work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1/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the fas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52280"/>
            <a:ext cx="7286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cover such basic stu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able Goals for Course Particip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ver/Gold/Diamond Ba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or’s Cup Di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Guys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TA Ra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XC flight is a r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vs. day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chieve reasonable speeds – 50mph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longer di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ritical element in achieving XC spee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b rate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lets review the basics on how to climb as fas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957400" cy="352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797200" cy="453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2895840" cy="263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9560" y="34452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a therma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2560" y="344016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88760" y="161136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88620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ngth Variation  -Strong in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eaker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ink surro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6120" y="1219320"/>
            <a:ext cx="259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Narrow at th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Broader at al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Churning in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19040" y="1373040"/>
            <a:ext cx="6505920" cy="411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2240" y="268200"/>
            <a:ext cx="66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s are cycl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changes dramatically over it’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2680" y="571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e need for a triggering point – good to know when searching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9360" y="649440"/>
            <a:ext cx="399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how wide is a ther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F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F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 F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0 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1360" y="4191120"/>
            <a:ext cx="728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mentally measur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der going 60 kts travels approximately 100 f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fly through some lift going 60 k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240516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4880" y="573120"/>
            <a:ext cx="7870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rmals are LITTLE!    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ally in the 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 few hundred feet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is the circle you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dern glass ship, at normal thermalling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degrees of bank = 1000 foot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degrees = 600 foot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 degrees = 500 foot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minimum = 450 foot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wks, eagles, and 1-26’s do much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" y="5562720"/>
            <a:ext cx="88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’s a web site with a radius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oarcsa.org/thinking_pages/soaring/turn_radius/turn_rad_kno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344520"/>
            <a:ext cx="7262640" cy="651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48800" y="115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Radius Versus Bank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75120" y="384120"/>
            <a:ext cx="865584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– thing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Bank Angle Variations change the size of the circle a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Speed Variations change the size of the circle a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mall bank angles, small bank changes move the circle a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high bank angles, must make more noticeable bank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ove the circle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the heck is this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XC pilots tend to fly too flat a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let their bank angle w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let their speed w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t Perry Camp Gradu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4680" y="5345280"/>
            <a:ext cx="320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Thermalling, F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3159000" cy="278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77160" y="344520"/>
            <a:ext cx="74973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Center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/Worst Head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n bank angle momentarily 270 degrees from best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en out 90 degrees after worst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54760" y="2209680"/>
            <a:ext cx="3670200" cy="4303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2240" y="2971800"/>
            <a:ext cx="344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 Lags – what’s the best/worst heading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st Effects – can’t tell gusts from true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ying straight is high risk – can fly out of thermal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3:19:06Z</dcterms:created>
  <dc:creator>Douglas Jacobs</dc:creator>
  <dc:description/>
  <dc:language>en-US</dc:language>
  <cp:lastModifiedBy>Douglas Jacobs</cp:lastModifiedBy>
  <dcterms:modified xsi:type="dcterms:W3CDTF">2007-03-31T15:33:55Z</dcterms:modified>
  <cp:revision>26</cp:revision>
  <dc:subject/>
  <dc:title>Climbing</dc:title>
</cp:coreProperties>
</file>