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9759-A6C8-4560-A8E3-A40F82596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W-12 experimental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curves for different  inter-thermal rising or sinking air rates for standard class gl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shifts L, sink shifts 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urves suggest muc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You L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’s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lications of these papers in our evolving use of MacCready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 Polish pilots began “best speeds’ curves—lost in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8 Karl Nickel published tangential constr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8 Macready published speed ring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1E6-DF85-4FC5-84A8-EE9C864E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548-421E-4642-AEAF-E449A9F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266-0B5A-40BB-B50C-56270153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69D-8071-408B-9B93-1C1C87D7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8BAE-E7DB-4D6C-84EF-F13D4A84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9DED-7313-47CA-95D9-72C013AE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5B74-6BD6-44C8-81D8-4997C88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918B-A07D-406B-85E6-D103547D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53C3-7BA0-48B7-A5A4-26DDB461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240A-0537-4B6A-8923-BF1A4F4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3FB-5217-4E2E-A10C-5CD02BC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160-6F47-4D34-8458-702FEF59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AA8E-57F1-4138-AA0A-6DEFA14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2B4B-9C5E-4C31-93FE-11F65AE7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261E-AC43-49CD-8A2E-E8EB6F2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2739-37C6-4E32-BF79-3CE2D9BE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5BC-976D-4F45-BE47-DFFCA361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882-AC38-4E40-BD0F-E2FFE56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4C7-30B4-4BAE-B9A7-1DD1EDEC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F77-54D5-4E3D-B5E5-F8711A4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9B7-6E13-4788-B6C0-5A79CA29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1D5-0C07-4BBE-822C-91418D1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D65-F16C-4E98-958E-AB7CE1F8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4BC-75CC-4795-9489-3FF9FC8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8B13-4682-4D2B-AD0E-D8B45FFFB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740-49C3-4618-9222-435F2FABE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sc.org/XCountry/Cross-CountryB0202.pdf" TargetMode="Externa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UISING FOR SPE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S FOR EFFICIENT INTERTHERMAL SO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INCIPLE OF OPTIMIZ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OBLEMS WITH MACREA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know next climb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b rate varies with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know sink between thermals– varies consta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 Schuemann- renaissance soaring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energy compensation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bal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g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 plan-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al paper on modified MacCready f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aring symposia—1972– see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Price You Pay For Macready Speeds </a:t>
            </a:r>
            <a:br>
              <a:rPr sz="40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by Wil Schueman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458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ise speed vs. Ave. x/c 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difference +/- 8-10 kn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difference at best L/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on range – does  slower speed increase range? Yes with respect to airmass-  more range, larger chance to find special the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10480" cy="576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ractical problems with Macready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ext thermal strength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sing the needle– may do more damage than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acts from oth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variations 8-10 knots from ideal Macready minimal impact on ave. x/c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ing in sink gains li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gained with s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ed adherence would give slightly higher spee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uemann’s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erate speed with little variation costs very little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MacCready intensity yields more time to think!!! And look out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range may improve thermal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er flight makes air easier to ass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ohn Cochr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D economics, U. of Chicago dept. 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successful competition pi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contributor to Soaring magaz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ISING = 60%-80% OF F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EADY STILL RULES – BUT 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ust A Little Faster Please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ohn Cochra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and modern MacCready theory-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Cready still key to in-flight spee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Cready determines cruise speed--- the mathematical solution is still 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t what is the correct MacCready valu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ichmann’s elliptical thermal lift concept- bottom and top are usually less than mid-level climb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finding best thermals goes down with al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 lift distribution curve plotted against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thermals vary in strength quite a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weak thermals to use to save a flight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few really good ther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roper MacCready setting drifts down as glider gets low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86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als are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ily reduce MacCready as altitude 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weak thermals to search as get hig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cCready much lower than best 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adjust MacCready to expected future—save altitude now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ohn Cochrane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ING TIME-AT THERMAL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several cir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utes average rate of cl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stopping for short climbs less e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down low and on windy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larger for strong ther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rying to pick easily centered ther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uising techniq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ising with cumulus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to fly– MacCready still a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itude-- higher better but need to 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ion angles up to 30 degrees, occ.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ing to next 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best speed will cause falling away from clou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treet”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rossing big blue holes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nd flying blue day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– why blue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high and try to stay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until time for assessment –may be good but dry– or not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gliders- good thermal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k blue day strate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uncertainty warrants more conservative MacC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some company 3-5 gliders not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 out when cruising with other gliders—don’t hide beh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 asymmetries and lift lines –lead to the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ter ballas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4d4d4d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able wing-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s climb and cru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s climb and increases circle radius a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s cruise performance-progressively at higher cruise sp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– water helps above 350 ft/min  ave cl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ater ballast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helpful in streeting situations where cruise ext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petition pilots load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dump too soon– day may get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keep it too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 dump a little—eg. Low saves (small therm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OGRAM PLA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CLASSIC MACREADY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 SCHUEMANN’S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Price You Pay For Macready Sp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COCHRANE’S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ust A Little Faster P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FOR SPECIFIC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mulus clou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ud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mulus hum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mulus conges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mulo-nim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mulus humil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6000" y="812880"/>
            <a:ext cx="8712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Isolated or random cumulus clouds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read tops as well as bottom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mulus conges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5360" y="1035000"/>
            <a:ext cx="86932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u-ni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793880"/>
            <a:ext cx="85341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rmal assessment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ry burble with + or –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slowing to improve reaction time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are premature turn– use the glider as a p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sense for asymme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 to go outside the thermal on first 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ering thermals under c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ntal picture of top----    plan ah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dging wis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ed– when to s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 your way in while trend toward visual cl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rkest ar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at upwind side of cl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nny side 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as the last lift loc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discriminating--- have an idea what you exp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ud depar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a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ed cho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the rest of the cl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 for bridges to next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ally should have idea where next stop will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lue thermal cruis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direction key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arrow on Ilec or GNII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ets almost always on the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 for the lines of lift and do this continu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ate onto the lines of lift (energy path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ic Macready Theo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 constant for 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rmals same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thermal strength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lue thermal cruising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Slower– greater range when weak and b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centering lines of lift on blue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 for asymmetric lift, and make small turns into 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sustain reduced sink – can augment achieved L/D substantially, extend range, lead to a the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en to stop in gener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cruise legs reduce centering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a height band floor—usually ~ top 30- 40% of thermal–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ow 50% begins to disconnect from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depends on thermal strength profile for the day- height b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ic Turnpoint strate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-wind low, downwind high conund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theory but loaded with tr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-points are always in sink or blue h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whole circle if needed for good timing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ch  out for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-plan ahead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n to slow up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changing gear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hrane’s theory– pro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going from cu to b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us overcast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n or visible wet area ahead—lake, known shower history, standing wat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low gliders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whining on the ra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w sa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slow for max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birds, other gliders, dust dev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dges, rock piles, fire, smoke, edge of lake or w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nything and work its edges, especially up-wind--  b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t at a safe altitude– know your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ter ballas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able wing-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s climb directly, increased circle speed and diameter (farther away from 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glide performance-greater range, ave.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-keep water if ave. lift 350 ft./min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helpful on long streets, ri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ter ballast use (cont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dump too s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eed to dump a p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als generally small in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dump in gaggle ther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ter ballast (cont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you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before you go to a con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ing’s a hass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es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n interesting element of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ychology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x multi-tasking exerc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ffect of stress on efficien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/s stress management, avoidance and recove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we really d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MacCready dictates ave.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head, WAY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lot of zooming—gentle spee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er with lower highly vari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best track (thus improved L/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emphasis on finding best ther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ve mediocre thermals as soon as 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lassic Macready Theory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optimal inter-thermal speed for maximum x/c ave.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73320" y="2666880"/>
            <a:ext cx="6597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we do (cont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deviations are the n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hat it takes to avoid out-la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e sky usually is not f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, don’t obsess about falling beh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body has a bad day som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, practice,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y for speed every time you 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better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commended read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Country Soaring: Helmut Reichm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Cross-Country Soaring: Kai Gertso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flsc.org/XCountry/Cross-CountryB0202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You Pay For MacCready Speeds: Wil Schuemann http://www.betsybyars.com/guy/soaring_symposia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 Little Faster Please: john Cochrane http://faculty.chicagogsb.edu/john.cochrane/research/Papers/#macc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t’s fl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of inter-thermal sink– essentially subtracts from achieved climb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of Headwind/Tailwind--none except on   final g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ballast-- shifts polar down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70102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932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3:06:18Z</dcterms:created>
  <dc:creator>soarsz</dc:creator>
  <dc:description/>
  <dc:language>en-US</dc:language>
  <cp:lastModifiedBy>Jacobs Family</cp:lastModifiedBy>
  <dcterms:modified xsi:type="dcterms:W3CDTF">2007-08-21T14:05:14Z</dcterms:modified>
  <cp:revision>14</cp:revision>
  <dc:subject/>
  <dc:title>CRUISING FOR SPEED</dc:title>
</cp:coreProperties>
</file>