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9393-4571-4715-9BB7-62C4E103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E099-891E-4FEA-A6BB-3EDCD58C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1068-0E31-44D3-A8F2-E79BAE8D2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797A-ED2F-4CB3-85CB-C5C9EACD0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DEE9-925F-45FF-B72F-61C582885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0091-8EB6-4AB3-97EB-FB309B35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6890-AD62-488D-BB65-A4E0A5F0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9222-8FB3-44EA-A7BA-35846473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DD4F-E3B9-480C-890E-E325F2D4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8B65-ED39-4D8A-ADFD-8EC013BD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24D8-8F13-431F-8782-C7E7437A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4E9E-734D-4424-8EAF-6336F90F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8CD7-259B-4DB9-8CE3-0F211872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CDB6-44AD-4EE6-9512-EF3A7186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0CC5-0F10-4819-AC57-C78E261A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FFB0-13DA-4526-9F92-15BC4BBA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F6A8-4E5C-46AC-8066-B886B3EF2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5C23-F399-4EFC-9DDB-21E50E7F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273C-F092-436D-8350-EC93126E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0346-9C69-42D6-9FFB-9AB2D85B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E676-C420-4E68-908C-16D78085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2FBD-73F3-4973-92FA-292CFC00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A113-0EB9-4D50-8819-538BDA9C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9515-AD09-44DA-AAAC-AD130E7A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3291-84FC-40FC-8670-5A89A74A1AF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442E-D280-4CC7-B7AA-82BF969E199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Lead and Follow Flying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ry XC/Racing Cam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loped by Kai Gers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bjectiv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AF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effective cross-country training by flying in close company with an experienced XC pi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derstanding and comparing decision ma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se observation of climbing and running techn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arison of cloud and route sel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ing confidence in cross country cap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afety First!!!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chutes manda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dio Variometers manda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yes wide ope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ca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23.3 for Launch/Finish/Patt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group frequency for flight – 123.3, 123.5, 123.45, 122.95, and 122.8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missions brief and to the poin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Key Elemen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 Groups of 4-5 gliders led by an experienced mentor in a Duo or private shi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oups posted after brief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o’s will have camp pilots a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mentor will brief the group on the fl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will grid and launch by gro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tor launches first, releases as early as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w pilots briefed to drop entire group in same thermal at 2000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st pilot to launch tows to 3000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indefinite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indefinite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indefinite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indefinite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2" dur="indefinite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4" dur="indefinite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2" dur="indefinite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90" dur="indefinite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98" dur="indefinite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457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group assembles at an assigned rally po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e up on group frequency – 123.3, 123.5 others T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304920" y="1600200"/>
            <a:ext cx="9448920" cy="4844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505320" y="1600200"/>
            <a:ext cx="91440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3657600"/>
            <a:ext cx="91440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5562720"/>
            <a:ext cx="91440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733920"/>
            <a:ext cx="91440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35200" y="2743200"/>
            <a:ext cx="20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erry Internat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22096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ally points will be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test Start 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32004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tarting the Task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it until the group is within at 500’ band at the top of the li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tor on the bott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tor leads ou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On Cours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y together! – we’re not racing each 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stopping to thermal, mentor opens brakes, spirals down to altitude of lowest pil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stop for thermals if mentor doesn’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tor leads out of all therm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mentor in sight and reasonably close – within a half to a mile - when running to experience the same air – but be very cautiou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um horizontal separation 500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ilot “doing his own thing” by repeatedly leaving the group will be left to do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indefinite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indefinite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indefinite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8" dur="indefinite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2" dur="indefinite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6" dur="indefinite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50" dur="indefinite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54" dur="indefinite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58" dur="indefinite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62" dur="indefinite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n case of difficult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landing decision is the responsibility of each pilo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tor attempt rescue, but not below 2000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pilots not in difficulty climb in p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landings are learning experiences too – radio, turn the radio off, relax, make a good one, and we’ll come get you with a cold be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el free to abandon the task if anything makes you uncomfor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indefinite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indefinite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indefinite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indefinite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0" dur="indefinite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8" dur="indefinite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92" dur="indefinite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96" dur="indefinite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fter Flyi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tors will meet with pilots to review flight, work on problems with group flying that may ar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20:41:02Z</dcterms:created>
  <dc:creator>Douglas Jacobs</dc:creator>
  <dc:description/>
  <dc:language>en-US</dc:language>
  <cp:lastModifiedBy>Douglas Jacobs</cp:lastModifiedBy>
  <dcterms:modified xsi:type="dcterms:W3CDTF">2007-03-25T14:59:21Z</dcterms:modified>
  <cp:revision>7</cp:revision>
  <dc:subject/>
  <dc:title>Lead and Follow Flying</dc:title>
</cp:coreProperties>
</file>