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7DD-1A87-42CA-82D9-C432F88E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D5C-E05F-478E-B8D4-A1890A57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7D9-DEAA-4D94-BDBA-C4A7FC64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6F3-53AF-40FB-932F-5DB2912C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D17-3156-483B-BA7C-19B959A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7C4-810D-4F26-935B-B6C8ABA3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24C-1C66-458D-AD89-D3425D1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C05-7FB9-43D3-9541-9E814809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A26-AEF8-4E15-ADB5-666BEEA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8B5-7DD1-48A6-B501-5692D23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745-63F1-453E-930C-C081DFE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36D-753F-4FBB-9C42-9E921BCC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3525-8E98-40C3-969A-728E13515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pid pilot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eaturing a cast of thous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 aero retrieve 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Cas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Your response should be appropriate to the actual problem at hand.  EY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early in t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 dolly lef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 for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he habit of thinking about how close you are to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“virtual”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lide to a point above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at a chosen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  Tree landing 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5 Senior Con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When you plan a maneuver with a low margin for error, don’t expect to get away with even a small mis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can be done wrong, it’s only a matter of time until 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n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job is to postpone tha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ilots will show you where your time &amp; attention should be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C vs. C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:  ASW-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is problem keep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&amp; purposeful prior preparation persistently prevents poor (perhaps pitiful &amp; painful) performanc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gnored, skimped, sk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vs. custo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: gear-up l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A “nearly correct” checklist “sort of” properly applied isn’t worth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roblems form a pattern, it’s time to pay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tupidest tri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m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all in this room are performing this trick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can happen to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ays to stay s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lly smart: Think of all the things that can go wrong, and figure out ways to preven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ather stupid:  Pay attention to the problems other pilots encounter, and learn what you can from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e it a bit less likely that you’ll fall into the known tr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it: This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 pastime for anyone with a big 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foolish -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be bluffed; weather, gliders, air, gravity etc. remain quite unim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o interferes with perceptions that help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:  “Soaring is about seeing things as they are, not as we wish them to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: The R-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 Human nature is complex and not especially rational.  It intersects with aviation and its hazards in many strang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 rig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key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lot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: Final glide 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5 Senior Con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Pilots can have trouble letting go of the rice.   EY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d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, confident attitude is expected of pi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isn’t the best approach in every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21:25:11Z</dcterms:created>
  <dc:creator>John Good</dc:creator>
  <dc:description/>
  <dc:language>en-US</dc:language>
  <cp:lastModifiedBy>John Good</cp:lastModifiedBy>
  <dcterms:modified xsi:type="dcterms:W3CDTF">2005-06-05T13:20:16Z</dcterms:modified>
  <cp:revision>6</cp:revision>
  <dc:subject/>
  <dc:title>Stupid pilot tricks</dc:title>
</cp:coreProperties>
</file>