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021-C060-4FCC-BAAB-3CCC41F2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1E0-715A-4075-8E4C-02D00A5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16B-82C5-4C28-8E98-F7A928FE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94E-EA62-44A4-A305-5E2F5AC0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97CA-C5F9-4F1F-8AF9-DA3A8646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6DC7-677A-4360-9778-19662A6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46D3-7D9B-460B-BB2D-87BB6C8B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6131-7C42-4D35-8D8D-C1E2D553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114-7B92-43D5-A608-0C49AE40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1C86-538D-40FE-BD12-325815C7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8880-2B7C-4D7F-91E0-CA7817D7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D2C-13CA-4485-BA15-4F8AD8F8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F58F-38F5-4046-961E-622A3CD4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E84B-F709-4F3A-95E8-ED9A7D8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9285-2235-41B9-A26B-41FBC8EE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A5A8-7BA2-4980-813A-77BDA0B1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F8B7-B16C-4DDE-A87D-5B1BC426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BEB6-694C-4C90-B2BC-F5C01E2D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BDE96-1351-4829-8021-649577E2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658A-5122-4A73-B3C6-F5628EFE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6831-4427-4E58-B7B5-2BBB7CCE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BE36-EDDC-4CEE-AF10-1FEA09AD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A4B-18ED-49E4-AC42-3F1D6E8F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6DE0-9D75-41ED-829C-52877382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A6CC8-62EF-445F-9BF5-EB68DACF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CCBA-7D52-4448-8793-7102F77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D8D0-1E79-4D30-87D8-7B7B104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CAFD-1D4B-4FFA-BA76-B6F30E2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E4A5-F95D-4038-84F8-3E9D9B8D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E1D1-F4C3-46A9-9F87-239B2D60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6FF38-B7E5-4CED-B85C-F06C9DB8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9E52B-BB87-4D90-A5E4-513FF093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6AA7C-FD33-4193-9F68-686B9B4F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7C5-98C8-4B1A-B211-850CE2C3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BC64D-EEC9-45E2-93CA-716B1AA6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5BED9-2935-4764-92C6-31FD71BA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AFC48-A326-46AD-BCAD-FC5D2130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D2FC8-CFEE-4137-A0F3-36252094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C49A8-5DF7-4768-A2F3-3666829A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6F678-B9E9-49B0-97B2-02CDBCA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7E708-2ABD-4EDB-894C-C38C4D3D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FFA55-1A39-49DC-BDBA-8C989859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7BDA7-DAFB-489D-BE9D-CDD20D56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5BD0-63F4-47C8-A1E7-DC6A08E6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EEE-2BEC-4FFB-8E25-3E06DC81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D1B95-6591-44AA-8096-851D7E3B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7EBC9-B78A-4D62-9C45-3B48E4DB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E8649-10AF-4085-9E13-380F1E57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AAAA8-08AE-4926-976E-7ABC9AEA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F5C4-651D-4193-ADFA-80C1018A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831CD-30CF-49FD-BAFB-46C897BD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729E-1615-47B0-805D-C96BF100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9E8FC-B06A-4994-8D02-95461F9B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D247-8429-43DD-B51A-06C260D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0BC66-9AA9-4B7A-9F45-66FF322A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9D5-72CD-4AD6-A5C0-354C6FEE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B68B-48BF-4621-BEEC-0AC1144A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FDF37-D198-4030-887A-A0C57C8B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52549-2C62-4490-83EC-EBE9E0BF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3D80E-7D06-4F44-B28A-EA9AD585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59F8E-C2C1-461C-92E4-D6BBE398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018A6-9885-4FF4-9C35-0B115E4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1E54E-857D-4F8E-8AD0-CB90975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CEBF5-F551-4E47-B420-150FEF4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1A2FE-DCB3-4F0E-8759-84F7F3BB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B1DD3-64A8-4794-9E61-8499A55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362-954A-4FA1-9341-427E454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7BEB1-DF10-4510-B9A6-EF329797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8673E-FD2C-4AC3-A4F6-1D6D48A9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C8B37-EBE4-4AF7-9153-51746D79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0FFF-E317-426B-AF6B-5BAFE5CF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6F950-D548-4F35-B6E9-BBCAC5D6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36DC9-D0A6-4E07-9C86-08582E67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05458-E9B0-4E6E-8920-DE70154F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72C9B-394F-40DC-84F7-3D4D2AA2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3555-AF02-409C-AACC-D48CC6B0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A8D07-EB11-4B4E-8D3A-CEE8799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594-DA22-4DAE-AC6C-E60B025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04479-9E9A-44D6-A314-7AA8367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C4095-1C01-46F0-818E-4A1990E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3F7E6-3031-4048-A7BA-85A00679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627EA-8AD6-4E8A-8DD0-967B41CD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D9137-548A-4EA2-ABCF-006BA16D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767-0F15-4CBC-97D7-6E890215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1424-CC82-4E8A-9A34-55493EF654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AF97-DD5B-4373-A03C-82954DA979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18E1-8301-4C69-987C-A4949A8F9A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73C4-04AB-48D4-BD00-5A5940E2E9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C919-EC33-446E-9FED-8710DA0B0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A43-96D4-4D95-A24C-29C2FF9066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73B-AF30-4C49-891E-2D1D984A4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Multiprocessing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3900" spc="-1" strike="noStrike">
                <a:solidFill>
                  <a:srgbClr val="999900"/>
                </a:solidFill>
                <a:latin typeface="Garamond"/>
              </a:rPr>
              <a:t>The demanding Art of Cross Country Racing</a:t>
            </a:r>
            <a:endParaRPr b="0" lang="en-US" sz="39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2514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 Team/Region 1 XC/Racing Cam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ug Jacob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ally roll through the 3/30/3/30 mantra consta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ze distraction, deal with it, back to the man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is going the whole f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re’s lots going on in a soaring flight . . . 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ing to Thermal optim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ing Safe if in a Gag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ing how high to take the therm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ing where to go n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ing what path to get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ing the best thermal for the next s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oss country soaring is as much about decision making as flying the gl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Times New Roman"/>
              </a:rPr>
              <a:t>There’s even more going on when you’re racing</a:t>
            </a:r>
            <a:r>
              <a:rPr b="0" lang="en-US" sz="4000" spc="-1" strike="noStrike">
                <a:solidFill>
                  <a:srgbClr val="e3e3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o Sta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ing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ling with the flight compu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ding on the next turnpoint in a M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ding where to turn in an Assigned Area Tas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guring out your Final Gli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acing is primarily a mental performance sport, about optimal decision making with imperfect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cel, the cross country or racing pilot must deal with a complex mental workloa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hen the canopy comes down, IQ is cut in half (at leas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al with the complex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ecognizing it’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inimizing non-critical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racticing required actions so they become second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tinually analyzing flight performance in a systematic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important is basic ship hand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mal corrections, bank angle changes, speed changes and the like are automa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? Just like how you get to Carnegie Hall – practice, practice, pract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n’t sand on weak days, go fl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your electronics 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 frequency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computer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avoid any unnecessary dist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a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al comf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essive e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everything possible for the flight before you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ight computer program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e3e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 and C tasks as wel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k fully memor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nd crew/retrieve arrangements m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e3e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r keys stay in the crew c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list complet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nch/water/relief ready to go and at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tract anything that will take your mind off the f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Times New Roman"/>
              </a:rPr>
              <a:t>Physiological factors are important</a:t>
            </a:r>
            <a:endParaRPr b="0" lang="en-US" sz="44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fitness leads to mental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 re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thing to 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to dr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mental attitude, self conf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m emotional out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put mistakes behind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Times New Roman"/>
              </a:rPr>
              <a:t>Develop a mental sca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Times New Roman"/>
              </a:rPr>
              <a:t> 3/30/3/30 process</a:t>
            </a:r>
            <a:endParaRPr b="0" lang="en-US" sz="40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m I going to do in 3 secon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get hit by that glider above/below/ahea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/close my turn to move my 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m I going to do in 30 secon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up/slow down (in the r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rn in this lift or keep go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with this thermal or le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 that glider or go my own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Times New Roman"/>
              </a:rPr>
              <a:t>Develop a mental sca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Times New Roman"/>
              </a:rPr>
              <a:t> 3/30/3/30 process</a:t>
            </a:r>
            <a:endParaRPr b="0" lang="en-US" sz="4000" spc="-1" strike="noStrike">
              <a:solidFill>
                <a:srgbClr val="e3e3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m I going to do in three minu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I exit this therm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I see markers down cour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 for the clouds on the left or righ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m I going to do in 30 minu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the clouds better/worse down cour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the streets/energy lines develop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’s my next pilot designated turnpoi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ill I have enough for final glid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48:42Z</dcterms:created>
  <dc:creator>Douglas Jacobs</dc:creator>
  <dc:description/>
  <dc:language>en-US</dc:language>
  <cp:lastModifiedBy>Jacobs Family</cp:lastModifiedBy>
  <dcterms:modified xsi:type="dcterms:W3CDTF">2008-06-20T11:09:03Z</dcterms:modified>
  <cp:revision>15</cp:revision>
  <dc:subject/>
  <dc:title>Multiprocessing  The demanding art of Cross Country Soaring</dc:title>
</cp:coreProperties>
</file>