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7B4-8E1D-4B9B-9B4E-CF299C01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9D3-7FAB-414E-872A-3B0CDEF4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CEE-7614-4282-93BC-D67F98EF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A85-BA38-4919-BA67-0367D539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205-71EA-474B-B284-0D6A8F2F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FDF-41F9-415A-9872-A7EFB460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19E-8FB6-4F10-BC42-454F325C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A07-A2C1-4C47-BAC5-F14F54C9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0E2-7169-4EA8-B263-5244CF05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963-D56D-43A4-8CFF-886DEC44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13C-EE2F-4FFE-ABC1-452EBEFC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DF0-BEF2-4636-A4FF-05E36F8C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970E-7257-4C51-AF7D-2E74BB20CCB0}" type="slidenum">
              <a:rPr b="0" lang="sv-SE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ut%20special060601.ppt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00"/>
                </a:solidFill>
                <a:latin typeface="Arial"/>
              </a:rPr>
              <a:t>Outlanding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6560" y="6256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">
            <a:hlinkClick r:id="rId1"/>
          </p:cNvPr>
          <p:cNvSpPr/>
          <p:nvPr/>
        </p:nvSpPr>
        <p:spPr>
          <a:xfrm>
            <a:off x="4841640" y="6400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Arial"/>
              </a:rPr>
              <a:t>st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00"/>
                </a:solidFill>
                <a:latin typeface="Arial"/>
              </a:rPr>
              <a:t>Water lan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Is not a normal op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Can be dangero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But, probably safer than to the forest or a clearing in the fores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The clearings may look green and nice from the air, but are NOT nice on the grou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00"/>
                </a:solidFill>
                <a:latin typeface="Arial"/>
              </a:rPr>
              <a:t>Experi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About 10 water landnings in Sweden the last 15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No serious injuries or dama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The glider have flown the next day in many ca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00"/>
                </a:solidFill>
                <a:latin typeface="Arial"/>
              </a:rPr>
              <a:t>Before lan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Call on the rad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Turn of master switc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Prepare mentall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Locate the seat belt l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Locate the canopy emergency jettiss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00"/>
                </a:solidFill>
                <a:latin typeface="Arial"/>
              </a:rPr>
              <a:t>Where to land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Deep enoug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Along the sho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Down wind side of the lak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00"/>
                </a:solidFill>
                <a:latin typeface="Arial"/>
              </a:rPr>
              <a:t>Win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19280" y="2852640"/>
            <a:ext cx="5832360" cy="2305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58920" y="549360"/>
            <a:ext cx="1009440" cy="15112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32920" y="68436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cc0000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76360" y="6381720"/>
            <a:ext cx="33116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7524720" y="5516280"/>
            <a:ext cx="1008000" cy="863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2360" y="6381720"/>
            <a:ext cx="23763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532720" y="4723920"/>
            <a:ext cx="0" cy="792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850920" y="4437000"/>
            <a:ext cx="4321080" cy="71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35280" y="4437000"/>
            <a:ext cx="360360" cy="64764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00"/>
                </a:solidFill>
                <a:latin typeface="Arial"/>
              </a:rPr>
              <a:t>How to land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Gear dow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Low speed, but main wheel firs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Flaps in thermalling posi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Airbrakes closed (if possibl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258480" y="4848840"/>
            <a:ext cx="1931040" cy="913680"/>
            <a:chOff x="258480" y="4848840"/>
            <a:chExt cx="1931040" cy="913680"/>
          </a:xfrm>
        </p:grpSpPr>
        <p:sp>
          <p:nvSpPr>
            <p:cNvPr id="373" name=""/>
            <p:cNvSpPr/>
            <p:nvPr/>
          </p:nvSpPr>
          <p:spPr>
            <a:xfrm flipH="1" rot="20589600">
              <a:off x="389160" y="5238000"/>
              <a:ext cx="1799640" cy="269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rot="20589600">
              <a:off x="668520" y="5108760"/>
              <a:ext cx="1492200" cy="29412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rot="20589600">
              <a:off x="1648440" y="4992840"/>
              <a:ext cx="383760" cy="2516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rot="20589600">
              <a:off x="321480" y="5054760"/>
              <a:ext cx="62280" cy="45036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rot="20589600">
              <a:off x="1137600" y="4886640"/>
              <a:ext cx="307440" cy="29916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rot="20589600">
              <a:off x="1404360" y="5042520"/>
              <a:ext cx="523080" cy="13248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490320" y="5042160"/>
              <a:ext cx="192960" cy="373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20589600">
              <a:off x="1434960" y="5209560"/>
              <a:ext cx="262800" cy="3672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1687680" y="4938120"/>
              <a:ext cx="314640" cy="234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20589600">
              <a:off x="1892880" y="4933800"/>
              <a:ext cx="123480" cy="183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rot="20589600">
              <a:off x="304560" y="5027760"/>
              <a:ext cx="212760" cy="37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0" y="5516640"/>
            <a:ext cx="9144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493720" y="4654080"/>
            <a:ext cx="1924200" cy="1178280"/>
            <a:chOff x="2493720" y="4654080"/>
            <a:chExt cx="1924200" cy="1178280"/>
          </a:xfrm>
        </p:grpSpPr>
        <p:sp>
          <p:nvSpPr>
            <p:cNvPr id="386" name=""/>
            <p:cNvSpPr/>
            <p:nvPr/>
          </p:nvSpPr>
          <p:spPr>
            <a:xfrm flipH="1" rot="19875600">
              <a:off x="2664000" y="5146560"/>
              <a:ext cx="1799640" cy="26928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rot="19875600">
              <a:off x="2916360" y="4994640"/>
              <a:ext cx="1492200" cy="29376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rot="19875600">
              <a:off x="3858840" y="4793400"/>
              <a:ext cx="383760" cy="25128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rot="19875600">
              <a:off x="2597040" y="5158440"/>
              <a:ext cx="62280" cy="45036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rot="19875600">
              <a:off x="3342600" y="4802400"/>
              <a:ext cx="307440" cy="29916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rot="19875600">
              <a:off x="3617280" y="4879080"/>
              <a:ext cx="523080" cy="13212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2714040" y="5122800"/>
              <a:ext cx="266040" cy="325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19875600">
              <a:off x="3674160" y="5064480"/>
              <a:ext cx="262800" cy="363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912480" y="4709520"/>
              <a:ext cx="259920" cy="293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rot="19875600">
              <a:off x="4064040" y="4714560"/>
              <a:ext cx="123480" cy="183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rot="19875600">
              <a:off x="2530800" y="5124600"/>
              <a:ext cx="212760" cy="36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437720" y="3942000"/>
            <a:ext cx="1926000" cy="1166040"/>
            <a:chOff x="4437720" y="3942000"/>
            <a:chExt cx="1926000" cy="1166040"/>
          </a:xfrm>
        </p:grpSpPr>
        <p:sp>
          <p:nvSpPr>
            <p:cNvPr id="398" name=""/>
            <p:cNvSpPr/>
            <p:nvPr/>
          </p:nvSpPr>
          <p:spPr>
            <a:xfrm flipH="1" rot="19905600">
              <a:off x="4607280" y="4428720"/>
              <a:ext cx="1799640" cy="269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rot="19905600">
              <a:off x="4860720" y="4277160"/>
              <a:ext cx="1492200" cy="29412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rot="19905600">
              <a:off x="5805720" y="4079520"/>
              <a:ext cx="383760" cy="2516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rot="19905600">
              <a:off x="4540680" y="4432320"/>
              <a:ext cx="62280" cy="45036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rot="19905600">
              <a:off x="5289120" y="4083840"/>
              <a:ext cx="307440" cy="29916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rot="19905600">
              <a:off x="5563440" y="4164480"/>
              <a:ext cx="523080" cy="13248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4658400" y="4397400"/>
              <a:ext cx="263160" cy="327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rot="19905600">
              <a:off x="5618880" y="4348440"/>
              <a:ext cx="262800" cy="363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5857920" y="3996720"/>
              <a:ext cx="262440" cy="29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rot="19905600">
              <a:off x="6012720" y="4001760"/>
              <a:ext cx="123480" cy="183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rot="19905600">
              <a:off x="4474800" y="4398480"/>
              <a:ext cx="212760" cy="36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449040" y="4020480"/>
            <a:ext cx="1783080" cy="1410480"/>
            <a:chOff x="6449040" y="4020480"/>
            <a:chExt cx="1783080" cy="1410480"/>
          </a:xfrm>
        </p:grpSpPr>
        <p:sp>
          <p:nvSpPr>
            <p:cNvPr id="410" name=""/>
            <p:cNvSpPr/>
            <p:nvPr/>
          </p:nvSpPr>
          <p:spPr>
            <a:xfrm flipH="1" rot="1493400">
              <a:off x="6421680" y="4795200"/>
              <a:ext cx="1800000" cy="269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rot="1493400">
              <a:off x="6746400" y="4779360"/>
              <a:ext cx="1492560" cy="29412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rot="1493400">
              <a:off x="7710480" y="4981320"/>
              <a:ext cx="383760" cy="2516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rot="1493400">
              <a:off x="6653160" y="4012560"/>
              <a:ext cx="62280" cy="45036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rot="1493400">
              <a:off x="7393680" y="4530600"/>
              <a:ext cx="307440" cy="29880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rot="1493400">
              <a:off x="7517160" y="4917960"/>
              <a:ext cx="523080" cy="13248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841440" y="4151160"/>
              <a:ext cx="104400" cy="407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1493400">
              <a:off x="7494480" y="4988160"/>
              <a:ext cx="262800" cy="363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flipV="1">
              <a:off x="7752960" y="5045040"/>
              <a:ext cx="390600" cy="35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1493400">
              <a:off x="8043120" y="5042880"/>
              <a:ext cx="123480" cy="183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1493400">
              <a:off x="6777000" y="4083120"/>
              <a:ext cx="212760" cy="37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468360" y="5734080"/>
            <a:ext cx="0" cy="576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4160" y="60213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Arial"/>
              </a:rPr>
              <a:t>Suc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774880" y="623736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00"/>
                </a:solidFill>
                <a:latin typeface="Arial"/>
              </a:rPr>
              <a:t>Alfa increas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150880" y="6237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l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00"/>
                </a:solidFill>
                <a:latin typeface="Arial"/>
              </a:rPr>
              <a:t>After lan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You are not in a hurr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The glider floa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Open the canopy normall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Sit on top of the glider and thin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Make a pl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Don’t swim with clothes 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Don’t try to swim with head wi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The canopy might crack (sharp edge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Swimming (with clothe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The water is cold ( maybe &lt; 10</a:t>
            </a:r>
            <a:r>
              <a:rPr b="0" lang="sv-SE" sz="32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 C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To get contact with the civilis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Mobile phone is w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694160" y="6237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00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Always calculate glide ratio to a landable are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The fields might be shor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You need som height for planning a good circui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00"/>
                </a:solidFill>
                <a:latin typeface="Arial"/>
              </a:rPr>
              <a:t>Keep your mobile phone turned on, it can be traced by the S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197000"/>
            <a:ext cx="5472000" cy="1440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39280" y="5013360"/>
            <a:ext cx="647640" cy="1150920"/>
            <a:chOff x="539280" y="5013360"/>
            <a:chExt cx="647640" cy="1150920"/>
          </a:xfrm>
        </p:grpSpPr>
        <p:sp>
          <p:nvSpPr>
            <p:cNvPr id="49" name=""/>
            <p:cNvSpPr/>
            <p:nvPr/>
          </p:nvSpPr>
          <p:spPr>
            <a:xfrm rot="5400000">
              <a:off x="853200" y="5274360"/>
              <a:ext cx="19440" cy="64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419040" y="5558400"/>
              <a:ext cx="1150920" cy="60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5400000">
              <a:off x="465480" y="5587560"/>
              <a:ext cx="268560" cy="4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7380360" y="1412640"/>
            <a:ext cx="647640" cy="1150920"/>
            <a:chOff x="7380360" y="1412640"/>
            <a:chExt cx="647640" cy="1150920"/>
          </a:xfrm>
        </p:grpSpPr>
        <p:sp>
          <p:nvSpPr>
            <p:cNvPr id="53" name=""/>
            <p:cNvSpPr/>
            <p:nvPr/>
          </p:nvSpPr>
          <p:spPr>
            <a:xfrm rot="16200000">
              <a:off x="7694280" y="1654560"/>
              <a:ext cx="19440" cy="64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200000">
              <a:off x="6996960" y="1957680"/>
              <a:ext cx="1150920" cy="60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7833240" y="1949040"/>
              <a:ext cx="268560" cy="4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993080" y="3933720"/>
            <a:ext cx="1150920" cy="647640"/>
            <a:chOff x="7993080" y="3933720"/>
            <a:chExt cx="1150920" cy="647640"/>
          </a:xfrm>
        </p:grpSpPr>
        <p:sp>
          <p:nvSpPr>
            <p:cNvPr id="57" name=""/>
            <p:cNvSpPr/>
            <p:nvPr/>
          </p:nvSpPr>
          <p:spPr>
            <a:xfrm>
              <a:off x="8568360" y="3933720"/>
              <a:ext cx="19440" cy="64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93080" y="4095720"/>
              <a:ext cx="1150920" cy="60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53160" y="4500720"/>
              <a:ext cx="268560" cy="4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823800" y="4647960"/>
            <a:ext cx="727560" cy="1032120"/>
            <a:chOff x="6823800" y="4647960"/>
            <a:chExt cx="727560" cy="1032120"/>
          </a:xfrm>
        </p:grpSpPr>
        <p:sp>
          <p:nvSpPr>
            <p:cNvPr id="61" name=""/>
            <p:cNvSpPr/>
            <p:nvPr/>
          </p:nvSpPr>
          <p:spPr>
            <a:xfrm rot="3634200">
              <a:off x="7122240" y="4912560"/>
              <a:ext cx="19440" cy="64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3634200">
              <a:off x="6666480" y="5133600"/>
              <a:ext cx="1150920" cy="60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3634200">
              <a:off x="6773040" y="5353920"/>
              <a:ext cx="268560" cy="4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708000" y="5013360"/>
            <a:ext cx="647640" cy="1150920"/>
            <a:chOff x="3708000" y="5013360"/>
            <a:chExt cx="647640" cy="1150920"/>
          </a:xfrm>
        </p:grpSpPr>
        <p:sp>
          <p:nvSpPr>
            <p:cNvPr id="65" name=""/>
            <p:cNvSpPr/>
            <p:nvPr/>
          </p:nvSpPr>
          <p:spPr>
            <a:xfrm rot="5400000">
              <a:off x="4021920" y="5274360"/>
              <a:ext cx="19440" cy="64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3587760" y="5558400"/>
              <a:ext cx="1150920" cy="60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3634200" y="5587560"/>
              <a:ext cx="268560" cy="4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059280" y="1341000"/>
            <a:ext cx="647640" cy="1150920"/>
            <a:chOff x="3059280" y="1341000"/>
            <a:chExt cx="647640" cy="1150920"/>
          </a:xfrm>
        </p:grpSpPr>
        <p:sp>
          <p:nvSpPr>
            <p:cNvPr id="69" name=""/>
            <p:cNvSpPr/>
            <p:nvPr/>
          </p:nvSpPr>
          <p:spPr>
            <a:xfrm rot="16200000">
              <a:off x="3373200" y="1582920"/>
              <a:ext cx="19440" cy="64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2675880" y="1886040"/>
              <a:ext cx="1150920" cy="60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200000">
              <a:off x="3512160" y="1877400"/>
              <a:ext cx="268560" cy="4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993080" y="2708280"/>
            <a:ext cx="1150920" cy="647640"/>
            <a:chOff x="7993080" y="2708280"/>
            <a:chExt cx="1150920" cy="647640"/>
          </a:xfrm>
        </p:grpSpPr>
        <p:sp>
          <p:nvSpPr>
            <p:cNvPr id="73" name=""/>
            <p:cNvSpPr/>
            <p:nvPr/>
          </p:nvSpPr>
          <p:spPr>
            <a:xfrm>
              <a:off x="8568360" y="2708280"/>
              <a:ext cx="19440" cy="64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93080" y="2870280"/>
              <a:ext cx="1150920" cy="60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53160" y="3275280"/>
              <a:ext cx="268560" cy="4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320" y="3213000"/>
            <a:ext cx="62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In every gliding hand book!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81400" y="260280"/>
            <a:ext cx="50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The agreed standard!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rot="18013800">
            <a:off x="3131280" y="4221720"/>
            <a:ext cx="2808360" cy="64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2828880"/>
            <a:ext cx="4176720" cy="1104840"/>
          </a:xfrm>
          <a:custGeom>
            <a:avLst/>
            <a:gdLst/>
            <a:ahLst/>
            <a:rect l="l" t="t" r="r" b="b"/>
            <a:pathLst>
              <a:path w="2631" h="696">
                <a:moveTo>
                  <a:pt x="2631" y="151"/>
                </a:moveTo>
                <a:cubicBezTo>
                  <a:pt x="2079" y="75"/>
                  <a:pt x="1528" y="0"/>
                  <a:pt x="1180" y="15"/>
                </a:cubicBezTo>
                <a:cubicBezTo>
                  <a:pt x="832" y="30"/>
                  <a:pt x="742" y="128"/>
                  <a:pt x="545" y="242"/>
                </a:cubicBezTo>
                <a:cubicBezTo>
                  <a:pt x="348" y="356"/>
                  <a:pt x="174" y="526"/>
                  <a:pt x="0" y="69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5120" y="250920"/>
            <a:ext cx="35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mpetition trac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760" y="1784520"/>
            <a:ext cx="8508960" cy="2436480"/>
          </a:xfrm>
          <a:custGeom>
            <a:avLst/>
            <a:gdLst/>
            <a:ahLst/>
            <a:rect l="l" t="t" r="r" b="b"/>
            <a:pathLst>
              <a:path w="5360" h="1535">
                <a:moveTo>
                  <a:pt x="5360" y="1354"/>
                </a:moveTo>
                <a:cubicBezTo>
                  <a:pt x="4615" y="979"/>
                  <a:pt x="3871" y="605"/>
                  <a:pt x="3183" y="401"/>
                </a:cubicBezTo>
                <a:cubicBezTo>
                  <a:pt x="2495" y="197"/>
                  <a:pt x="1723" y="189"/>
                  <a:pt x="1232" y="129"/>
                </a:cubicBezTo>
                <a:cubicBezTo>
                  <a:pt x="741" y="69"/>
                  <a:pt x="430" y="0"/>
                  <a:pt x="234" y="38"/>
                </a:cubicBezTo>
                <a:cubicBezTo>
                  <a:pt x="38" y="76"/>
                  <a:pt x="0" y="258"/>
                  <a:pt x="53" y="356"/>
                </a:cubicBezTo>
                <a:cubicBezTo>
                  <a:pt x="106" y="454"/>
                  <a:pt x="265" y="553"/>
                  <a:pt x="552" y="628"/>
                </a:cubicBezTo>
                <a:cubicBezTo>
                  <a:pt x="839" y="703"/>
                  <a:pt x="1413" y="749"/>
                  <a:pt x="1776" y="809"/>
                </a:cubicBezTo>
                <a:cubicBezTo>
                  <a:pt x="2139" y="869"/>
                  <a:pt x="2532" y="870"/>
                  <a:pt x="2729" y="991"/>
                </a:cubicBezTo>
                <a:cubicBezTo>
                  <a:pt x="2926" y="1112"/>
                  <a:pt x="2918" y="1444"/>
                  <a:pt x="2956" y="153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1640" y="3560760"/>
            <a:ext cx="8172720" cy="1955880"/>
          </a:xfrm>
          <a:custGeom>
            <a:avLst/>
            <a:gdLst/>
            <a:ahLst/>
            <a:rect l="l" t="t" r="r" b="b"/>
            <a:pathLst>
              <a:path w="5148" h="1232">
                <a:moveTo>
                  <a:pt x="5148" y="824"/>
                </a:moveTo>
                <a:cubicBezTo>
                  <a:pt x="4414" y="880"/>
                  <a:pt x="3681" y="937"/>
                  <a:pt x="3107" y="960"/>
                </a:cubicBezTo>
                <a:cubicBezTo>
                  <a:pt x="2533" y="983"/>
                  <a:pt x="1935" y="998"/>
                  <a:pt x="1701" y="960"/>
                </a:cubicBezTo>
                <a:cubicBezTo>
                  <a:pt x="1467" y="922"/>
                  <a:pt x="1663" y="771"/>
                  <a:pt x="1701" y="733"/>
                </a:cubicBezTo>
                <a:cubicBezTo>
                  <a:pt x="1739" y="695"/>
                  <a:pt x="1913" y="680"/>
                  <a:pt x="1928" y="733"/>
                </a:cubicBezTo>
                <a:cubicBezTo>
                  <a:pt x="1943" y="786"/>
                  <a:pt x="1860" y="983"/>
                  <a:pt x="1792" y="1051"/>
                </a:cubicBezTo>
                <a:cubicBezTo>
                  <a:pt x="1724" y="1119"/>
                  <a:pt x="1595" y="1157"/>
                  <a:pt x="1519" y="1142"/>
                </a:cubicBezTo>
                <a:cubicBezTo>
                  <a:pt x="1443" y="1127"/>
                  <a:pt x="1353" y="1020"/>
                  <a:pt x="1338" y="960"/>
                </a:cubicBezTo>
                <a:cubicBezTo>
                  <a:pt x="1323" y="900"/>
                  <a:pt x="1399" y="779"/>
                  <a:pt x="1429" y="779"/>
                </a:cubicBezTo>
                <a:cubicBezTo>
                  <a:pt x="1459" y="779"/>
                  <a:pt x="1512" y="899"/>
                  <a:pt x="1519" y="960"/>
                </a:cubicBezTo>
                <a:cubicBezTo>
                  <a:pt x="1526" y="1021"/>
                  <a:pt x="1512" y="1097"/>
                  <a:pt x="1474" y="1142"/>
                </a:cubicBezTo>
                <a:cubicBezTo>
                  <a:pt x="1436" y="1187"/>
                  <a:pt x="1369" y="1232"/>
                  <a:pt x="1293" y="1232"/>
                </a:cubicBezTo>
                <a:cubicBezTo>
                  <a:pt x="1217" y="1232"/>
                  <a:pt x="1096" y="1202"/>
                  <a:pt x="1020" y="1142"/>
                </a:cubicBezTo>
                <a:cubicBezTo>
                  <a:pt x="944" y="1082"/>
                  <a:pt x="854" y="930"/>
                  <a:pt x="839" y="870"/>
                </a:cubicBezTo>
                <a:cubicBezTo>
                  <a:pt x="824" y="810"/>
                  <a:pt x="900" y="764"/>
                  <a:pt x="930" y="779"/>
                </a:cubicBezTo>
                <a:cubicBezTo>
                  <a:pt x="960" y="794"/>
                  <a:pt x="1035" y="915"/>
                  <a:pt x="1020" y="960"/>
                </a:cubicBezTo>
                <a:cubicBezTo>
                  <a:pt x="1005" y="1005"/>
                  <a:pt x="930" y="1043"/>
                  <a:pt x="839" y="1051"/>
                </a:cubicBezTo>
                <a:cubicBezTo>
                  <a:pt x="748" y="1059"/>
                  <a:pt x="544" y="1051"/>
                  <a:pt x="476" y="1006"/>
                </a:cubicBezTo>
                <a:cubicBezTo>
                  <a:pt x="408" y="961"/>
                  <a:pt x="416" y="832"/>
                  <a:pt x="431" y="779"/>
                </a:cubicBezTo>
                <a:cubicBezTo>
                  <a:pt x="446" y="726"/>
                  <a:pt x="529" y="673"/>
                  <a:pt x="567" y="688"/>
                </a:cubicBezTo>
                <a:cubicBezTo>
                  <a:pt x="605" y="703"/>
                  <a:pt x="673" y="794"/>
                  <a:pt x="658" y="870"/>
                </a:cubicBezTo>
                <a:cubicBezTo>
                  <a:pt x="643" y="946"/>
                  <a:pt x="567" y="1135"/>
                  <a:pt x="476" y="1142"/>
                </a:cubicBezTo>
                <a:cubicBezTo>
                  <a:pt x="385" y="1149"/>
                  <a:pt x="151" y="1006"/>
                  <a:pt x="113" y="915"/>
                </a:cubicBezTo>
                <a:cubicBezTo>
                  <a:pt x="75" y="824"/>
                  <a:pt x="189" y="642"/>
                  <a:pt x="249" y="597"/>
                </a:cubicBezTo>
                <a:cubicBezTo>
                  <a:pt x="309" y="552"/>
                  <a:pt x="476" y="575"/>
                  <a:pt x="476" y="643"/>
                </a:cubicBezTo>
                <a:cubicBezTo>
                  <a:pt x="476" y="711"/>
                  <a:pt x="324" y="976"/>
                  <a:pt x="249" y="1006"/>
                </a:cubicBezTo>
                <a:cubicBezTo>
                  <a:pt x="174" y="1036"/>
                  <a:pt x="46" y="922"/>
                  <a:pt x="23" y="824"/>
                </a:cubicBezTo>
                <a:cubicBezTo>
                  <a:pt x="0" y="726"/>
                  <a:pt x="45" y="514"/>
                  <a:pt x="113" y="416"/>
                </a:cubicBezTo>
                <a:cubicBezTo>
                  <a:pt x="181" y="318"/>
                  <a:pt x="250" y="273"/>
                  <a:pt x="431" y="235"/>
                </a:cubicBezTo>
                <a:cubicBezTo>
                  <a:pt x="612" y="197"/>
                  <a:pt x="968" y="227"/>
                  <a:pt x="1202" y="189"/>
                </a:cubicBezTo>
                <a:cubicBezTo>
                  <a:pt x="1436" y="151"/>
                  <a:pt x="1663" y="0"/>
                  <a:pt x="1837" y="8"/>
                </a:cubicBezTo>
                <a:cubicBezTo>
                  <a:pt x="2011" y="16"/>
                  <a:pt x="2154" y="122"/>
                  <a:pt x="2245" y="235"/>
                </a:cubicBezTo>
                <a:cubicBezTo>
                  <a:pt x="2336" y="348"/>
                  <a:pt x="2381" y="552"/>
                  <a:pt x="2381" y="688"/>
                </a:cubicBezTo>
                <a:cubicBezTo>
                  <a:pt x="2381" y="824"/>
                  <a:pt x="2313" y="937"/>
                  <a:pt x="2245" y="105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1080" y="1700280"/>
            <a:ext cx="861012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Arial"/>
              </a:rPr>
              <a:t>Accepted substandard?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0" y="404640"/>
            <a:ext cx="1871640" cy="503280"/>
          </a:xfrm>
          <a:prstGeom prst="cloudCallout">
            <a:avLst>
              <a:gd name="adj1" fmla="val 1060"/>
              <a:gd name="adj2" fmla="val 14986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81080" y="5373720"/>
            <a:ext cx="93250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39640" y="2276640"/>
            <a:ext cx="1152720" cy="431640"/>
            <a:chOff x="539640" y="2276640"/>
            <a:chExt cx="1152720" cy="431640"/>
          </a:xfrm>
        </p:grpSpPr>
        <p:sp>
          <p:nvSpPr>
            <p:cNvPr id="87" name=""/>
            <p:cNvSpPr/>
            <p:nvPr/>
          </p:nvSpPr>
          <p:spPr>
            <a:xfrm flipH="1">
              <a:off x="539640" y="2546640"/>
              <a:ext cx="1152720" cy="161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736200" y="2494080"/>
              <a:ext cx="955800" cy="1764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377720" y="2502000"/>
              <a:ext cx="245880" cy="1508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39280" y="2276640"/>
              <a:ext cx="39960" cy="27000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080720" y="2345040"/>
              <a:ext cx="196920" cy="17928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228320" y="2502000"/>
              <a:ext cx="335160" cy="7956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87240" y="2298960"/>
              <a:ext cx="49320" cy="247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228680" y="2581560"/>
              <a:ext cx="168480" cy="219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397160" y="2502000"/>
              <a:ext cx="236520" cy="79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563840" y="2490840"/>
              <a:ext cx="79200" cy="111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69520" y="2276640"/>
              <a:ext cx="136440" cy="223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35280" y="4149720"/>
            <a:ext cx="6408720" cy="1343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16000" y="18900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wn decis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3357720"/>
            <a:ext cx="6119640" cy="647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771640" y="2781360"/>
            <a:ext cx="1152720" cy="431640"/>
            <a:chOff x="2771640" y="2781360"/>
            <a:chExt cx="1152720" cy="431640"/>
          </a:xfrm>
        </p:grpSpPr>
        <p:sp>
          <p:nvSpPr>
            <p:cNvPr id="102" name=""/>
            <p:cNvSpPr/>
            <p:nvPr/>
          </p:nvSpPr>
          <p:spPr>
            <a:xfrm flipH="1">
              <a:off x="2771640" y="3051360"/>
              <a:ext cx="1152720" cy="161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968200" y="2998800"/>
              <a:ext cx="955800" cy="1764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09720" y="3006720"/>
              <a:ext cx="245880" cy="1508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771280" y="2781360"/>
              <a:ext cx="39960" cy="27000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312720" y="2849760"/>
              <a:ext cx="196920" cy="17928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460320" y="3006720"/>
              <a:ext cx="335160" cy="7956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2919240" y="2803680"/>
              <a:ext cx="49320" cy="247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460680" y="3086280"/>
              <a:ext cx="168480" cy="219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629160" y="3006720"/>
              <a:ext cx="236520" cy="79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795840" y="2995560"/>
              <a:ext cx="79200" cy="11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01520" y="2781360"/>
              <a:ext cx="136440" cy="223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987640" y="2205000"/>
            <a:ext cx="1152720" cy="431640"/>
            <a:chOff x="2987640" y="2205000"/>
            <a:chExt cx="1152720" cy="431640"/>
          </a:xfrm>
        </p:grpSpPr>
        <p:sp>
          <p:nvSpPr>
            <p:cNvPr id="114" name=""/>
            <p:cNvSpPr/>
            <p:nvPr/>
          </p:nvSpPr>
          <p:spPr>
            <a:xfrm flipH="1">
              <a:off x="2987640" y="2475000"/>
              <a:ext cx="1152720" cy="161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184200" y="2422440"/>
              <a:ext cx="955800" cy="1764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825720" y="2430360"/>
              <a:ext cx="245880" cy="1508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87280" y="2205000"/>
              <a:ext cx="39960" cy="27000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528720" y="2273400"/>
              <a:ext cx="196920" cy="17928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676320" y="2430360"/>
              <a:ext cx="335160" cy="7956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3135240" y="2227320"/>
              <a:ext cx="49320" cy="2476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676680" y="2509920"/>
              <a:ext cx="168480" cy="219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845160" y="2430360"/>
              <a:ext cx="236520" cy="79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011840" y="2419200"/>
              <a:ext cx="79200" cy="1116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017520" y="2205000"/>
              <a:ext cx="136440" cy="223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140000" y="2708280"/>
            <a:ext cx="1152360" cy="431640"/>
            <a:chOff x="4140000" y="2708280"/>
            <a:chExt cx="1152360" cy="431640"/>
          </a:xfrm>
        </p:grpSpPr>
        <p:sp>
          <p:nvSpPr>
            <p:cNvPr id="126" name=""/>
            <p:cNvSpPr/>
            <p:nvPr/>
          </p:nvSpPr>
          <p:spPr>
            <a:xfrm flipH="1">
              <a:off x="4139640" y="2978280"/>
              <a:ext cx="1152360" cy="161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336920" y="2925720"/>
              <a:ext cx="955440" cy="1764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978800" y="2933640"/>
              <a:ext cx="245520" cy="1508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140360" y="2708280"/>
              <a:ext cx="39600" cy="27000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681800" y="2776680"/>
              <a:ext cx="196560" cy="17928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829400" y="2933640"/>
              <a:ext cx="334800" cy="7956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4287960" y="2730600"/>
              <a:ext cx="48960" cy="247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829040" y="3013200"/>
              <a:ext cx="168120" cy="219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997880" y="2933640"/>
              <a:ext cx="236160" cy="79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164200" y="2922480"/>
              <a:ext cx="78840" cy="1116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170600" y="2708280"/>
              <a:ext cx="136080" cy="2232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258920" y="1268280"/>
            <a:ext cx="4932360" cy="649440"/>
          </a:xfrm>
          <a:prstGeom prst="wedgeRoundRectCallout">
            <a:avLst>
              <a:gd name="adj1" fmla="val -45527"/>
              <a:gd name="adj2" fmla="val 139731"/>
              <a:gd name="adj3" fmla="val 16667"/>
            </a:avLst>
          </a:prstGeom>
          <a:solidFill>
            <a:srgbClr val="3333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f they go then I g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0" y="404640"/>
            <a:ext cx="1871640" cy="503280"/>
          </a:xfrm>
          <a:prstGeom prst="cloudCallout">
            <a:avLst>
              <a:gd name="adj1" fmla="val 1060"/>
              <a:gd name="adj2" fmla="val 14986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181080" y="5373720"/>
            <a:ext cx="93250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9640" y="2276640"/>
            <a:ext cx="1152720" cy="431640"/>
            <a:chOff x="539640" y="2276640"/>
            <a:chExt cx="1152720" cy="431640"/>
          </a:xfrm>
        </p:grpSpPr>
        <p:sp>
          <p:nvSpPr>
            <p:cNvPr id="141" name=""/>
            <p:cNvSpPr/>
            <p:nvPr/>
          </p:nvSpPr>
          <p:spPr>
            <a:xfrm flipH="1">
              <a:off x="539640" y="2546640"/>
              <a:ext cx="1152720" cy="161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36200" y="2494080"/>
              <a:ext cx="955800" cy="1764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377720" y="2502000"/>
              <a:ext cx="245880" cy="1508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39280" y="2276640"/>
              <a:ext cx="39960" cy="27000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080720" y="2345040"/>
              <a:ext cx="196920" cy="17928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228320" y="2502000"/>
              <a:ext cx="335160" cy="7956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87240" y="2298960"/>
              <a:ext cx="49320" cy="247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228680" y="2581560"/>
              <a:ext cx="168480" cy="219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97160" y="2502000"/>
              <a:ext cx="236520" cy="79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563840" y="2490840"/>
              <a:ext cx="79200" cy="111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69520" y="2276640"/>
              <a:ext cx="136440" cy="223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35280" y="4149720"/>
            <a:ext cx="6408720" cy="1343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18900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wn decis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00360" y="3357720"/>
            <a:ext cx="6119640" cy="647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771640" y="2781360"/>
            <a:ext cx="1152720" cy="431640"/>
            <a:chOff x="2771640" y="2781360"/>
            <a:chExt cx="1152720" cy="431640"/>
          </a:xfrm>
        </p:grpSpPr>
        <p:sp>
          <p:nvSpPr>
            <p:cNvPr id="156" name=""/>
            <p:cNvSpPr/>
            <p:nvPr/>
          </p:nvSpPr>
          <p:spPr>
            <a:xfrm flipH="1">
              <a:off x="2771640" y="3051360"/>
              <a:ext cx="1152720" cy="161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2968200" y="2998800"/>
              <a:ext cx="955800" cy="1764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609720" y="3006720"/>
              <a:ext cx="245880" cy="1508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771280" y="2781360"/>
              <a:ext cx="39960" cy="27000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312720" y="2849760"/>
              <a:ext cx="196920" cy="17928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460320" y="3006720"/>
              <a:ext cx="335160" cy="7956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919240" y="2803680"/>
              <a:ext cx="49320" cy="247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460680" y="3086280"/>
              <a:ext cx="168480" cy="219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629160" y="3006720"/>
              <a:ext cx="236520" cy="79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795840" y="2995560"/>
              <a:ext cx="79200" cy="11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801520" y="2781360"/>
              <a:ext cx="136440" cy="223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987640" y="2205000"/>
            <a:ext cx="1152720" cy="431640"/>
            <a:chOff x="2987640" y="2205000"/>
            <a:chExt cx="1152720" cy="431640"/>
          </a:xfrm>
        </p:grpSpPr>
        <p:sp>
          <p:nvSpPr>
            <p:cNvPr id="168" name=""/>
            <p:cNvSpPr/>
            <p:nvPr/>
          </p:nvSpPr>
          <p:spPr>
            <a:xfrm flipH="1">
              <a:off x="2987640" y="2475000"/>
              <a:ext cx="1152720" cy="161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184200" y="2422440"/>
              <a:ext cx="955800" cy="1764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825720" y="2430360"/>
              <a:ext cx="245880" cy="1508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987280" y="2205000"/>
              <a:ext cx="39960" cy="27000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528720" y="2273400"/>
              <a:ext cx="196920" cy="17928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76320" y="2430360"/>
              <a:ext cx="335160" cy="7956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3135240" y="2227320"/>
              <a:ext cx="49320" cy="2476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676680" y="2509920"/>
              <a:ext cx="168480" cy="219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845160" y="2430360"/>
              <a:ext cx="236520" cy="79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11840" y="2419200"/>
              <a:ext cx="79200" cy="1116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017520" y="2205000"/>
              <a:ext cx="136440" cy="223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140000" y="2708280"/>
            <a:ext cx="1152360" cy="431640"/>
            <a:chOff x="4140000" y="2708280"/>
            <a:chExt cx="1152360" cy="431640"/>
          </a:xfrm>
        </p:grpSpPr>
        <p:sp>
          <p:nvSpPr>
            <p:cNvPr id="180" name=""/>
            <p:cNvSpPr/>
            <p:nvPr/>
          </p:nvSpPr>
          <p:spPr>
            <a:xfrm flipH="1">
              <a:off x="4139640" y="2978280"/>
              <a:ext cx="1152360" cy="161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336920" y="2925720"/>
              <a:ext cx="955440" cy="1764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978800" y="2933640"/>
              <a:ext cx="245520" cy="1508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140360" y="2708280"/>
              <a:ext cx="39600" cy="27000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681800" y="2776680"/>
              <a:ext cx="196560" cy="17928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829400" y="2933640"/>
              <a:ext cx="334800" cy="7956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287960" y="2730600"/>
              <a:ext cx="48960" cy="247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829040" y="3013200"/>
              <a:ext cx="168120" cy="219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997880" y="2933640"/>
              <a:ext cx="236160" cy="79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164200" y="2922480"/>
              <a:ext cx="78840" cy="1116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170600" y="2708280"/>
              <a:ext cx="136080" cy="2232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258920" y="1268280"/>
            <a:ext cx="4932360" cy="649440"/>
          </a:xfrm>
          <a:prstGeom prst="wedgeRoundRectCallout">
            <a:avLst>
              <a:gd name="adj1" fmla="val 7935"/>
              <a:gd name="adj2" fmla="val 132638"/>
              <a:gd name="adj3" fmla="val 16667"/>
            </a:avLst>
          </a:prstGeom>
          <a:solidFill>
            <a:srgbClr val="3333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f they go then I g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0" y="404640"/>
            <a:ext cx="1871640" cy="503280"/>
          </a:xfrm>
          <a:prstGeom prst="cloudCallout">
            <a:avLst>
              <a:gd name="adj1" fmla="val 1060"/>
              <a:gd name="adj2" fmla="val 14986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181080" y="5373720"/>
            <a:ext cx="93250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10920" y="2276640"/>
            <a:ext cx="1152360" cy="431640"/>
            <a:chOff x="610920" y="2276640"/>
            <a:chExt cx="1152360" cy="431640"/>
          </a:xfrm>
        </p:grpSpPr>
        <p:sp>
          <p:nvSpPr>
            <p:cNvPr id="195" name=""/>
            <p:cNvSpPr/>
            <p:nvPr/>
          </p:nvSpPr>
          <p:spPr>
            <a:xfrm flipH="1">
              <a:off x="610560" y="2546640"/>
              <a:ext cx="1152360" cy="161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07840" y="2494080"/>
              <a:ext cx="955440" cy="1764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449720" y="2502000"/>
              <a:ext cx="245520" cy="1508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11280" y="2276640"/>
              <a:ext cx="39600" cy="27000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152720" y="2345040"/>
              <a:ext cx="196560" cy="17928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300320" y="2502000"/>
              <a:ext cx="334800" cy="7956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758880" y="2298960"/>
              <a:ext cx="48960" cy="247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299960" y="2581560"/>
              <a:ext cx="168120" cy="219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468800" y="2502000"/>
              <a:ext cx="236160" cy="79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635120" y="2490840"/>
              <a:ext cx="78840" cy="111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41520" y="2276640"/>
              <a:ext cx="136080" cy="223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735280" y="4149720"/>
            <a:ext cx="6408720" cy="13431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16000" y="18900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wn decis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00360" y="3357720"/>
            <a:ext cx="6119640" cy="647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771640" y="2781360"/>
            <a:ext cx="1152720" cy="431640"/>
            <a:chOff x="2771640" y="2781360"/>
            <a:chExt cx="1152720" cy="431640"/>
          </a:xfrm>
        </p:grpSpPr>
        <p:sp>
          <p:nvSpPr>
            <p:cNvPr id="210" name=""/>
            <p:cNvSpPr/>
            <p:nvPr/>
          </p:nvSpPr>
          <p:spPr>
            <a:xfrm flipH="1">
              <a:off x="2771640" y="3051360"/>
              <a:ext cx="1152720" cy="161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968200" y="2998800"/>
              <a:ext cx="955800" cy="1764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609720" y="3006720"/>
              <a:ext cx="245880" cy="1508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771280" y="2781360"/>
              <a:ext cx="39960" cy="27000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312720" y="2849760"/>
              <a:ext cx="196920" cy="17928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460320" y="3006720"/>
              <a:ext cx="335160" cy="7956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2919240" y="2803680"/>
              <a:ext cx="49320" cy="247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3460680" y="3086280"/>
              <a:ext cx="168480" cy="219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629160" y="3006720"/>
              <a:ext cx="236520" cy="79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3795840" y="2995560"/>
              <a:ext cx="79200" cy="11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801520" y="2781360"/>
              <a:ext cx="136440" cy="223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987640" y="2205000"/>
            <a:ext cx="1152720" cy="431640"/>
            <a:chOff x="2987640" y="2205000"/>
            <a:chExt cx="1152720" cy="431640"/>
          </a:xfrm>
        </p:grpSpPr>
        <p:sp>
          <p:nvSpPr>
            <p:cNvPr id="222" name=""/>
            <p:cNvSpPr/>
            <p:nvPr/>
          </p:nvSpPr>
          <p:spPr>
            <a:xfrm flipH="1">
              <a:off x="2987640" y="2475000"/>
              <a:ext cx="1152720" cy="161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184200" y="2422440"/>
              <a:ext cx="955800" cy="1764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825720" y="2430360"/>
              <a:ext cx="245880" cy="1508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987280" y="2205000"/>
              <a:ext cx="39960" cy="27000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528720" y="2273400"/>
              <a:ext cx="196920" cy="17928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676320" y="2430360"/>
              <a:ext cx="335160" cy="7956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3135240" y="2227320"/>
              <a:ext cx="49320" cy="2476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676680" y="2509920"/>
              <a:ext cx="168480" cy="219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845160" y="2430360"/>
              <a:ext cx="236520" cy="79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011840" y="2419200"/>
              <a:ext cx="79200" cy="1116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017520" y="2205000"/>
              <a:ext cx="136440" cy="223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140000" y="2708280"/>
            <a:ext cx="1152360" cy="431640"/>
            <a:chOff x="4140000" y="2708280"/>
            <a:chExt cx="1152360" cy="431640"/>
          </a:xfrm>
        </p:grpSpPr>
        <p:sp>
          <p:nvSpPr>
            <p:cNvPr id="234" name=""/>
            <p:cNvSpPr/>
            <p:nvPr/>
          </p:nvSpPr>
          <p:spPr>
            <a:xfrm flipH="1">
              <a:off x="4139640" y="2978280"/>
              <a:ext cx="1152360" cy="161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336920" y="2925720"/>
              <a:ext cx="955440" cy="1764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978800" y="2933640"/>
              <a:ext cx="245520" cy="1508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140360" y="2708280"/>
              <a:ext cx="39600" cy="27000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81800" y="2776680"/>
              <a:ext cx="196560" cy="17928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829400" y="2933640"/>
              <a:ext cx="334800" cy="7956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287960" y="2730600"/>
              <a:ext cx="48960" cy="247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829040" y="3013200"/>
              <a:ext cx="168120" cy="219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997880" y="2933640"/>
              <a:ext cx="236160" cy="79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164200" y="2922480"/>
              <a:ext cx="78840" cy="1116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170600" y="2708280"/>
              <a:ext cx="136080" cy="2232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258920" y="1268280"/>
            <a:ext cx="4932360" cy="649440"/>
          </a:xfrm>
          <a:prstGeom prst="wedgeRoundRectCallout">
            <a:avLst>
              <a:gd name="adj1" fmla="val 29240"/>
              <a:gd name="adj2" fmla="val 200856"/>
              <a:gd name="adj3" fmla="val 16667"/>
            </a:avLst>
          </a:prstGeom>
          <a:solidFill>
            <a:srgbClr val="3333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f they go then I g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0" y="404640"/>
            <a:ext cx="1871640" cy="503280"/>
          </a:xfrm>
          <a:prstGeom prst="cloudCallout">
            <a:avLst>
              <a:gd name="adj1" fmla="val 1060"/>
              <a:gd name="adj2" fmla="val 14986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181080" y="5373720"/>
            <a:ext cx="93250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39640" y="2276640"/>
            <a:ext cx="1152720" cy="431640"/>
            <a:chOff x="539640" y="2276640"/>
            <a:chExt cx="1152720" cy="431640"/>
          </a:xfrm>
        </p:grpSpPr>
        <p:sp>
          <p:nvSpPr>
            <p:cNvPr id="249" name=""/>
            <p:cNvSpPr/>
            <p:nvPr/>
          </p:nvSpPr>
          <p:spPr>
            <a:xfrm flipH="1">
              <a:off x="539640" y="2546640"/>
              <a:ext cx="1152720" cy="161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36200" y="2494080"/>
              <a:ext cx="955800" cy="1764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377720" y="2502000"/>
              <a:ext cx="245880" cy="1508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39280" y="2276640"/>
              <a:ext cx="39960" cy="27000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080720" y="2345040"/>
              <a:ext cx="196920" cy="17928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1228320" y="2502000"/>
              <a:ext cx="335160" cy="7956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687240" y="2298960"/>
              <a:ext cx="49320" cy="247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1228680" y="2581560"/>
              <a:ext cx="168480" cy="219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397160" y="2502000"/>
              <a:ext cx="236520" cy="79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563840" y="2490840"/>
              <a:ext cx="79200" cy="111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69520" y="2276640"/>
              <a:ext cx="136440" cy="223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735280" y="4149720"/>
            <a:ext cx="6408720" cy="1343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116000" y="18900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wn decis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00360" y="3357720"/>
            <a:ext cx="6119640" cy="647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771640" y="2781360"/>
            <a:ext cx="1152720" cy="431640"/>
            <a:chOff x="2771640" y="2781360"/>
            <a:chExt cx="1152720" cy="431640"/>
          </a:xfrm>
        </p:grpSpPr>
        <p:sp>
          <p:nvSpPr>
            <p:cNvPr id="264" name=""/>
            <p:cNvSpPr/>
            <p:nvPr/>
          </p:nvSpPr>
          <p:spPr>
            <a:xfrm flipH="1">
              <a:off x="2771640" y="3051360"/>
              <a:ext cx="1152720" cy="161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968200" y="2998800"/>
              <a:ext cx="955800" cy="1764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609720" y="3006720"/>
              <a:ext cx="245880" cy="1508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771280" y="2781360"/>
              <a:ext cx="39960" cy="27000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312720" y="2849760"/>
              <a:ext cx="196920" cy="17928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460320" y="3006720"/>
              <a:ext cx="335160" cy="7956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2919240" y="2803680"/>
              <a:ext cx="49320" cy="247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460680" y="3086280"/>
              <a:ext cx="168480" cy="219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629160" y="3006720"/>
              <a:ext cx="236520" cy="79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795840" y="2995560"/>
              <a:ext cx="79200" cy="111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801520" y="2781360"/>
              <a:ext cx="136440" cy="223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987640" y="2205000"/>
            <a:ext cx="1152720" cy="431640"/>
            <a:chOff x="2987640" y="2205000"/>
            <a:chExt cx="1152720" cy="431640"/>
          </a:xfrm>
        </p:grpSpPr>
        <p:sp>
          <p:nvSpPr>
            <p:cNvPr id="276" name=""/>
            <p:cNvSpPr/>
            <p:nvPr/>
          </p:nvSpPr>
          <p:spPr>
            <a:xfrm flipH="1">
              <a:off x="2987640" y="2475000"/>
              <a:ext cx="1152720" cy="161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184200" y="2422440"/>
              <a:ext cx="955800" cy="1764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825720" y="2430360"/>
              <a:ext cx="245880" cy="1508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987280" y="2205000"/>
              <a:ext cx="39960" cy="27000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528720" y="2273400"/>
              <a:ext cx="196920" cy="17928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676320" y="2430360"/>
              <a:ext cx="335160" cy="7956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3135240" y="2227320"/>
              <a:ext cx="49320" cy="2476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676680" y="2509920"/>
              <a:ext cx="168480" cy="219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solidFill>
              <a:srgbClr val="ffff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3845160" y="2430360"/>
              <a:ext cx="236520" cy="79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011840" y="2419200"/>
              <a:ext cx="79200" cy="1116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017520" y="2205000"/>
              <a:ext cx="136440" cy="223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140000" y="2708280"/>
            <a:ext cx="1152360" cy="431640"/>
            <a:chOff x="4140000" y="2708280"/>
            <a:chExt cx="1152360" cy="431640"/>
          </a:xfrm>
        </p:grpSpPr>
        <p:sp>
          <p:nvSpPr>
            <p:cNvPr id="288" name=""/>
            <p:cNvSpPr/>
            <p:nvPr/>
          </p:nvSpPr>
          <p:spPr>
            <a:xfrm flipH="1">
              <a:off x="4139640" y="2978280"/>
              <a:ext cx="1152360" cy="16164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336920" y="2925720"/>
              <a:ext cx="955440" cy="1764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978800" y="2933640"/>
              <a:ext cx="245520" cy="15084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140360" y="2708280"/>
              <a:ext cx="39600" cy="27000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681800" y="2776680"/>
              <a:ext cx="196560" cy="17928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829400" y="2933640"/>
              <a:ext cx="334800" cy="7956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287960" y="2730600"/>
              <a:ext cx="48960" cy="247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829040" y="3013200"/>
              <a:ext cx="168120" cy="219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997880" y="2933640"/>
              <a:ext cx="236160" cy="79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164200" y="2922480"/>
              <a:ext cx="78840" cy="1116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170600" y="2708280"/>
              <a:ext cx="136080" cy="2232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258920" y="1268280"/>
            <a:ext cx="4932360" cy="649440"/>
          </a:xfrm>
          <a:prstGeom prst="wedgeRoundRectCallout">
            <a:avLst>
              <a:gd name="adj1" fmla="val -722"/>
              <a:gd name="adj2" fmla="val 224328"/>
              <a:gd name="adj3" fmla="val 16667"/>
            </a:avLst>
          </a:prstGeom>
          <a:solidFill>
            <a:srgbClr val="3333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f they go then I g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00"/>
                </a:solidFill>
                <a:latin typeface="Arial"/>
              </a:rPr>
              <a:t>Up hill lan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250560" y="3068280"/>
            <a:ext cx="3600360" cy="25210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5589720"/>
            <a:ext cx="1944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558560" y="2798640"/>
            <a:ext cx="1378440" cy="900000"/>
            <a:chOff x="7558560" y="2798640"/>
            <a:chExt cx="1378440" cy="900000"/>
          </a:xfrm>
        </p:grpSpPr>
        <p:sp>
          <p:nvSpPr>
            <p:cNvPr id="304" name=""/>
            <p:cNvSpPr/>
            <p:nvPr/>
          </p:nvSpPr>
          <p:spPr>
            <a:xfrm rot="20521200">
              <a:off x="7572960" y="3303720"/>
              <a:ext cx="1368000" cy="18828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521200">
              <a:off x="7562160" y="3281400"/>
              <a:ext cx="1134360" cy="2052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0521200">
              <a:off x="7658280" y="3395880"/>
              <a:ext cx="291600" cy="17568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0521200">
              <a:off x="8784000" y="2797920"/>
              <a:ext cx="47160" cy="31428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20521200">
              <a:off x="7999200" y="3103200"/>
              <a:ext cx="233640" cy="20880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20521200">
              <a:off x="7710840" y="3359880"/>
              <a:ext cx="397800" cy="9252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8622720" y="2876760"/>
              <a:ext cx="33840" cy="292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20521200">
              <a:off x="7922160" y="3418560"/>
              <a:ext cx="199800" cy="255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27680" y="3449160"/>
              <a:ext cx="2952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20521200">
              <a:off x="7612560" y="3425040"/>
              <a:ext cx="93960" cy="12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521200">
              <a:off x="8593560" y="2833560"/>
              <a:ext cx="161640" cy="259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685480" y="3877920"/>
            <a:ext cx="1378440" cy="900360"/>
            <a:chOff x="5685480" y="3877920"/>
            <a:chExt cx="1378440" cy="900360"/>
          </a:xfrm>
        </p:grpSpPr>
        <p:sp>
          <p:nvSpPr>
            <p:cNvPr id="316" name=""/>
            <p:cNvSpPr/>
            <p:nvPr/>
          </p:nvSpPr>
          <p:spPr>
            <a:xfrm rot="20521200">
              <a:off x="5699880" y="4383360"/>
              <a:ext cx="1368000" cy="18828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0521200">
              <a:off x="5689440" y="4361040"/>
              <a:ext cx="1134360" cy="20556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20521200">
              <a:off x="5785200" y="4475160"/>
              <a:ext cx="291600" cy="17568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20521200">
              <a:off x="6910920" y="3877200"/>
              <a:ext cx="47160" cy="31464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0521200">
              <a:off x="6125760" y="4182480"/>
              <a:ext cx="233640" cy="20880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0521200">
              <a:off x="5837400" y="4439160"/>
              <a:ext cx="397800" cy="9252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6749640" y="3956400"/>
              <a:ext cx="33840" cy="292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20521200">
              <a:off x="6049080" y="4498200"/>
              <a:ext cx="199800" cy="255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54600" y="4528440"/>
              <a:ext cx="2952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521200">
              <a:off x="5739480" y="4504320"/>
              <a:ext cx="93960" cy="12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20521200">
              <a:off x="6720480" y="3912840"/>
              <a:ext cx="161640" cy="259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317400" y="4560480"/>
            <a:ext cx="1429200" cy="553680"/>
            <a:chOff x="3317400" y="4560480"/>
            <a:chExt cx="1429200" cy="553680"/>
          </a:xfrm>
        </p:grpSpPr>
        <p:sp>
          <p:nvSpPr>
            <p:cNvPr id="328" name=""/>
            <p:cNvSpPr/>
            <p:nvPr/>
          </p:nvSpPr>
          <p:spPr>
            <a:xfrm rot="534000">
              <a:off x="3323520" y="4820760"/>
              <a:ext cx="1368000" cy="18828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534000">
              <a:off x="3332880" y="4742280"/>
              <a:ext cx="1134360" cy="20520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34000">
              <a:off x="3418920" y="4698720"/>
              <a:ext cx="291600" cy="17568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34000">
              <a:off x="4675320" y="4611600"/>
              <a:ext cx="47160" cy="31428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34000">
              <a:off x="3850920" y="4577040"/>
              <a:ext cx="233640" cy="20880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34000">
              <a:off x="3495240" y="4718520"/>
              <a:ext cx="397800" cy="9252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467240" y="4615560"/>
              <a:ext cx="102240" cy="275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34000">
              <a:off x="3683160" y="4825800"/>
              <a:ext cx="199800" cy="255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23240" y="4676040"/>
              <a:ext cx="262800" cy="13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34000">
              <a:off x="3412440" y="4668120"/>
              <a:ext cx="93960" cy="12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34000">
              <a:off x="4548240" y="4599000"/>
              <a:ext cx="161640" cy="259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97960" y="2909880"/>
            <a:ext cx="1395000" cy="1023120"/>
            <a:chOff x="597960" y="2909880"/>
            <a:chExt cx="1395000" cy="1023120"/>
          </a:xfrm>
        </p:grpSpPr>
        <p:sp>
          <p:nvSpPr>
            <p:cNvPr id="340" name=""/>
            <p:cNvSpPr/>
            <p:nvPr/>
          </p:nvSpPr>
          <p:spPr>
            <a:xfrm rot="2221200">
              <a:off x="516600" y="3351600"/>
              <a:ext cx="1368000" cy="188280"/>
            </a:xfrm>
            <a:custGeom>
              <a:avLst/>
              <a:gdLst/>
              <a:ahLst/>
              <a:rect l="l" t="t" r="r" b="b"/>
              <a:pathLst>
                <a:path w="5307" h="650">
                  <a:moveTo>
                    <a:pt x="0" y="499"/>
                  </a:moveTo>
                  <a:cubicBezTo>
                    <a:pt x="15" y="537"/>
                    <a:pt x="31" y="575"/>
                    <a:pt x="91" y="590"/>
                  </a:cubicBezTo>
                  <a:cubicBezTo>
                    <a:pt x="151" y="605"/>
                    <a:pt x="220" y="583"/>
                    <a:pt x="363" y="590"/>
                  </a:cubicBezTo>
                  <a:cubicBezTo>
                    <a:pt x="506" y="597"/>
                    <a:pt x="793" y="628"/>
                    <a:pt x="952" y="635"/>
                  </a:cubicBezTo>
                  <a:cubicBezTo>
                    <a:pt x="1111" y="642"/>
                    <a:pt x="1179" y="650"/>
                    <a:pt x="1315" y="635"/>
                  </a:cubicBezTo>
                  <a:cubicBezTo>
                    <a:pt x="1451" y="620"/>
                    <a:pt x="1550" y="598"/>
                    <a:pt x="1769" y="545"/>
                  </a:cubicBezTo>
                  <a:cubicBezTo>
                    <a:pt x="1988" y="492"/>
                    <a:pt x="2389" y="371"/>
                    <a:pt x="2631" y="318"/>
                  </a:cubicBezTo>
                  <a:cubicBezTo>
                    <a:pt x="2873" y="265"/>
                    <a:pt x="3016" y="250"/>
                    <a:pt x="3220" y="227"/>
                  </a:cubicBezTo>
                  <a:cubicBezTo>
                    <a:pt x="3424" y="204"/>
                    <a:pt x="3651" y="197"/>
                    <a:pt x="3855" y="182"/>
                  </a:cubicBezTo>
                  <a:cubicBezTo>
                    <a:pt x="4059" y="167"/>
                    <a:pt x="4301" y="152"/>
                    <a:pt x="4445" y="137"/>
                  </a:cubicBezTo>
                  <a:cubicBezTo>
                    <a:pt x="4589" y="122"/>
                    <a:pt x="4641" y="91"/>
                    <a:pt x="4717" y="91"/>
                  </a:cubicBezTo>
                  <a:cubicBezTo>
                    <a:pt x="4793" y="91"/>
                    <a:pt x="4838" y="145"/>
                    <a:pt x="4899" y="137"/>
                  </a:cubicBezTo>
                  <a:cubicBezTo>
                    <a:pt x="4960" y="129"/>
                    <a:pt x="5012" y="69"/>
                    <a:pt x="5080" y="46"/>
                  </a:cubicBezTo>
                  <a:cubicBezTo>
                    <a:pt x="5148" y="23"/>
                    <a:pt x="5227" y="11"/>
                    <a:pt x="5307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221200">
              <a:off x="571680" y="3230640"/>
              <a:ext cx="1134360" cy="205560"/>
            </a:xfrm>
            <a:custGeom>
              <a:avLst/>
              <a:gdLst/>
              <a:ahLst/>
              <a:rect l="l" t="t" r="r" b="b"/>
              <a:pathLst>
                <a:path w="4400" h="710">
                  <a:moveTo>
                    <a:pt x="0" y="710"/>
                  </a:moveTo>
                  <a:cubicBezTo>
                    <a:pt x="15" y="691"/>
                    <a:pt x="30" y="673"/>
                    <a:pt x="91" y="620"/>
                  </a:cubicBezTo>
                  <a:cubicBezTo>
                    <a:pt x="152" y="567"/>
                    <a:pt x="272" y="461"/>
                    <a:pt x="363" y="393"/>
                  </a:cubicBezTo>
                  <a:cubicBezTo>
                    <a:pt x="454" y="325"/>
                    <a:pt x="491" y="272"/>
                    <a:pt x="635" y="211"/>
                  </a:cubicBezTo>
                  <a:cubicBezTo>
                    <a:pt x="779" y="150"/>
                    <a:pt x="1029" y="60"/>
                    <a:pt x="1225" y="30"/>
                  </a:cubicBezTo>
                  <a:cubicBezTo>
                    <a:pt x="1421" y="0"/>
                    <a:pt x="1663" y="23"/>
                    <a:pt x="1814" y="30"/>
                  </a:cubicBezTo>
                  <a:cubicBezTo>
                    <a:pt x="1965" y="37"/>
                    <a:pt x="1988" y="52"/>
                    <a:pt x="2132" y="75"/>
                  </a:cubicBezTo>
                  <a:cubicBezTo>
                    <a:pt x="2276" y="98"/>
                    <a:pt x="2472" y="151"/>
                    <a:pt x="2676" y="166"/>
                  </a:cubicBezTo>
                  <a:cubicBezTo>
                    <a:pt x="2880" y="181"/>
                    <a:pt x="3129" y="159"/>
                    <a:pt x="3356" y="166"/>
                  </a:cubicBezTo>
                  <a:cubicBezTo>
                    <a:pt x="3583" y="173"/>
                    <a:pt x="3863" y="204"/>
                    <a:pt x="4037" y="211"/>
                  </a:cubicBezTo>
                  <a:cubicBezTo>
                    <a:pt x="4211" y="218"/>
                    <a:pt x="4305" y="214"/>
                    <a:pt x="4400" y="21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2221200">
              <a:off x="725040" y="3035520"/>
              <a:ext cx="291600" cy="175680"/>
            </a:xfrm>
            <a:custGeom>
              <a:avLst/>
              <a:gdLst/>
              <a:ahLst/>
              <a:rect l="l" t="t" r="r" b="b"/>
              <a:pathLst>
                <a:path w="1127" h="605">
                  <a:moveTo>
                    <a:pt x="1089" y="0"/>
                  </a:moveTo>
                  <a:cubicBezTo>
                    <a:pt x="1108" y="140"/>
                    <a:pt x="1127" y="280"/>
                    <a:pt x="1044" y="363"/>
                  </a:cubicBezTo>
                  <a:cubicBezTo>
                    <a:pt x="961" y="446"/>
                    <a:pt x="719" y="461"/>
                    <a:pt x="590" y="499"/>
                  </a:cubicBezTo>
                  <a:cubicBezTo>
                    <a:pt x="461" y="537"/>
                    <a:pt x="370" y="605"/>
                    <a:pt x="272" y="590"/>
                  </a:cubicBezTo>
                  <a:cubicBezTo>
                    <a:pt x="174" y="575"/>
                    <a:pt x="87" y="491"/>
                    <a:pt x="0" y="4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2221200">
              <a:off x="1855440" y="3485160"/>
              <a:ext cx="47160" cy="314640"/>
            </a:xfrm>
            <a:custGeom>
              <a:avLst/>
              <a:gdLst/>
              <a:ahLst/>
              <a:rect l="l" t="t" r="r" b="b"/>
              <a:pathLst>
                <a:path w="182" h="1088">
                  <a:moveTo>
                    <a:pt x="182" y="1088"/>
                  </a:moveTo>
                  <a:cubicBezTo>
                    <a:pt x="182" y="1088"/>
                    <a:pt x="91" y="544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2221200">
              <a:off x="1158480" y="3116160"/>
              <a:ext cx="233640" cy="208800"/>
            </a:xfrm>
            <a:custGeom>
              <a:avLst/>
              <a:gdLst/>
              <a:ahLst/>
              <a:rect l="l" t="t" r="r" b="b"/>
              <a:pathLst>
                <a:path w="907" h="726">
                  <a:moveTo>
                    <a:pt x="499" y="726"/>
                  </a:moveTo>
                  <a:cubicBezTo>
                    <a:pt x="658" y="484"/>
                    <a:pt x="817" y="242"/>
                    <a:pt x="862" y="136"/>
                  </a:cubicBezTo>
                  <a:cubicBezTo>
                    <a:pt x="907" y="30"/>
                    <a:pt x="816" y="98"/>
                    <a:pt x="771" y="91"/>
                  </a:cubicBezTo>
                  <a:cubicBezTo>
                    <a:pt x="726" y="84"/>
                    <a:pt x="719" y="0"/>
                    <a:pt x="590" y="91"/>
                  </a:cubicBezTo>
                  <a:cubicBezTo>
                    <a:pt x="461" y="182"/>
                    <a:pt x="230" y="408"/>
                    <a:pt x="0" y="63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221200">
              <a:off x="796320" y="3119040"/>
              <a:ext cx="397800" cy="92520"/>
            </a:xfrm>
            <a:custGeom>
              <a:avLst/>
              <a:gdLst/>
              <a:ahLst/>
              <a:rect l="l" t="t" r="r" b="b"/>
              <a:pathLst>
                <a:path w="1543" h="318">
                  <a:moveTo>
                    <a:pt x="1543" y="318"/>
                  </a:moveTo>
                  <a:cubicBezTo>
                    <a:pt x="900" y="185"/>
                    <a:pt x="257" y="53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616760" y="3446280"/>
              <a:ext cx="220680" cy="19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2221200">
              <a:off x="938160" y="3259440"/>
              <a:ext cx="199800" cy="25560"/>
            </a:xfrm>
            <a:custGeom>
              <a:avLst/>
              <a:gdLst/>
              <a:ahLst/>
              <a:rect l="l" t="t" r="r" b="b"/>
              <a:pathLst>
                <a:path w="771" h="90">
                  <a:moveTo>
                    <a:pt x="771" y="0"/>
                  </a:moveTo>
                  <a:cubicBezTo>
                    <a:pt x="608" y="45"/>
                    <a:pt x="445" y="90"/>
                    <a:pt x="317" y="90"/>
                  </a:cubicBezTo>
                  <a:cubicBezTo>
                    <a:pt x="189" y="90"/>
                    <a:pt x="94" y="45"/>
                    <a:pt x="0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8120" y="2958840"/>
              <a:ext cx="168120" cy="24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2221200">
              <a:off x="783360" y="2968560"/>
              <a:ext cx="93960" cy="12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2221200">
              <a:off x="1811160" y="3457800"/>
              <a:ext cx="161640" cy="259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 flipH="1">
            <a:off x="324000" y="5589720"/>
            <a:ext cx="3240000" cy="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15:57:14Z</dcterms:created>
  <dc:creator>sh</dc:creator>
  <dc:description/>
  <dc:language>en-US</dc:language>
  <cp:lastModifiedBy>sh</cp:lastModifiedBy>
  <dcterms:modified xsi:type="dcterms:W3CDTF">2006-06-20T13:10:20Z</dcterms:modified>
  <cp:revision>4</cp:revision>
  <dc:subject/>
  <dc:title>Outlandin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95476190</vt:r8>
  </property>
  <property fmtid="{D5CDD505-2E9C-101B-9397-08002B2CF9AE}" pid="3" name="_AuthorEmail">
    <vt:lpwstr>sh@havkom.se</vt:lpwstr>
  </property>
  <property fmtid="{D5CDD505-2E9C-101B-9397-08002B2CF9AE}" pid="4" name="_AuthorEmailDisplayName">
    <vt:lpwstr>Sakari Havbrandt</vt:lpwstr>
  </property>
  <property fmtid="{D5CDD505-2E9C-101B-9397-08002B2CF9AE}" pid="5" name="_EmailSubject">
    <vt:lpwstr>Downloads</vt:lpwstr>
  </property>
</Properties>
</file>