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D1C-088B-49D4-B901-46238F89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0EE-D061-4F56-80AF-101BC8F9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577-EEEC-4130-BA18-3CB5FA62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AB86-0B38-4A9F-9BB1-37915E12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959B-2939-437C-AD23-38BE1FDF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0BC4-D9F2-426B-B92A-1602A17F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644E-65BD-446F-9D06-74AD784A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F038-35BC-498F-8EB7-EE23A58B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1C3A-DCD3-476C-86A7-FC8E7E7E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514C-7080-45B0-9EAE-D4EF7C55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5F0C-38FA-4652-8C7A-A000719B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41C-EA87-42A5-A9F9-721D70A5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844C-AAAB-4285-9C1C-305FDB8D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3885-EA4D-4D9A-AB27-4FDDFCD8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CC0A-B275-4E81-BA79-78024A9D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64AC-3DA3-4DEE-A0CB-90A7866A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6476-F18E-4114-B1D1-C2F5DD48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F854-4870-4AD2-94AC-035929C6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2F59F-909D-4734-A732-C0F7EAB9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1DBF1-AF60-4781-BD93-51B46E4B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A7125-8183-44E4-BA24-EA8063A1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51D9-B3BA-404E-8536-7246834F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027-1BEC-4AB4-ACBB-9ADA230B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70B28-A546-451E-B826-B83F0631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01F33-CA2E-4277-8643-900A61D6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7C340-5734-40E8-8E4C-E5052414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EAEC8-37BF-4B31-822E-C1C468E1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5AE5-E8EE-4614-8AB3-BED757BC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FD6D4-7BF7-4946-9E17-A4DA0654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15BC-98EA-4BA6-940F-C5AFF8F7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DF2-BA1F-4784-B4B3-BC9A0D48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7E2-FCEA-4585-A199-4BDD4FEF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3EE-E070-4D86-B703-A35A4BBB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EC3-FA0E-4062-A04A-7E3884EF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C64-5869-4D99-9320-CC3D288D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85C-7352-48E7-8DDC-F12240BA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F0AF-D208-4196-9387-831382717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9BCF-C66D-4A0D-B3FE-57FE82DFD9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AB76-32CA-442E-AADE-E8BED76458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ry International Air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 Operation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space and Terrain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335268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581280"/>
            <a:ext cx="5029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4632600">
            <a:off x="1850040" y="36338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5521400">
            <a:off x="5956200" y="2922120"/>
            <a:ext cx="13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8680" y="228600"/>
            <a:ext cx="62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hts at Perry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90880" y="4154400"/>
            <a:ext cx="77032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l into landing pattern with tow planes on north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 in the same direction as the tow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i off to the north side of the run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the contour drop at the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in there until all camp gliders laun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2057400"/>
            <a:ext cx="2057400" cy="1460520"/>
          </a:xfrm>
          <a:custGeom>
            <a:avLst/>
            <a:gdLst/>
            <a:ahLst/>
            <a:rect l="l" t="t" r="r" b="b"/>
            <a:pathLst>
              <a:path w="1296" h="920">
                <a:moveTo>
                  <a:pt x="0" y="96"/>
                </a:moveTo>
                <a:cubicBezTo>
                  <a:pt x="292" y="48"/>
                  <a:pt x="584" y="0"/>
                  <a:pt x="768" y="0"/>
                </a:cubicBezTo>
                <a:cubicBezTo>
                  <a:pt x="952" y="0"/>
                  <a:pt x="1032" y="32"/>
                  <a:pt x="1104" y="96"/>
                </a:cubicBezTo>
                <a:cubicBezTo>
                  <a:pt x="1176" y="160"/>
                  <a:pt x="1176" y="296"/>
                  <a:pt x="1200" y="384"/>
                </a:cubicBezTo>
                <a:cubicBezTo>
                  <a:pt x="1224" y="472"/>
                  <a:pt x="1296" y="560"/>
                  <a:pt x="1248" y="624"/>
                </a:cubicBezTo>
                <a:cubicBezTo>
                  <a:pt x="1200" y="688"/>
                  <a:pt x="1040" y="728"/>
                  <a:pt x="912" y="768"/>
                </a:cubicBezTo>
                <a:cubicBezTo>
                  <a:pt x="784" y="808"/>
                  <a:pt x="600" y="840"/>
                  <a:pt x="480" y="864"/>
                </a:cubicBezTo>
                <a:cubicBezTo>
                  <a:pt x="360" y="888"/>
                  <a:pt x="264" y="904"/>
                  <a:pt x="192" y="912"/>
                </a:cubicBezTo>
                <a:cubicBezTo>
                  <a:pt x="120" y="920"/>
                  <a:pt x="80" y="920"/>
                  <a:pt x="48" y="912"/>
                </a:cubicBezTo>
                <a:cubicBezTo>
                  <a:pt x="16" y="904"/>
                  <a:pt x="8" y="884"/>
                  <a:pt x="0" y="864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78040" y="2438280"/>
            <a:ext cx="2654280" cy="156240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040" y="0"/>
                </a:moveTo>
                <a:cubicBezTo>
                  <a:pt x="868" y="32"/>
                  <a:pt x="696" y="64"/>
                  <a:pt x="560" y="96"/>
                </a:cubicBezTo>
                <a:cubicBezTo>
                  <a:pt x="424" y="128"/>
                  <a:pt x="312" y="144"/>
                  <a:pt x="224" y="192"/>
                </a:cubicBezTo>
                <a:cubicBezTo>
                  <a:pt x="136" y="240"/>
                  <a:pt x="64" y="312"/>
                  <a:pt x="32" y="384"/>
                </a:cubicBezTo>
                <a:cubicBezTo>
                  <a:pt x="0" y="456"/>
                  <a:pt x="32" y="552"/>
                  <a:pt x="32" y="624"/>
                </a:cubicBezTo>
                <a:cubicBezTo>
                  <a:pt x="32" y="696"/>
                  <a:pt x="16" y="760"/>
                  <a:pt x="32" y="816"/>
                </a:cubicBezTo>
                <a:cubicBezTo>
                  <a:pt x="48" y="872"/>
                  <a:pt x="80" y="936"/>
                  <a:pt x="128" y="960"/>
                </a:cubicBezTo>
                <a:cubicBezTo>
                  <a:pt x="176" y="984"/>
                  <a:pt x="256" y="960"/>
                  <a:pt x="320" y="960"/>
                </a:cubicBezTo>
                <a:cubicBezTo>
                  <a:pt x="384" y="960"/>
                  <a:pt x="400" y="976"/>
                  <a:pt x="512" y="960"/>
                </a:cubicBezTo>
                <a:cubicBezTo>
                  <a:pt x="624" y="944"/>
                  <a:pt x="832" y="896"/>
                  <a:pt x="992" y="864"/>
                </a:cubicBezTo>
                <a:cubicBezTo>
                  <a:pt x="1152" y="832"/>
                  <a:pt x="1368" y="792"/>
                  <a:pt x="1472" y="768"/>
                </a:cubicBezTo>
                <a:cubicBezTo>
                  <a:pt x="1576" y="744"/>
                  <a:pt x="1584" y="736"/>
                  <a:pt x="1616" y="720"/>
                </a:cubicBezTo>
                <a:cubicBezTo>
                  <a:pt x="1648" y="704"/>
                  <a:pt x="1656" y="688"/>
                  <a:pt x="1664" y="672"/>
                </a:cubicBezTo>
                <a:cubicBezTo>
                  <a:pt x="1672" y="656"/>
                  <a:pt x="1656" y="632"/>
                  <a:pt x="1664" y="624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759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ows to 2000’ A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e before 9:30 – no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s’ meeting at 9:30 AM sh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/Task  briefing at 11: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 time is 11:30 AM sh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nch when sniffers indicate sustainable 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-83808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996800" y="1905120"/>
            <a:ext cx="33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umbia Clas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0600" y="5878440"/>
            <a:ext cx="27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gusta Class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9280" y="4659480"/>
            <a:ext cx="29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 Auxilli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55080" y="15840"/>
            <a:ext cx="46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Perry Air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43320" y="3313080"/>
            <a:ext cx="14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3581280"/>
            <a:ext cx="1371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-1447920" y="-106668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2120" y="1219320"/>
            <a:ext cx="36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rtenburg Clas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64040" y="304920"/>
            <a:ext cx="30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of P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82400" y="4267080"/>
            <a:ext cx="33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umbia Clas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48200" y="58672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6248520"/>
            <a:ext cx="152640" cy="304560"/>
          </a:xfrm>
          <a:prstGeom prst="line">
            <a:avLst/>
          </a:prstGeom>
          <a:ln w="158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629080" y="99072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1219320"/>
            <a:ext cx="68580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33840" y="4103640"/>
            <a:ext cx="31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of P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4480" y="4876920"/>
            <a:ext cx="26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ke Plan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742840" y="3885840"/>
            <a:ext cx="762120" cy="1066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54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03480" y="701640"/>
            <a:ext cx="7407000" cy="37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ry Terrain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lakes to the north, south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the wind for lake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, more moist, and weaker 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uth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ily forested to the southwes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the nuke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-1371600" y="-762120"/>
            <a:ext cx="12192120" cy="9753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51840" y="2743200"/>
            <a:ext cx="21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ke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28954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46080" y="5192640"/>
            <a:ext cx="174636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11440" y="564984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vily fo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00480" y="4913280"/>
            <a:ext cx="14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518148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44720" y="141120"/>
            <a:ext cx="42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Terrai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3276720"/>
            <a:ext cx="76320" cy="1066680"/>
          </a:xfrm>
          <a:prstGeom prst="downArrow">
            <a:avLst>
              <a:gd name="adj1" fmla="val 50000"/>
              <a:gd name="adj2" fmla="val 3494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2960" y="2855880"/>
            <a:ext cx="2058120" cy="9169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s at either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rews/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north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96080" y="3809880"/>
            <a:ext cx="685800" cy="91440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61760" y="3352680"/>
            <a:ext cx="6095880" cy="152424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640200" y="2819520"/>
            <a:ext cx="2261160" cy="11912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launch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ws/vehicles m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in this area un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-304920" y="685440"/>
            <a:ext cx="7467840" cy="6172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924680" y="403848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523880" y="3429000"/>
            <a:ext cx="51055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657600" y="2666880"/>
            <a:ext cx="4572000" cy="9169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this area clear of vehicles and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360" y="3962160"/>
            <a:ext cx="2590920" cy="2895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V="1">
            <a:off x="4876920" y="2743200"/>
            <a:ext cx="304560" cy="38088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752120" y="2743200"/>
            <a:ext cx="3124440" cy="38088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505320" y="2743200"/>
            <a:ext cx="1371600" cy="38088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629400" y="2895480"/>
            <a:ext cx="2362320" cy="11912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with a re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nsible adult, dogs on leash until tow planes tied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360" y="3962160"/>
            <a:ext cx="259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629400" y="2895480"/>
            <a:ext cx="2362320" cy="9169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clear to a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der access to run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360" y="3962160"/>
            <a:ext cx="2590920" cy="2895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9848600">
            <a:off x="7086240" y="2057040"/>
            <a:ext cx="304920" cy="838080"/>
          </a:xfrm>
          <a:prstGeom prst="upArrow">
            <a:avLst>
              <a:gd name="adj1" fmla="val 50000"/>
              <a:gd name="adj2" fmla="val 687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018400">
            <a:off x="5946480" y="2073240"/>
            <a:ext cx="304560" cy="1143000"/>
          </a:xfrm>
          <a:prstGeom prst="upArrow">
            <a:avLst>
              <a:gd name="adj1" fmla="val 50000"/>
              <a:gd name="adj2" fmla="val 938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20697000">
            <a:off x="3157920" y="3733920"/>
            <a:ext cx="232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erry 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44520" y="2438280"/>
            <a:ext cx="2336760" cy="1676520"/>
          </a:xfrm>
          <a:custGeom>
            <a:avLst/>
            <a:gdLst/>
            <a:ahLst/>
            <a:rect l="l" t="t" r="r" b="b"/>
            <a:pathLst>
              <a:path w="1472" h="1056">
                <a:moveTo>
                  <a:pt x="1472" y="912"/>
                </a:moveTo>
                <a:cubicBezTo>
                  <a:pt x="1292" y="984"/>
                  <a:pt x="1112" y="1056"/>
                  <a:pt x="944" y="1056"/>
                </a:cubicBezTo>
                <a:cubicBezTo>
                  <a:pt x="776" y="1056"/>
                  <a:pt x="584" y="984"/>
                  <a:pt x="464" y="912"/>
                </a:cubicBezTo>
                <a:cubicBezTo>
                  <a:pt x="344" y="840"/>
                  <a:pt x="296" y="736"/>
                  <a:pt x="224" y="624"/>
                </a:cubicBezTo>
                <a:cubicBezTo>
                  <a:pt x="152" y="512"/>
                  <a:pt x="64" y="344"/>
                  <a:pt x="32" y="240"/>
                </a:cubicBezTo>
                <a:cubicBezTo>
                  <a:pt x="0" y="136"/>
                  <a:pt x="16" y="68"/>
                  <a:pt x="32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2133720"/>
            <a:ext cx="609840" cy="1143000"/>
          </a:xfrm>
          <a:custGeom>
            <a:avLst/>
            <a:gdLst/>
            <a:ahLst/>
            <a:rect l="l" t="t" r="r" b="b"/>
            <a:pathLst>
              <a:path w="384" h="720">
                <a:moveTo>
                  <a:pt x="0" y="720"/>
                </a:moveTo>
                <a:cubicBezTo>
                  <a:pt x="16" y="540"/>
                  <a:pt x="32" y="360"/>
                  <a:pt x="96" y="240"/>
                </a:cubicBezTo>
                <a:cubicBezTo>
                  <a:pt x="160" y="120"/>
                  <a:pt x="344" y="40"/>
                  <a:pt x="384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2286000"/>
            <a:ext cx="1600200" cy="1066680"/>
          </a:xfrm>
          <a:custGeom>
            <a:avLst/>
            <a:gdLst/>
            <a:ahLst/>
            <a:rect l="l" t="t" r="r" b="b"/>
            <a:pathLst>
              <a:path w="1008" h="672">
                <a:moveTo>
                  <a:pt x="0" y="672"/>
                </a:moveTo>
                <a:cubicBezTo>
                  <a:pt x="16" y="568"/>
                  <a:pt x="32" y="464"/>
                  <a:pt x="96" y="384"/>
                </a:cubicBezTo>
                <a:cubicBezTo>
                  <a:pt x="160" y="304"/>
                  <a:pt x="264" y="248"/>
                  <a:pt x="384" y="192"/>
                </a:cubicBezTo>
                <a:cubicBezTo>
                  <a:pt x="504" y="136"/>
                  <a:pt x="712" y="80"/>
                  <a:pt x="816" y="48"/>
                </a:cubicBezTo>
                <a:cubicBezTo>
                  <a:pt x="920" y="16"/>
                  <a:pt x="964" y="8"/>
                  <a:pt x="1008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2286000"/>
            <a:ext cx="1206360" cy="1193760"/>
          </a:xfrm>
          <a:custGeom>
            <a:avLst/>
            <a:gdLst/>
            <a:ahLst/>
            <a:rect l="l" t="t" r="r" b="b"/>
            <a:pathLst>
              <a:path w="760" h="752">
                <a:moveTo>
                  <a:pt x="0" y="0"/>
                </a:moveTo>
                <a:cubicBezTo>
                  <a:pt x="180" y="52"/>
                  <a:pt x="360" y="104"/>
                  <a:pt x="480" y="192"/>
                </a:cubicBezTo>
                <a:cubicBezTo>
                  <a:pt x="600" y="280"/>
                  <a:pt x="680" y="440"/>
                  <a:pt x="720" y="528"/>
                </a:cubicBezTo>
                <a:cubicBezTo>
                  <a:pt x="760" y="616"/>
                  <a:pt x="728" y="688"/>
                  <a:pt x="720" y="720"/>
                </a:cubicBezTo>
                <a:cubicBezTo>
                  <a:pt x="712" y="752"/>
                  <a:pt x="688" y="720"/>
                  <a:pt x="672" y="72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46240" y="2209680"/>
            <a:ext cx="787680" cy="1702080"/>
          </a:xfrm>
          <a:custGeom>
            <a:avLst/>
            <a:gdLst/>
            <a:ahLst/>
            <a:rect l="l" t="t" r="r" b="b"/>
            <a:pathLst>
              <a:path w="496" h="1072">
                <a:moveTo>
                  <a:pt x="352" y="0"/>
                </a:moveTo>
                <a:cubicBezTo>
                  <a:pt x="388" y="44"/>
                  <a:pt x="424" y="88"/>
                  <a:pt x="448" y="144"/>
                </a:cubicBezTo>
                <a:cubicBezTo>
                  <a:pt x="472" y="200"/>
                  <a:pt x="496" y="264"/>
                  <a:pt x="496" y="336"/>
                </a:cubicBezTo>
                <a:cubicBezTo>
                  <a:pt x="496" y="408"/>
                  <a:pt x="488" y="512"/>
                  <a:pt x="448" y="576"/>
                </a:cubicBezTo>
                <a:cubicBezTo>
                  <a:pt x="408" y="640"/>
                  <a:pt x="320" y="688"/>
                  <a:pt x="256" y="720"/>
                </a:cubicBezTo>
                <a:cubicBezTo>
                  <a:pt x="192" y="752"/>
                  <a:pt x="104" y="744"/>
                  <a:pt x="64" y="768"/>
                </a:cubicBezTo>
                <a:cubicBezTo>
                  <a:pt x="24" y="792"/>
                  <a:pt x="24" y="832"/>
                  <a:pt x="16" y="864"/>
                </a:cubicBezTo>
                <a:cubicBezTo>
                  <a:pt x="8" y="896"/>
                  <a:pt x="0" y="928"/>
                  <a:pt x="16" y="960"/>
                </a:cubicBezTo>
                <a:cubicBezTo>
                  <a:pt x="32" y="992"/>
                  <a:pt x="80" y="1040"/>
                  <a:pt x="112" y="1056"/>
                </a:cubicBezTo>
                <a:cubicBezTo>
                  <a:pt x="144" y="1072"/>
                  <a:pt x="176" y="1064"/>
                  <a:pt x="208" y="105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3560" y="268200"/>
            <a:ext cx="3831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nching to the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57480" y="4230720"/>
            <a:ext cx="61484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winds – tow planes land west on south side of run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winds – tow planes land east into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both cases, pull off to the north side of the field and taxi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rot="20674800">
            <a:off x="3025440" y="3047760"/>
            <a:ext cx="23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err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1066680"/>
            <a:ext cx="1308240" cy="2057400"/>
          </a:xfrm>
          <a:custGeom>
            <a:avLst/>
            <a:gdLst/>
            <a:ahLst/>
            <a:rect l="l" t="t" r="r" b="b"/>
            <a:pathLst>
              <a:path w="824" h="1296">
                <a:moveTo>
                  <a:pt x="384" y="1296"/>
                </a:moveTo>
                <a:cubicBezTo>
                  <a:pt x="472" y="1268"/>
                  <a:pt x="560" y="1240"/>
                  <a:pt x="624" y="1200"/>
                </a:cubicBezTo>
                <a:cubicBezTo>
                  <a:pt x="688" y="1160"/>
                  <a:pt x="736" y="1120"/>
                  <a:pt x="768" y="1056"/>
                </a:cubicBezTo>
                <a:cubicBezTo>
                  <a:pt x="800" y="992"/>
                  <a:pt x="824" y="904"/>
                  <a:pt x="816" y="816"/>
                </a:cubicBezTo>
                <a:cubicBezTo>
                  <a:pt x="808" y="728"/>
                  <a:pt x="784" y="624"/>
                  <a:pt x="720" y="528"/>
                </a:cubicBezTo>
                <a:cubicBezTo>
                  <a:pt x="656" y="432"/>
                  <a:pt x="520" y="320"/>
                  <a:pt x="432" y="240"/>
                </a:cubicBezTo>
                <a:cubicBezTo>
                  <a:pt x="344" y="160"/>
                  <a:pt x="264" y="88"/>
                  <a:pt x="192" y="48"/>
                </a:cubicBezTo>
                <a:cubicBezTo>
                  <a:pt x="120" y="8"/>
                  <a:pt x="60" y="4"/>
                  <a:pt x="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762120"/>
            <a:ext cx="482760" cy="1143000"/>
          </a:xfrm>
          <a:custGeom>
            <a:avLst/>
            <a:gdLst/>
            <a:ahLst/>
            <a:rect l="l" t="t" r="r" b="b"/>
            <a:pathLst>
              <a:path w="304" h="720">
                <a:moveTo>
                  <a:pt x="288" y="720"/>
                </a:moveTo>
                <a:cubicBezTo>
                  <a:pt x="296" y="636"/>
                  <a:pt x="304" y="552"/>
                  <a:pt x="288" y="480"/>
                </a:cubicBezTo>
                <a:cubicBezTo>
                  <a:pt x="272" y="408"/>
                  <a:pt x="240" y="368"/>
                  <a:pt x="192" y="288"/>
                </a:cubicBezTo>
                <a:cubicBezTo>
                  <a:pt x="144" y="208"/>
                  <a:pt x="72" y="104"/>
                  <a:pt x="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1587600"/>
            <a:ext cx="1219320" cy="469800"/>
          </a:xfrm>
          <a:custGeom>
            <a:avLst/>
            <a:gdLst/>
            <a:ahLst/>
            <a:rect l="l" t="t" r="r" b="b"/>
            <a:pathLst>
              <a:path w="768" h="296">
                <a:moveTo>
                  <a:pt x="768" y="296"/>
                </a:moveTo>
                <a:cubicBezTo>
                  <a:pt x="708" y="244"/>
                  <a:pt x="648" y="192"/>
                  <a:pt x="576" y="152"/>
                </a:cubicBezTo>
                <a:cubicBezTo>
                  <a:pt x="504" y="112"/>
                  <a:pt x="408" y="80"/>
                  <a:pt x="336" y="56"/>
                </a:cubicBezTo>
                <a:cubicBezTo>
                  <a:pt x="264" y="32"/>
                  <a:pt x="200" y="16"/>
                  <a:pt x="144" y="8"/>
                </a:cubicBezTo>
                <a:cubicBezTo>
                  <a:pt x="88" y="0"/>
                  <a:pt x="16" y="8"/>
                  <a:pt x="0" y="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9960" y="1752480"/>
            <a:ext cx="647640" cy="1714680"/>
          </a:xfrm>
          <a:custGeom>
            <a:avLst/>
            <a:gdLst/>
            <a:ahLst/>
            <a:rect l="l" t="t" r="r" b="b"/>
            <a:pathLst>
              <a:path w="408" h="1080">
                <a:moveTo>
                  <a:pt x="408" y="0"/>
                </a:moveTo>
                <a:cubicBezTo>
                  <a:pt x="320" y="36"/>
                  <a:pt x="232" y="72"/>
                  <a:pt x="168" y="144"/>
                </a:cubicBezTo>
                <a:cubicBezTo>
                  <a:pt x="104" y="216"/>
                  <a:pt x="48" y="344"/>
                  <a:pt x="24" y="432"/>
                </a:cubicBezTo>
                <a:cubicBezTo>
                  <a:pt x="0" y="520"/>
                  <a:pt x="24" y="592"/>
                  <a:pt x="24" y="672"/>
                </a:cubicBezTo>
                <a:cubicBezTo>
                  <a:pt x="24" y="752"/>
                  <a:pt x="16" y="848"/>
                  <a:pt x="24" y="912"/>
                </a:cubicBezTo>
                <a:cubicBezTo>
                  <a:pt x="32" y="976"/>
                  <a:pt x="40" y="1032"/>
                  <a:pt x="72" y="1056"/>
                </a:cubicBezTo>
                <a:cubicBezTo>
                  <a:pt x="104" y="1080"/>
                  <a:pt x="184" y="1056"/>
                  <a:pt x="216" y="1056"/>
                </a:cubicBezTo>
                <a:cubicBezTo>
                  <a:pt x="248" y="1056"/>
                  <a:pt x="256" y="1056"/>
                  <a:pt x="264" y="105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56080" y="1828800"/>
            <a:ext cx="1485720" cy="1181160"/>
          </a:xfrm>
          <a:custGeom>
            <a:avLst/>
            <a:gdLst/>
            <a:ahLst/>
            <a:rect l="l" t="t" r="r" b="b"/>
            <a:pathLst>
              <a:path w="936" h="744">
                <a:moveTo>
                  <a:pt x="160" y="0"/>
                </a:moveTo>
                <a:cubicBezTo>
                  <a:pt x="96" y="64"/>
                  <a:pt x="32" y="128"/>
                  <a:pt x="16" y="192"/>
                </a:cubicBezTo>
                <a:cubicBezTo>
                  <a:pt x="0" y="256"/>
                  <a:pt x="32" y="344"/>
                  <a:pt x="64" y="384"/>
                </a:cubicBezTo>
                <a:cubicBezTo>
                  <a:pt x="96" y="424"/>
                  <a:pt x="144" y="416"/>
                  <a:pt x="208" y="432"/>
                </a:cubicBezTo>
                <a:cubicBezTo>
                  <a:pt x="272" y="448"/>
                  <a:pt x="376" y="472"/>
                  <a:pt x="448" y="480"/>
                </a:cubicBezTo>
                <a:cubicBezTo>
                  <a:pt x="520" y="488"/>
                  <a:pt x="584" y="480"/>
                  <a:pt x="640" y="480"/>
                </a:cubicBezTo>
                <a:cubicBezTo>
                  <a:pt x="696" y="480"/>
                  <a:pt x="752" y="480"/>
                  <a:pt x="784" y="480"/>
                </a:cubicBezTo>
                <a:cubicBezTo>
                  <a:pt x="816" y="480"/>
                  <a:pt x="816" y="464"/>
                  <a:pt x="832" y="480"/>
                </a:cubicBezTo>
                <a:cubicBezTo>
                  <a:pt x="848" y="496"/>
                  <a:pt x="864" y="536"/>
                  <a:pt x="880" y="576"/>
                </a:cubicBezTo>
                <a:cubicBezTo>
                  <a:pt x="896" y="616"/>
                  <a:pt x="936" y="696"/>
                  <a:pt x="928" y="720"/>
                </a:cubicBezTo>
                <a:cubicBezTo>
                  <a:pt x="920" y="744"/>
                  <a:pt x="876" y="732"/>
                  <a:pt x="832" y="72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304920"/>
            <a:ext cx="4572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nching to the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3886200"/>
            <a:ext cx="4572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winds – tow planes land east on south side of run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winds – tow planes land west into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both cases, pull off to the north side of the field and taxi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5:01:20Z</dcterms:created>
  <dc:creator>Douglas Jacobs</dc:creator>
  <dc:description/>
  <dc:language>en-US</dc:language>
  <cp:lastModifiedBy>Douglas Jacobs</cp:lastModifiedBy>
  <dcterms:modified xsi:type="dcterms:W3CDTF">2007-03-31T15:46:05Z</dcterms:modified>
  <cp:revision>9</cp:revision>
  <dc:subject/>
  <dc:title>Perry International Airport</dc:title>
</cp:coreProperties>
</file>