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B4-43F0-42A8-BBCA-05E0E532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08A-50E7-44DF-B660-168D2F7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CA4-D89B-4F28-93BA-45721F06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FA2-01AE-4598-940C-58F83031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CC32B-408A-4DAC-8BB1-09D80F67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AAAD-A971-4BB0-AB49-1DAC222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FA42-8468-4F2A-8737-A14AAB7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5936-D88C-4146-B033-D81E0028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CF2B4-3954-4BF3-BD19-9A15E5D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0F7A1-DD11-4721-AC50-8A1B121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A8EE7-2FD5-4881-BA26-8858F4E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81F-609C-4154-BB49-002753A0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D03F9-4262-4753-97E0-3B5809B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DBBE-B4D1-43AB-8325-57A8F90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1D506-1731-48C9-82F3-E99BCB0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E368A-B1B2-492C-86BF-18456AB1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7EAB2-249F-48F7-A896-F578D2C7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1EA-23C6-4BCB-A0B1-CB25D6F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0F7-0F9C-4EAA-A631-31A7C7C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DA3-EB2A-479C-AFCB-0EAF786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559-A77C-490A-8375-9B20E2E9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572-8F2C-4B85-945F-8937402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206-2C76-48C6-972D-F47F186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02A-8F8C-4FE6-BED9-0D36A06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BD3F-F2E7-4C5E-B8CA-640D5C5C3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16C2-E82B-456D-B183-C459FCFD95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33cccc"/>
                </a:solidFill>
                <a:latin typeface="Arial"/>
              </a:rPr>
              <a:t>Landing</a:t>
            </a:r>
            <a:r>
              <a:rPr b="0" lang="en-US" sz="66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10800" spc="-1" strike="noStrike">
                <a:solidFill>
                  <a:srgbClr val="33cccc"/>
                </a:solidFill>
                <a:latin typeface="Arial"/>
              </a:rPr>
              <a:t>Out</a:t>
            </a:r>
            <a:endParaRPr b="0" lang="en-US" sz="10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ey Skills Requir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al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ing Options (varies with altitu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ion La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spee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n Pro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al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itude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landable terrain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ports in GP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/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/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e of retrieve (least import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s (invisible from above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two p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a pole and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a road and a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or along any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ing to any kind of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where crossing a narrow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ped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land up hill, regardless of 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 only visible when viewed from 90 degrees to landing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ing up hill, carry extra speed, close spoilers in fl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90 degrees at end of rollout so glider won’t roll backwards down the h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ing across a slope not recomm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, smoke, lake surface, cloud shadows, waves in tall grass or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to narrow valley between two 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not sure, probably doesn’t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land into the wind (unl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winds, difficult approach down wind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d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/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ly mowed hayfield best (no hay b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crops (alfalfa)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ly cultivated fields OK, but ground roll will be short.  Look out for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plowed fields if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high crops, especially corn (if only option, flare and touch down at top of c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pastures (rocks, anim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ntinuities, wet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2362320" y="-1371600"/>
            <a:ext cx="116586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eld Sel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ely on small private airports you have not personally inspected or someone you trust has not recomm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: GPS says there is an airport you can reach at 500 feet ag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t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ort 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way too na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er hasn’t mowed the field all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ys it’s there, but I can’t find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362320" y="-1204920"/>
            <a:ext cx="11658600" cy="82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utlanding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several options by 2000 feet agl, radio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est field by 1200 feet ag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ar dow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 full pattern at correct air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ownwind to inspect field for rocks, holes, ditch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o touch down well into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oo high, use reverse pattern (never 36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10491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utlanding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change your mind once committed to th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inds greater than 15 kts, expect 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h down with minimum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atch out for wind s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as quickly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utlanding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field? Land on diag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ling surface? If possible land on a c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rees on approach, but not for the adjacent field, which is unsuitable for landing? Fly around the trees and then line up for your chosen field on a dia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fter Lan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glider clear so others can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 with land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ossible, contact land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ogies, th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atter what, be po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be too quick to offer payment for crop damage, but be agreeable to a reasonable pa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ing with the curious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let them cause further crop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lat/long and clear retrieve directions before calling retrieve offi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paration at Home Gliderpo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ion Landings (touchdown point and stopping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energy touchd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ing without reference to altimeter (cover it 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d IP altit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experience with different wind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eparation when not fly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driving, look at fields, wires, crops, approach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Staying in range of landable field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GPS &amp; glid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port hopp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cause an airport is in the databas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amine your assump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 is 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’ll be able to spot air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field will be us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arrive high enough for a full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latland” Outla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evaluate a field from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eld that protects you is in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to it is simple &amp; ob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ing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Field La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a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Airport La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ing at another 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tain” Outla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know the individu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uting may be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may not be visible until near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to the field may not be direct or ob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 are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ks &amp; recreational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f co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king 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ashable” are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ebr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n’t Do It” are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el p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ey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c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e Viney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abite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inimum safe field size – it depend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es, obst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’s skill &amp; 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nd loop, if necessary (stick forwa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valuating siz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ow looks long – long looks na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looks short – short looks 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have some idea about local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size of trees, power poles, building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w Sa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believe all the stories about 200 foot s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circle unless you can afford to lose 2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thermaling: coordinated turns plus 5-10 kts extra air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per banks better than shal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 out of the cockp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for a thermal on a ridge with good field in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experience, currency?  Give it up at 8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rvival issu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 (121.5 MH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outs are more risky than landing at the home airport, but with planning and preparation, they need not be excessively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, practice, plan,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home always beats almost winning the day, but landing five miles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can Land Outs Occur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’s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n next to a girl’s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nd in a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ding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ing somewhere other than where you sta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ing somewhere other than where you planned to land before the start of the f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f you fly cross country, sooner or later, you will land out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s of your first few land outs will have a profound effect on your future in so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– painful and discour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 – while disappointing, can be encour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and practice WILL have a profound effect on your chances of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 and Error approach not recomm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 Test Will Follow This Present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first (or next) off field land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jor Haza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Haza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gh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tches, 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too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ow Run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6:11:23Z</dcterms:created>
  <dc:creator>John Good</dc:creator>
  <dc:description/>
  <dc:language>en-US</dc:language>
  <cp:lastModifiedBy>Tim Welles</cp:lastModifiedBy>
  <dcterms:modified xsi:type="dcterms:W3CDTF">2007-03-14T01:55:28Z</dcterms:modified>
  <cp:revision>16</cp:revision>
  <dc:subject/>
  <dc:title>Off-field Land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48965714</vt:r8>
  </property>
  <property fmtid="{D5CDD505-2E9C-101B-9397-08002B2CF9AE}" pid="3" name="_AuthorEmail">
    <vt:lpwstr>timwelles@hughes.net</vt:lpwstr>
  </property>
  <property fmtid="{D5CDD505-2E9C-101B-9397-08002B2CF9AE}" pid="4" name="_AuthorEmailDisplayName">
    <vt:lpwstr>timwelles</vt:lpwstr>
  </property>
  <property fmtid="{D5CDD505-2E9C-101B-9397-08002B2CF9AE}" pid="5" name="_EmailSubject">
    <vt:lpwstr>Outlanding Presentation</vt:lpwstr>
  </property>
</Properties>
</file>