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186-307A-4AAE-9DF1-00EB2A60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0BB-DD34-4201-AC65-419A05E2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DAA-6530-4E0A-B257-B351092E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ED1-AF39-4139-ADB7-A3EA4F07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6A9-086A-4674-B643-F223E3C3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1D92-865F-4088-8059-673BC6CC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C75B-0D58-46CD-A9AA-64AF0F4F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6ACC-0BEE-48FC-9741-50869F76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1E03-41C2-4877-995D-E5B1EAE6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F971-04A5-457F-A1EC-5731A57F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BD85-4E77-4A09-B495-12F1BCF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156-08E4-4378-8D46-25528443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D46E-FCE2-4325-9D3E-399E0A5A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A101-7A85-4368-BA66-47EB124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75D-73D1-4768-ABD3-89731AA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A59C-86B3-46E9-926C-FCD3FE77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797F-E99F-4EA4-807F-AF8D9FE7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693-6D55-4E65-8912-CB1FA692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ED3-EC86-4AC9-ABC0-FFF3A53E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A95-C1E7-4744-9817-B02422E6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971-83D3-4377-8292-AE0807BF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081-8AE5-4FB9-85DC-532C105F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523-BF18-4B7C-928B-D7D480D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C25-DE29-4A63-BD20-07623CEE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7294-49F1-41C8-8E0B-1B52709AB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D478-F632-46F3-9647-D59F4DE96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629400" y="0"/>
            <a:ext cx="2514600" cy="1362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3808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Field Brief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w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tandard tow will be 2000’ AG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 may release early if you lik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ease under tens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 not try to make a low save in the traffic area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nounce your landing on 123.07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nd according to traffic patter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ll clear of the runw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s may be behind yo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nd crew will tow you to the end of the launch 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304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ligh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eld elevation at PGC is 67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ttern altitude is 1500 MSL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nways 01 and 25 are left patter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nways 07 and 19 are right patter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nounce landing on 123.07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runways are right rollout for glider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4572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n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25 A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5029200" y="6172200"/>
            <a:ext cx="259092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6095880"/>
            <a:ext cx="266688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304000">
            <a:off x="7322760" y="2025360"/>
            <a:ext cx="38088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19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A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438280"/>
            <a:ext cx="533160" cy="3812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80880"/>
            <a:ext cx="114300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914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mbl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9824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105520" y="5410080"/>
            <a:ext cx="2514600" cy="8384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0493000">
            <a:off x="7759800" y="2363760"/>
            <a:ext cx="4572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1828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A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229600" y="2133720"/>
            <a:ext cx="380880" cy="380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457200"/>
            <a:ext cx="12189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553080" y="762120"/>
            <a:ext cx="1447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01 A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480" y="5562720"/>
            <a:ext cx="2743200" cy="9144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386400">
            <a:off x="5403600" y="5261040"/>
            <a:ext cx="461880" cy="303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410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A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5410080"/>
            <a:ext cx="457200" cy="1526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2590920"/>
            <a:ext cx="1067040" cy="761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9400" y="274320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mbly 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01 Gr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4572000"/>
            <a:ext cx="2666880" cy="9144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80200">
            <a:off x="3962160" y="540972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6019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A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5791320"/>
            <a:ext cx="533160" cy="3045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04920"/>
            <a:ext cx="1523880" cy="761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525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86000" y="2895480"/>
            <a:ext cx="1295280" cy="30492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2666880"/>
            <a:ext cx="1218960" cy="38124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6172200"/>
            <a:ext cx="1143000" cy="38088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6400800"/>
            <a:ext cx="1295640" cy="30492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id in areas discuss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 weekend leave room for PGC 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id time 11:30 +/- announced at pilot mt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id groups toge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ember gridding is a cooperative effor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5335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rid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unch time will be determined by the camp direct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unch in groups (classe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ce launch begins be ready to g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belted in, checklist done 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you are not ready tell launch cre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80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un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wpilot and ground operation will monitor  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123.075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-19 is 05A, Pawnee is 76P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be specif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w pilots will follow track discuss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ergency straight ahea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5 field left of scho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1 field of end of runw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19:18Z</dcterms:created>
  <dc:creator>Ed Ingram</dc:creator>
  <dc:description/>
  <dc:language>en-US</dc:language>
  <cp:lastModifiedBy>Douglas Jacobs</cp:lastModifiedBy>
  <dcterms:modified xsi:type="dcterms:W3CDTF">2005-06-08T01:52:27Z</dcterms:modified>
  <cp:revision>13</cp:revision>
  <dc:subject/>
  <dc:title>PowerPoint Presentation</dc:title>
</cp:coreProperties>
</file>