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AF93-89EE-4CC9-8570-3D1385D5B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t various times, and by various helpful souls, I have been advised to roll out on the surge, and to roll in on the surge.  I have been told that I don’t need a variometer, and that I need better and more variometers.  I have been advised that I must be able to fully visualize the three dimensional structure of the thermal, but I continue to be handily outclimbed by soaring birds with brains the size of a pea.  I have also been comforted with the promise that the glider will center itself, and given pause by the threat that thermals eject gliders.  Finally, I am surely not alone in losing many thousands of feet in attempting to follow Reichmann’s centering technique which obviously worked for him, but which apparently does not work for me.  What will be presented here is a basic technique for centering thermals which always works, and which is easily taught.  It lacks originality, and has been described by many oth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ake a look at the flight logs of contests you will find that the fastest pilots are the ones whose average climb rate is best.  There’s a good reason for this:  On most flights most pilots spend 20 – 30% of the tasks time circling.  When circling you are not going anyw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locity Made Good (VMG).  The speed you are closing in on a destination along a desired course.”  Unless the wind happens to be blowing you towards your goal VMG = 0 while circling.  If the wind is blowing the other way, VMG &lt; 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s Bill Scull put it, “things seem to go wrong” when holding 50 or 60 degree bank it’s probably worth practicing a b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vario indicates a constant lift for the first circle, it remains only to optimize the bank an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re often the vario will at some point (not necessarily immediately on entering the turn) indicate decreasing lift, or even sink, and will continue to do so for a good fraction of the circle.  When this happens, and when the turn has been timed correctly, the correction can be made by waiting until the glider has come around to right angles to the entry direction, rolling out, then rolling back in again.</a:t>
            </a:r>
            <a:r>
              <a:rPr b="0" lang="en-US" sz="1200" spc="-1" strike="noStrike">
                <a:solidFill>
                  <a:srgbClr val="000000"/>
                </a:solidFill>
                <a:latin typeface="Times New Roman"/>
              </a:rPr>
              <a:t>  I call this the “free correction” because there is never any question about when to make it – roll out when at right angles to the entry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euver is also referred to as “the 270 degree” correction for correcting a wrong direction turn.  Note however that it works even if the right direction turn was made but the thermal was not center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ider established in climb but not center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where you want to b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obviously the roll out heading for the correction but the vario won’t tell you thi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vario had no lag it WOULD tell you the heading at right angles to the correction head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knew the vario lag not in seconds, but in degrees it would still tell you – the lag is typically 45 degre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 degrees following the worst vario indication find a landmark on the bisector of the pitch and roll axes of the glid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that landmark is on the nose roll out for two seconds, roll back i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eat as need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is helpful to translate seconds of vario lag to a fraction of a typical circle.  For the sake of the discussion, I will assume that the circle takes about 16 seconds (45</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bank).  I will further assume that the vario lag is 2 seconds.  This is 1/8 of a circle.  The vario lag may be estimated well enough by trial and erro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suming that the glider is established in a circle but not yet centered, the correction is simple: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8 of the circle after the indicated point of worst lift, roll out for 1 second, then immediately re-establish the original bank.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is easy to establish the heading on which to roll out:  Just find a feature on the ground more-or-less aligned with the bisector of the wing and the fuselage axis, and roll out when the glider is heading to that fea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thing good comes with a price tag attached.  The price we pay for T.E. compensation is gust sensitivity.  It is easy to see why this must be so:  Any gust which contains a component aligned with the relative wind (which is to say ALL gusts other than those which are either vertical or at right angles to the relative wind) will change suction on the T.E. probe.  A gust which with a component on the nose of the glider will increase suction and cause a positive deflection on the vario.  The converse is true for a gust with a component on the tail of the glider.  Neither effect is small, and both make it much harder to interpret the vario rea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will have more to say about gusts and the TE vario in my talk on instruments but for now will note that the “noise” of a gust is in fact signal, and that the TE variometer is doing exactly what is was designed to do – faithfully determining the total energy of the glider which does indeed increase when it encounters a (positive) gust.  To make matters worse the sensation (“kinesthetics” is the vogue word) of flying into a positive horizontal gust is indistinguishable from the sensation of flying into a vertical gust, or a ther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ical in shape, note the regions of reverse flow at various points on the cone surface – depending on the height at which you encounter this thermal there will indeed be a significant downdraft on entry, but not at all heights or from all directions.  The thermal does indeed get bigger as it rises, and its quite clearly not homogeneo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often said that the correct turn direction can be determined by the glider’s wing being tipped up by a thermal.  A glance at this scale figure shows that this is not at all likely.  The probable origin of this frequent assertion is the general gustiness in the vicinity of thermals which 50% of the time tips the glider in the right direction.  The scale also makes it clear that inadvertently flying through a thermal is unlikely, and that there is plenty of time to assess the lift and make an informed decision.  At 60 kts (~100 fps) it will take about ten seconds to traverse the average ther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count on getting the turn direction right based on the glider delivering an uncommanded bank.  DO however count on plenty of seat-of-the-pants advance warning of the need to start thinking about turning.  Few if any experienced glider pilots are surprised by the vario indicating they are in lift – they know it before the vario do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itical skill and one hard to teach.  It’s preferable to turn late rather than early since you have more information available.  Botched thermal entries add up.  The amount of time you can afford to invest in deciding whether or not to circle is inversely proportional to your height above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 is generally your best guide. Seat-of-the-pants can help but it’s hard to tell gusts from the real thing.  Visual clues – birds, other glider, debris and of course cu are the most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mistake, driven by </a:t>
            </a:r>
            <a:r>
              <a:rPr b="0" lang="en-US" sz="1200" spc="-1" strike="noStrike">
                <a:solidFill>
                  <a:srgbClr val="000000"/>
                </a:solidFill>
                <a:latin typeface="Times New Roman"/>
                <a:ea typeface="Times New Roman"/>
              </a:rPr>
              <a:t>anxiety when low, and perhaps an element of wishful thinking, make it easy to start the turn too soon.  Turning too soon guarantees both that you get to fly in sink and that you will spend additional time centering.  In the case pictured here the vario climb indication would have still been increasing when the turn was initiated – a sure sign of turning too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ctually easier to turn too late than this picture suggests since you may well encounter the thermal further to one side or the other but regardless of the actual trajectory, the time to turn is either on a good surge or immediately after the vario reaches its maximu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it when it happens which won’t be more than about 1/3 of the time even if you are goo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 further the entry course line is from a diameter, the greater the cost of a wrong way turn.  There is little to be done about this however since we cannot know on approaching a thermal where the center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No need to worry -  both ways are wrong, and there is no way to distingu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    Right turn is favored, but unless the right wing lifts prior to the turn, the pilot does not know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    The sufficiently lucky or sufficiently skillful pilot can perfectly time the turn, get the direction right, and be centered almost immedi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ance of turning the wrong way when entering a thermal on a chord is 50%.  Add to this the certainty of turning the wrong way when entering on a diameter, and it is clear that in the absence of any additional clues, it’s likely that the turn into the thermal will be in the wrong direction.  It helps to know that geometry and probability, not caprice, account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E403-D5A6-4E21-B355-284658CF5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56FA3-4A50-434E-BDB6-3BE94586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4D4D4-2394-45B2-9895-19401A52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6BD1C-AFA1-43D6-ADE5-FFB110900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07588-6CBD-4607-BFCC-A58805A3F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9F20E-396A-4738-9B32-32CE350F0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737E4-7928-454E-ABCF-76431C780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B4C89-E4E4-4617-A6AF-5CC89F946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826BA-6830-43D0-B06C-79560AA58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9711F-DC08-4944-A656-A0682FDE6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93E1A-817D-4C4F-AD7E-DD1F6A19D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1120-A420-44C5-B47A-AD32E14A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7DEA1-5C04-4EC7-BB54-5E92AD8D5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F5D95-3E36-49B4-84F6-F20FCB582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978E9-39B0-455E-9B28-A6AB93F00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7DBC0-4A21-4C7D-8B0A-0D66BE6B7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B0688-8B49-4D32-A9CF-C023E9415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410C5-D71C-4F44-A44A-7C9E96F6A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53FC-11A4-422B-B335-36F8B2E55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B9B4-66B6-418A-8B27-F03D0B6E3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EC9A3-6E45-45DF-81E7-D31BAF79A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CE11-9F13-4A61-A209-D30E440B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AA1AE-D335-4FB1-B058-31B4ABBB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D1D30-3BB6-496A-AE57-45C03709C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5408-A4EF-4C92-BD5E-2E8F252B04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15" name="" descr=""/>
          <p:cNvPicPr/>
          <p:nvPr/>
        </p:nvPicPr>
        <p:blipFill>
          <a:blip r:embed="rId2"/>
          <a:stretch/>
        </p:blipFill>
        <p:spPr>
          <a:xfrm>
            <a:off x="7772400" y="5715000"/>
            <a:ext cx="1050840" cy="92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2" name=""/>
          <p:cNvGrpSpPr/>
          <p:nvPr/>
        </p:nvGrpSpPr>
        <p:grpSpPr>
          <a:xfrm>
            <a:off x="-9360" y="-20520"/>
            <a:ext cx="9153360" cy="6878520"/>
            <a:chOff x="-9360" y="-20520"/>
            <a:chExt cx="9153360" cy="6878520"/>
          </a:xfrm>
        </p:grpSpPr>
        <p:sp>
          <p:nvSpPr>
            <p:cNvPr id="53"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7A3E-9745-403D-8087-2A988C8469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RMALLING</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NECESSARY EVI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ANCE TO GET AHEA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ENTAL CHALLEN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ICK AND RUDDER SKIL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HE FREE CORRECTION</a:t>
            </a:r>
            <a:endParaRPr b="0" lang="en-US" sz="4400" spc="-1" strike="noStrike">
              <a:solidFill>
                <a:srgbClr val="ffcc66"/>
              </a:solidFill>
              <a:latin typeface="Times New Roman"/>
            </a:endParaRPr>
          </a:p>
        </p:txBody>
      </p:sp>
      <p:grpSp>
        <p:nvGrpSpPr>
          <p:cNvPr id="219" name=""/>
          <p:cNvGrpSpPr/>
          <p:nvPr/>
        </p:nvGrpSpPr>
        <p:grpSpPr>
          <a:xfrm>
            <a:off x="2514600" y="2057400"/>
            <a:ext cx="4290840" cy="4307400"/>
            <a:chOff x="2514600" y="2057400"/>
            <a:chExt cx="4290840" cy="4307400"/>
          </a:xfrm>
        </p:grpSpPr>
        <p:sp>
          <p:nvSpPr>
            <p:cNvPr id="220" name=""/>
            <p:cNvSpPr/>
            <p:nvPr/>
          </p:nvSpPr>
          <p:spPr>
            <a:xfrm>
              <a:off x="2514600" y="2057400"/>
              <a:ext cx="3921120" cy="392112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 name=""/>
            <p:cNvGrpSpPr/>
            <p:nvPr/>
          </p:nvGrpSpPr>
          <p:grpSpPr>
            <a:xfrm>
              <a:off x="3017520" y="3162240"/>
              <a:ext cx="3787920" cy="3202560"/>
              <a:chOff x="3017520" y="3162240"/>
              <a:chExt cx="3787920" cy="3202560"/>
            </a:xfrm>
          </p:grpSpPr>
          <p:grpSp>
            <p:nvGrpSpPr>
              <p:cNvPr id="222" name=""/>
              <p:cNvGrpSpPr/>
              <p:nvPr/>
            </p:nvGrpSpPr>
            <p:grpSpPr>
              <a:xfrm>
                <a:off x="3017520" y="3162240"/>
                <a:ext cx="3787920" cy="3202560"/>
                <a:chOff x="3017520" y="3162240"/>
                <a:chExt cx="3787920" cy="3202560"/>
              </a:xfrm>
            </p:grpSpPr>
            <p:grpSp>
              <p:nvGrpSpPr>
                <p:cNvPr id="223" name=""/>
                <p:cNvGrpSpPr/>
                <p:nvPr/>
              </p:nvGrpSpPr>
              <p:grpSpPr>
                <a:xfrm>
                  <a:off x="3505320" y="3162240"/>
                  <a:ext cx="1960200" cy="1960560"/>
                  <a:chOff x="3505320" y="3162240"/>
                  <a:chExt cx="1960200" cy="1960560"/>
                </a:xfrm>
              </p:grpSpPr>
              <p:sp>
                <p:nvSpPr>
                  <p:cNvPr id="224" name=""/>
                  <p:cNvSpPr/>
                  <p:nvPr/>
                </p:nvSpPr>
                <p:spPr>
                  <a:xfrm>
                    <a:off x="3505320" y="3162240"/>
                    <a:ext cx="1960200" cy="196056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505320" y="3162240"/>
                    <a:ext cx="1960200" cy="196056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 name=""/>
                <p:cNvGrpSpPr/>
                <p:nvPr/>
              </p:nvGrpSpPr>
              <p:grpSpPr>
                <a:xfrm>
                  <a:off x="3017520" y="3596400"/>
                  <a:ext cx="3787920" cy="2768400"/>
                  <a:chOff x="3017520" y="3596400"/>
                  <a:chExt cx="3787920" cy="2768400"/>
                </a:xfrm>
              </p:grpSpPr>
              <p:grpSp>
                <p:nvGrpSpPr>
                  <p:cNvPr id="227" name=""/>
                  <p:cNvGrpSpPr/>
                  <p:nvPr/>
                </p:nvGrpSpPr>
                <p:grpSpPr>
                  <a:xfrm>
                    <a:off x="3017520" y="4272120"/>
                    <a:ext cx="1747800" cy="1888560"/>
                    <a:chOff x="3017520" y="4272120"/>
                    <a:chExt cx="1747800" cy="1888560"/>
                  </a:xfrm>
                </p:grpSpPr>
                <p:sp>
                  <p:nvSpPr>
                    <p:cNvPr id="228" name=""/>
                    <p:cNvSpPr/>
                    <p:nvPr/>
                  </p:nvSpPr>
                  <p:spPr>
                    <a:xfrm flipH="1">
                      <a:off x="3017520" y="4272120"/>
                      <a:ext cx="1747800" cy="18885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H="1">
                      <a:off x="3017520" y="4272120"/>
                      <a:ext cx="1747800" cy="188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 name=""/>
                  <p:cNvGrpSpPr/>
                  <p:nvPr/>
                </p:nvGrpSpPr>
                <p:grpSpPr>
                  <a:xfrm>
                    <a:off x="3957840" y="4979880"/>
                    <a:ext cx="738720" cy="663840"/>
                    <a:chOff x="3957840" y="4979880"/>
                    <a:chExt cx="738720" cy="663840"/>
                  </a:xfrm>
                </p:grpSpPr>
                <p:sp>
                  <p:nvSpPr>
                    <p:cNvPr id="231" name=""/>
                    <p:cNvSpPr/>
                    <p:nvPr/>
                  </p:nvSpPr>
                  <p:spPr>
                    <a:xfrm>
                      <a:off x="3957840" y="4979880"/>
                      <a:ext cx="738720" cy="6638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957840" y="4979880"/>
                      <a:ext cx="738720" cy="663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036680" y="3596400"/>
                    <a:ext cx="2768760" cy="2768400"/>
                    <a:chOff x="4036680" y="3596400"/>
                    <a:chExt cx="2768760" cy="2768400"/>
                  </a:xfrm>
                </p:grpSpPr>
                <p:sp>
                  <p:nvSpPr>
                    <p:cNvPr id="234" name=""/>
                    <p:cNvSpPr/>
                    <p:nvPr/>
                  </p:nvSpPr>
                  <p:spPr>
                    <a:xfrm rot="19054200">
                      <a:off x="4440960" y="4000680"/>
                      <a:ext cx="1959840" cy="1959480"/>
                    </a:xfrm>
                    <a:custGeom>
                      <a:avLst/>
                      <a:gdLst/>
                      <a:ahLst/>
                      <a:rect l="l" t="t" r="r" b="b"/>
                      <a:pathLst>
                        <a:path stroke="0" w="21600" h="21600">
                          <a:moveTo>
                            <a:pt x="10800" y="0"/>
                          </a:moveTo>
                          <a:arcTo wR="10800" hR="10800" stAng="-5400000" swAng="16385643"/>
                          <a:lnTo>
                            <a:pt x="10800" y="10800"/>
                          </a:lnTo>
                          <a:close/>
                        </a:path>
                        <a:path fill="none" w="21600" h="21600">
                          <a:moveTo>
                            <a:pt x="10800" y="0"/>
                          </a:moveTo>
                          <a:arcTo wR="10800" hR="10800" stAng="-5400000" swAng="16385643"/>
                        </a:path>
                      </a:pathLst>
                    </a:cu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rot="21148200">
                      <a:off x="4441320" y="4005000"/>
                      <a:ext cx="1958760" cy="1959480"/>
                    </a:xfrm>
                    <a:custGeom>
                      <a:avLst/>
                      <a:gdLst/>
                      <a:ahLst/>
                      <a:rect l="l" t="t" r="r" b="b"/>
                      <a:pathLst>
                        <a:path stroke="0" w="21600" h="21600">
                          <a:moveTo>
                            <a:pt x="4932" y="1733"/>
                          </a:moveTo>
                          <a:arcTo wR="10800" hR="10800" stAng="-7374501" swAng="16271428"/>
                          <a:lnTo>
                            <a:pt x="10800" y="10800"/>
                          </a:lnTo>
                          <a:close/>
                        </a:path>
                        <a:path fill="none" w="21600" h="21600">
                          <a:moveTo>
                            <a:pt x="4932" y="1733"/>
                          </a:moveTo>
                          <a:arcTo wR="10800" hR="10800" stAng="-7374501" swAng="16271428"/>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36" name=""/>
              <p:cNvSpPr/>
              <p:nvPr/>
            </p:nvSpPr>
            <p:spPr>
              <a:xfrm rot="2521800">
                <a:off x="3314520" y="5514840"/>
                <a:ext cx="304560" cy="304920"/>
              </a:xfrm>
              <a:prstGeom prst="triangle">
                <a:avLst>
                  <a:gd name="adj" fmla="val 47398"/>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4348800">
                <a:off x="4952520" y="3924000"/>
                <a:ext cx="304920" cy="304920"/>
              </a:xfrm>
              <a:prstGeom prst="triangle">
                <a:avLst>
                  <a:gd name="adj" fmla="val 47398"/>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8" name=""/>
            <p:cNvSpPr/>
            <p:nvPr/>
          </p:nvSpPr>
          <p:spPr>
            <a:xfrm rot="4348800">
              <a:off x="3708000" y="4647960"/>
              <a:ext cx="304560" cy="304920"/>
            </a:xfrm>
            <a:prstGeom prst="triangle">
              <a:avLst>
                <a:gd name="adj" fmla="val 47398"/>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ENTERING</a:t>
            </a:r>
            <a:endParaRPr b="0" lang="en-US" sz="4400" spc="-1" strike="noStrike">
              <a:solidFill>
                <a:srgbClr val="ffcc66"/>
              </a:solidFill>
              <a:latin typeface="Times New Roman"/>
            </a:endParaRPr>
          </a:p>
        </p:txBody>
      </p:sp>
      <p:sp>
        <p:nvSpPr>
          <p:cNvPr id="240" name=""/>
          <p:cNvSpPr/>
          <p:nvPr/>
        </p:nvSpPr>
        <p:spPr>
          <a:xfrm>
            <a:off x="3295800" y="1971720"/>
            <a:ext cx="3921120" cy="392112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1" name=""/>
          <p:cNvGrpSpPr/>
          <p:nvPr/>
        </p:nvGrpSpPr>
        <p:grpSpPr>
          <a:xfrm>
            <a:off x="4813200" y="3441600"/>
            <a:ext cx="4287960" cy="1441440"/>
            <a:chOff x="4813200" y="3441600"/>
            <a:chExt cx="4287960" cy="1441440"/>
          </a:xfrm>
        </p:grpSpPr>
        <p:grpSp>
          <p:nvGrpSpPr>
            <p:cNvPr id="242" name=""/>
            <p:cNvGrpSpPr/>
            <p:nvPr/>
          </p:nvGrpSpPr>
          <p:grpSpPr>
            <a:xfrm>
              <a:off x="4813200" y="3441600"/>
              <a:ext cx="1444320" cy="1441440"/>
              <a:chOff x="4813200" y="3441600"/>
              <a:chExt cx="1444320" cy="1441440"/>
            </a:xfrm>
          </p:grpSpPr>
          <p:sp>
            <p:nvSpPr>
              <p:cNvPr id="243" name=""/>
              <p:cNvSpPr/>
              <p:nvPr/>
            </p:nvSpPr>
            <p:spPr>
              <a:xfrm>
                <a:off x="4819320" y="3444480"/>
                <a:ext cx="1438200" cy="143856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813200" y="3441600"/>
                <a:ext cx="1438200" cy="14382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5" name=""/>
            <p:cNvSpPr/>
            <p:nvPr/>
          </p:nvSpPr>
          <p:spPr>
            <a:xfrm>
              <a:off x="7237440" y="3648240"/>
              <a:ext cx="1863720" cy="360360"/>
            </a:xfrm>
            <a:prstGeom prst="borderCallout2">
              <a:avLst>
                <a:gd name="adj1" fmla="val 18750"/>
                <a:gd name="adj2" fmla="val -8333"/>
                <a:gd name="adj3" fmla="val 31717"/>
                <a:gd name="adj4" fmla="val -14138"/>
                <a:gd name="adj5" fmla="val 188986"/>
                <a:gd name="adj6" fmla="val -50000"/>
              </a:avLst>
            </a:prstGeom>
            <a:noFill/>
            <a:ln w="255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Unicode MS"/>
                </a:rPr>
                <a:t>INITIAL CIRCLE</a:t>
              </a:r>
              <a:endParaRPr b="0" lang="en-US" sz="1600" spc="-1" strike="noStrike">
                <a:solidFill>
                  <a:srgbClr val="ffffff"/>
                </a:solidFill>
                <a:latin typeface="Times New Roman"/>
              </a:endParaRPr>
            </a:p>
          </p:txBody>
        </p:sp>
      </p:grpSp>
      <p:grpSp>
        <p:nvGrpSpPr>
          <p:cNvPr id="246" name=""/>
          <p:cNvGrpSpPr/>
          <p:nvPr/>
        </p:nvGrpSpPr>
        <p:grpSpPr>
          <a:xfrm>
            <a:off x="533520" y="4703760"/>
            <a:ext cx="5034240" cy="358920"/>
            <a:chOff x="533520" y="4703760"/>
            <a:chExt cx="5034240" cy="358920"/>
          </a:xfrm>
        </p:grpSpPr>
        <p:sp>
          <p:nvSpPr>
            <p:cNvPr id="247" name=""/>
            <p:cNvSpPr/>
            <p:nvPr/>
          </p:nvSpPr>
          <p:spPr>
            <a:xfrm>
              <a:off x="533520" y="4703760"/>
              <a:ext cx="2865240" cy="35892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WORST VARIO HEADING</a:t>
              </a:r>
              <a:endParaRPr b="0" lang="en-US" sz="1600" spc="-1" strike="noStrike">
                <a:solidFill>
                  <a:srgbClr val="ffffff"/>
                </a:solidFill>
                <a:latin typeface="Times New Roman"/>
              </a:endParaRPr>
            </a:p>
          </p:txBody>
        </p:sp>
        <p:sp>
          <p:nvSpPr>
            <p:cNvPr id="248" name=""/>
            <p:cNvSpPr/>
            <p:nvPr/>
          </p:nvSpPr>
          <p:spPr>
            <a:xfrm flipH="1" flipV="1">
              <a:off x="3396960" y="4881960"/>
              <a:ext cx="2170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grpSp>
        <p:nvGrpSpPr>
          <p:cNvPr id="249" name=""/>
          <p:cNvGrpSpPr/>
          <p:nvPr/>
        </p:nvGrpSpPr>
        <p:grpSpPr>
          <a:xfrm>
            <a:off x="2057400" y="4589640"/>
            <a:ext cx="4070160" cy="1636560"/>
            <a:chOff x="2057400" y="4589640"/>
            <a:chExt cx="4070160" cy="1636560"/>
          </a:xfrm>
        </p:grpSpPr>
        <p:sp>
          <p:nvSpPr>
            <p:cNvPr id="250" name=""/>
            <p:cNvSpPr/>
            <p:nvPr/>
          </p:nvSpPr>
          <p:spPr>
            <a:xfrm flipH="1">
              <a:off x="5049360" y="4589640"/>
              <a:ext cx="1078200" cy="12571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2057400" y="5867280"/>
              <a:ext cx="2666880" cy="35892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UE WORST HEADING</a:t>
              </a:r>
              <a:endParaRPr b="0" lang="en-US" sz="1600" spc="-1" strike="noStrike">
                <a:solidFill>
                  <a:srgbClr val="ffffff"/>
                </a:solidFill>
                <a:latin typeface="Times New Roman"/>
              </a:endParaRPr>
            </a:p>
          </p:txBody>
        </p:sp>
      </p:grpSp>
      <p:grpSp>
        <p:nvGrpSpPr>
          <p:cNvPr id="252" name=""/>
          <p:cNvGrpSpPr/>
          <p:nvPr/>
        </p:nvGrpSpPr>
        <p:grpSpPr>
          <a:xfrm>
            <a:off x="762120" y="2971800"/>
            <a:ext cx="4296960" cy="1726920"/>
            <a:chOff x="762120" y="2971800"/>
            <a:chExt cx="4296960" cy="1726920"/>
          </a:xfrm>
        </p:grpSpPr>
        <p:sp>
          <p:nvSpPr>
            <p:cNvPr id="253" name=""/>
            <p:cNvSpPr/>
            <p:nvPr/>
          </p:nvSpPr>
          <p:spPr>
            <a:xfrm flipH="1" flipV="1">
              <a:off x="3620880" y="3441240"/>
              <a:ext cx="1438200" cy="1257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762120" y="2971800"/>
              <a:ext cx="2395440" cy="36036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1600" spc="-1" strike="noStrike">
                  <a:solidFill>
                    <a:srgbClr val="ffffff"/>
                  </a:solidFill>
                  <a:latin typeface="Times New Roman"/>
                </a:rPr>
                <a:t>ROLLOUT HEADING</a:t>
              </a:r>
              <a:endParaRPr b="0" lang="en-US" sz="1600" spc="-1" strike="noStrike">
                <a:solidFill>
                  <a:srgbClr val="ffffff"/>
                </a:solidFill>
                <a:latin typeface="Times New Roman"/>
              </a:endParaRPr>
            </a:p>
          </p:txBody>
        </p:sp>
      </p:grpSp>
      <p:grpSp>
        <p:nvGrpSpPr>
          <p:cNvPr id="255" name=""/>
          <p:cNvGrpSpPr/>
          <p:nvPr/>
        </p:nvGrpSpPr>
        <p:grpSpPr>
          <a:xfrm>
            <a:off x="4572000" y="2655720"/>
            <a:ext cx="4138560" cy="1982880"/>
            <a:chOff x="4572000" y="2655720"/>
            <a:chExt cx="4138560" cy="1982880"/>
          </a:xfrm>
        </p:grpSpPr>
        <p:grpSp>
          <p:nvGrpSpPr>
            <p:cNvPr id="256" name=""/>
            <p:cNvGrpSpPr/>
            <p:nvPr/>
          </p:nvGrpSpPr>
          <p:grpSpPr>
            <a:xfrm>
              <a:off x="4572000" y="3200400"/>
              <a:ext cx="1438200" cy="1438200"/>
              <a:chOff x="4572000" y="3200400"/>
              <a:chExt cx="1438200" cy="1438200"/>
            </a:xfrm>
          </p:grpSpPr>
          <p:sp>
            <p:nvSpPr>
              <p:cNvPr id="257" name=""/>
              <p:cNvSpPr/>
              <p:nvPr/>
            </p:nvSpPr>
            <p:spPr>
              <a:xfrm>
                <a:off x="4572000" y="3200400"/>
                <a:ext cx="1438200" cy="143820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572000" y="3200400"/>
                <a:ext cx="1438200" cy="143820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9" name=""/>
            <p:cNvSpPr/>
            <p:nvPr/>
          </p:nvSpPr>
          <p:spPr>
            <a:xfrm>
              <a:off x="7118280" y="2655720"/>
              <a:ext cx="1592280" cy="358920"/>
            </a:xfrm>
            <a:prstGeom prst="borderCallout2">
              <a:avLst>
                <a:gd name="adj1" fmla="val 18750"/>
                <a:gd name="adj2" fmla="val -8333"/>
                <a:gd name="adj3" fmla="val 31856"/>
                <a:gd name="adj4" fmla="val -21736"/>
                <a:gd name="adj5" fmla="val 165486"/>
                <a:gd name="adj6" fmla="val -83152"/>
              </a:avLst>
            </a:prstGeom>
            <a:noFill/>
            <a:ln w="255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CIRCLE</a:t>
              </a:r>
              <a:endParaRPr b="0" lang="en-US" sz="1600" spc="-1" strike="noStrike">
                <a:solidFill>
                  <a:srgbClr val="ffffff"/>
                </a:solidFill>
                <a:latin typeface="Times New Roman"/>
              </a:endParaRPr>
            </a:p>
          </p:txBody>
        </p:sp>
      </p:grpSp>
      <p:grpSp>
        <p:nvGrpSpPr>
          <p:cNvPr id="260" name=""/>
          <p:cNvGrpSpPr/>
          <p:nvPr/>
        </p:nvGrpSpPr>
        <p:grpSpPr>
          <a:xfrm>
            <a:off x="914400" y="1523880"/>
            <a:ext cx="1552680" cy="1082880"/>
            <a:chOff x="914400" y="1523880"/>
            <a:chExt cx="1552680" cy="1082880"/>
          </a:xfrm>
        </p:grpSpPr>
        <p:pic>
          <p:nvPicPr>
            <p:cNvPr id="261" name="" descr=""/>
            <p:cNvPicPr/>
            <p:nvPr/>
          </p:nvPicPr>
          <p:blipFill>
            <a:blip r:embed="rId1"/>
            <a:stretch/>
          </p:blipFill>
          <p:spPr>
            <a:xfrm>
              <a:off x="1911240" y="2036880"/>
              <a:ext cx="555840" cy="569880"/>
            </a:xfrm>
            <a:prstGeom prst="rect">
              <a:avLst/>
            </a:prstGeom>
            <a:ln w="9360">
              <a:solidFill>
                <a:srgbClr val="969696"/>
              </a:solidFill>
              <a:miter/>
            </a:ln>
          </p:spPr>
        </p:pic>
        <p:sp>
          <p:nvSpPr>
            <p:cNvPr id="262" name=""/>
            <p:cNvSpPr/>
            <p:nvPr/>
          </p:nvSpPr>
          <p:spPr>
            <a:xfrm>
              <a:off x="914400" y="1523880"/>
              <a:ext cx="1438200" cy="37476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NDMARK</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USTS AND THE TE VARIO</a:t>
            </a:r>
            <a:endParaRPr b="0" lang="en-US" sz="4400" spc="-1" strike="noStrike">
              <a:solidFill>
                <a:srgbClr val="ffcc66"/>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STS CHANGE THE K.E. OF THE GLI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 VARIO MEASURES ENER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 VARIOS ARE GUST SENSIT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590920" y="990720"/>
            <a:ext cx="3625560" cy="5486400"/>
          </a:xfrm>
          <a:prstGeom prst="rect">
            <a:avLst/>
          </a:prstGeom>
          <a:ln w="0">
            <a:noFill/>
          </a:ln>
        </p:spPr>
      </p:pic>
      <p:sp>
        <p:nvSpPr>
          <p:cNvPr id="11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SO THAT’S WHAT A THERMAL LOOKS LIKE!</a:t>
            </a:r>
            <a:endParaRPr b="0" lang="en-US" sz="2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 MATTER OF SCALE</a:t>
            </a:r>
            <a:endParaRPr b="0" lang="en-US" sz="4400" spc="-1" strike="noStrike">
              <a:solidFill>
                <a:srgbClr val="ffcc66"/>
              </a:solidFill>
              <a:latin typeface="Times New Roman"/>
            </a:endParaRPr>
          </a:p>
        </p:txBody>
      </p:sp>
      <p:pic>
        <p:nvPicPr>
          <p:cNvPr id="114" name="" descr=""/>
          <p:cNvPicPr/>
          <p:nvPr/>
        </p:nvPicPr>
        <p:blipFill>
          <a:blip r:embed="rId1"/>
          <a:stretch/>
        </p:blipFill>
        <p:spPr>
          <a:xfrm>
            <a:off x="5599080" y="1741320"/>
            <a:ext cx="274680" cy="160560"/>
          </a:xfrm>
          <a:prstGeom prst="rect">
            <a:avLst/>
          </a:prstGeom>
          <a:ln w="9360">
            <a:solidFill>
              <a:srgbClr val="ffffff"/>
            </a:solidFill>
            <a:miter/>
          </a:ln>
        </p:spPr>
      </p:pic>
      <p:sp>
        <p:nvSpPr>
          <p:cNvPr id="115" name=""/>
          <p:cNvSpPr/>
          <p:nvPr/>
        </p:nvSpPr>
        <p:spPr>
          <a:xfrm>
            <a:off x="2133720" y="1371600"/>
            <a:ext cx="3655800" cy="365616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 name=""/>
          <p:cNvGrpSpPr/>
          <p:nvPr/>
        </p:nvGrpSpPr>
        <p:grpSpPr>
          <a:xfrm>
            <a:off x="2058480" y="5105520"/>
            <a:ext cx="4008600" cy="1297800"/>
            <a:chOff x="2058480" y="5105520"/>
            <a:chExt cx="4008600" cy="1297800"/>
          </a:xfrm>
        </p:grpSpPr>
        <p:sp>
          <p:nvSpPr>
            <p:cNvPr id="117" name=""/>
            <p:cNvSpPr/>
            <p:nvPr/>
          </p:nvSpPr>
          <p:spPr>
            <a:xfrm>
              <a:off x="2520000" y="5943600"/>
              <a:ext cx="295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SECONDS @ 60 KTS</a:t>
              </a:r>
              <a:endParaRPr b="0" lang="en-US" sz="2400" spc="-1" strike="noStrike">
                <a:solidFill>
                  <a:srgbClr val="ffffff"/>
                </a:solidFill>
                <a:latin typeface="Times New Roman"/>
              </a:endParaRPr>
            </a:p>
          </p:txBody>
        </p:sp>
        <p:grpSp>
          <p:nvGrpSpPr>
            <p:cNvPr id="118" name=""/>
            <p:cNvGrpSpPr/>
            <p:nvPr/>
          </p:nvGrpSpPr>
          <p:grpSpPr>
            <a:xfrm>
              <a:off x="2058480" y="5105520"/>
              <a:ext cx="4008600" cy="815760"/>
              <a:chOff x="2058480" y="5105520"/>
              <a:chExt cx="4008600" cy="815760"/>
            </a:xfrm>
          </p:grpSpPr>
          <p:sp>
            <p:nvSpPr>
              <p:cNvPr id="119" name=""/>
              <p:cNvSpPr/>
              <p:nvPr/>
            </p:nvSpPr>
            <p:spPr>
              <a:xfrm>
                <a:off x="2172960" y="5921280"/>
                <a:ext cx="36572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217296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253836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290484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326988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363672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400176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436716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473364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509868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546552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5830560" y="5555880"/>
                <a:ext cx="0" cy="364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058480" y="5116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0</a:t>
                </a:r>
                <a:endParaRPr b="0" lang="en-US" sz="2000" spc="-1" strike="noStrike">
                  <a:solidFill>
                    <a:srgbClr val="ffffff"/>
                  </a:solidFill>
                  <a:latin typeface="Times New Roman"/>
                </a:endParaRPr>
              </a:p>
            </p:txBody>
          </p:sp>
          <p:sp>
            <p:nvSpPr>
              <p:cNvPr id="132" name=""/>
              <p:cNvSpPr/>
              <p:nvPr/>
            </p:nvSpPr>
            <p:spPr>
              <a:xfrm>
                <a:off x="2753640" y="51130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2</a:t>
                </a:r>
                <a:endParaRPr b="0" lang="en-US" sz="2000" spc="-1" strike="noStrike">
                  <a:solidFill>
                    <a:srgbClr val="ffffff"/>
                  </a:solidFill>
                  <a:latin typeface="Times New Roman"/>
                </a:endParaRPr>
              </a:p>
            </p:txBody>
          </p:sp>
          <p:sp>
            <p:nvSpPr>
              <p:cNvPr id="133" name=""/>
              <p:cNvSpPr/>
              <p:nvPr/>
            </p:nvSpPr>
            <p:spPr>
              <a:xfrm>
                <a:off x="3469680" y="5105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4</a:t>
                </a:r>
                <a:endParaRPr b="0" lang="en-US" sz="2000" spc="-1" strike="noStrike">
                  <a:solidFill>
                    <a:srgbClr val="ffffff"/>
                  </a:solidFill>
                  <a:latin typeface="Times New Roman"/>
                </a:endParaRPr>
              </a:p>
            </p:txBody>
          </p:sp>
          <p:sp>
            <p:nvSpPr>
              <p:cNvPr id="134" name=""/>
              <p:cNvSpPr/>
              <p:nvPr/>
            </p:nvSpPr>
            <p:spPr>
              <a:xfrm>
                <a:off x="4193640" y="51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6</a:t>
                </a:r>
                <a:endParaRPr b="0" lang="en-US" sz="2000" spc="-1" strike="noStrike">
                  <a:solidFill>
                    <a:srgbClr val="ffffff"/>
                  </a:solidFill>
                  <a:latin typeface="Times New Roman"/>
                </a:endParaRPr>
              </a:p>
            </p:txBody>
          </p:sp>
          <p:sp>
            <p:nvSpPr>
              <p:cNvPr id="135" name=""/>
              <p:cNvSpPr/>
              <p:nvPr/>
            </p:nvSpPr>
            <p:spPr>
              <a:xfrm>
                <a:off x="4952160" y="5111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8</a:t>
                </a:r>
                <a:endParaRPr b="0" lang="en-US" sz="2000" spc="-1" strike="noStrike">
                  <a:solidFill>
                    <a:srgbClr val="ffffff"/>
                  </a:solidFill>
                  <a:latin typeface="Times New Roman"/>
                </a:endParaRPr>
              </a:p>
            </p:txBody>
          </p:sp>
          <p:sp>
            <p:nvSpPr>
              <p:cNvPr id="136" name=""/>
              <p:cNvSpPr/>
              <p:nvPr/>
            </p:nvSpPr>
            <p:spPr>
              <a:xfrm>
                <a:off x="5603040" y="5105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10</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IMING THE TURN</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UAL CL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URNING TOO SOON</a:t>
            </a:r>
            <a:endParaRPr b="0" lang="en-US" sz="4400" spc="-1" strike="noStrike">
              <a:solidFill>
                <a:srgbClr val="ffcc66"/>
              </a:solidFill>
              <a:latin typeface="Times New Roman"/>
            </a:endParaRPr>
          </a:p>
        </p:txBody>
      </p:sp>
      <p:grpSp>
        <p:nvGrpSpPr>
          <p:cNvPr id="140" name=""/>
          <p:cNvGrpSpPr/>
          <p:nvPr/>
        </p:nvGrpSpPr>
        <p:grpSpPr>
          <a:xfrm>
            <a:off x="2057400" y="1600200"/>
            <a:ext cx="4524480" cy="4627440"/>
            <a:chOff x="2057400" y="1600200"/>
            <a:chExt cx="4524480" cy="4627440"/>
          </a:xfrm>
        </p:grpSpPr>
        <p:sp>
          <p:nvSpPr>
            <p:cNvPr id="141" name=""/>
            <p:cNvSpPr/>
            <p:nvPr/>
          </p:nvSpPr>
          <p:spPr>
            <a:xfrm>
              <a:off x="2668680" y="2089080"/>
              <a:ext cx="3913200" cy="391320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2" name=""/>
            <p:cNvGrpSpPr/>
            <p:nvPr/>
          </p:nvGrpSpPr>
          <p:grpSpPr>
            <a:xfrm>
              <a:off x="2322720" y="4272120"/>
              <a:ext cx="2430000" cy="1955520"/>
              <a:chOff x="2322720" y="4272120"/>
              <a:chExt cx="2430000" cy="1955520"/>
            </a:xfrm>
          </p:grpSpPr>
          <p:grpSp>
            <p:nvGrpSpPr>
              <p:cNvPr id="143" name=""/>
              <p:cNvGrpSpPr/>
              <p:nvPr/>
            </p:nvGrpSpPr>
            <p:grpSpPr>
              <a:xfrm>
                <a:off x="2796480" y="4272120"/>
                <a:ext cx="1956240" cy="1955520"/>
                <a:chOff x="2796480" y="4272120"/>
                <a:chExt cx="1956240" cy="1955520"/>
              </a:xfrm>
            </p:grpSpPr>
            <p:sp>
              <p:nvSpPr>
                <p:cNvPr id="144" name=""/>
                <p:cNvSpPr/>
                <p:nvPr/>
              </p:nvSpPr>
              <p:spPr>
                <a:xfrm>
                  <a:off x="2796480" y="4272120"/>
                  <a:ext cx="1956240" cy="195552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796480" y="4272120"/>
                  <a:ext cx="1956240" cy="19555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2322720" y="4514040"/>
                <a:ext cx="791280" cy="855360"/>
                <a:chOff x="2322720" y="4514040"/>
                <a:chExt cx="791280" cy="855360"/>
              </a:xfrm>
            </p:grpSpPr>
            <p:sp>
              <p:nvSpPr>
                <p:cNvPr id="147" name=""/>
                <p:cNvSpPr/>
                <p:nvPr/>
              </p:nvSpPr>
              <p:spPr>
                <a:xfrm flipH="1">
                  <a:off x="2322720" y="4514040"/>
                  <a:ext cx="791280" cy="8553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2322720" y="4514040"/>
                  <a:ext cx="791280" cy="85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49" name=""/>
            <p:cNvSpPr/>
            <p:nvPr/>
          </p:nvSpPr>
          <p:spPr>
            <a:xfrm flipV="1">
              <a:off x="2057400" y="1600200"/>
              <a:ext cx="3892680" cy="4014720"/>
            </a:xfrm>
            <a:prstGeom prst="line">
              <a:avLst/>
            </a:prstGeom>
            <a:ln w="12600">
              <a:solidFill>
                <a:srgbClr val="96969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OO LATE</a:t>
            </a:r>
            <a:endParaRPr b="0" lang="en-US" sz="4400" spc="-1" strike="noStrike">
              <a:solidFill>
                <a:srgbClr val="ffcc66"/>
              </a:solidFill>
              <a:latin typeface="Times New Roman"/>
            </a:endParaRPr>
          </a:p>
        </p:txBody>
      </p:sp>
      <p:grpSp>
        <p:nvGrpSpPr>
          <p:cNvPr id="151" name=""/>
          <p:cNvGrpSpPr/>
          <p:nvPr/>
        </p:nvGrpSpPr>
        <p:grpSpPr>
          <a:xfrm>
            <a:off x="2191320" y="1869480"/>
            <a:ext cx="4727880" cy="4553280"/>
            <a:chOff x="2191320" y="1869480"/>
            <a:chExt cx="4727880" cy="4553280"/>
          </a:xfrm>
        </p:grpSpPr>
        <p:sp>
          <p:nvSpPr>
            <p:cNvPr id="152" name=""/>
            <p:cNvSpPr/>
            <p:nvPr/>
          </p:nvSpPr>
          <p:spPr>
            <a:xfrm>
              <a:off x="2286000" y="1869480"/>
              <a:ext cx="4556160" cy="455328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3" name=""/>
            <p:cNvGrpSpPr/>
            <p:nvPr/>
          </p:nvGrpSpPr>
          <p:grpSpPr>
            <a:xfrm>
              <a:off x="2191320" y="2061000"/>
              <a:ext cx="4727880" cy="3361680"/>
              <a:chOff x="2191320" y="2061000"/>
              <a:chExt cx="4727880" cy="3361680"/>
            </a:xfrm>
          </p:grpSpPr>
          <p:grpSp>
            <p:nvGrpSpPr>
              <p:cNvPr id="154" name=""/>
              <p:cNvGrpSpPr/>
              <p:nvPr/>
            </p:nvGrpSpPr>
            <p:grpSpPr>
              <a:xfrm>
                <a:off x="4641120" y="2061000"/>
                <a:ext cx="2278080" cy="2276280"/>
                <a:chOff x="4641120" y="2061000"/>
                <a:chExt cx="2278080" cy="2276280"/>
              </a:xfrm>
            </p:grpSpPr>
            <p:sp>
              <p:nvSpPr>
                <p:cNvPr id="155" name=""/>
                <p:cNvSpPr/>
                <p:nvPr/>
              </p:nvSpPr>
              <p:spPr>
                <a:xfrm>
                  <a:off x="4641120" y="2061000"/>
                  <a:ext cx="2278080" cy="227628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641120" y="2061000"/>
                  <a:ext cx="2278080" cy="22762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7" name=""/>
              <p:cNvGrpSpPr/>
              <p:nvPr/>
            </p:nvGrpSpPr>
            <p:grpSpPr>
              <a:xfrm>
                <a:off x="2191320" y="2297160"/>
                <a:ext cx="2892240" cy="3125520"/>
                <a:chOff x="2191320" y="2297160"/>
                <a:chExt cx="2892240" cy="3125520"/>
              </a:xfrm>
            </p:grpSpPr>
            <p:sp>
              <p:nvSpPr>
                <p:cNvPr id="158" name=""/>
                <p:cNvSpPr/>
                <p:nvPr/>
              </p:nvSpPr>
              <p:spPr>
                <a:xfrm flipH="1">
                  <a:off x="2191320" y="2297160"/>
                  <a:ext cx="2892240" cy="312552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2191320" y="2297160"/>
                  <a:ext cx="2892240" cy="312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JUST RIGHT</a:t>
            </a:r>
            <a:endParaRPr b="0" lang="en-US" sz="4400" spc="-1" strike="noStrike">
              <a:solidFill>
                <a:srgbClr val="ffcc66"/>
              </a:solidFill>
              <a:latin typeface="Times New Roman"/>
            </a:endParaRPr>
          </a:p>
        </p:txBody>
      </p:sp>
      <p:grpSp>
        <p:nvGrpSpPr>
          <p:cNvPr id="161" name=""/>
          <p:cNvGrpSpPr/>
          <p:nvPr/>
        </p:nvGrpSpPr>
        <p:grpSpPr>
          <a:xfrm>
            <a:off x="2209680" y="1904760"/>
            <a:ext cx="4670640" cy="4648320"/>
            <a:chOff x="2209680" y="1904760"/>
            <a:chExt cx="4670640" cy="4648320"/>
          </a:xfrm>
        </p:grpSpPr>
        <p:sp>
          <p:nvSpPr>
            <p:cNvPr id="162" name=""/>
            <p:cNvSpPr/>
            <p:nvPr/>
          </p:nvSpPr>
          <p:spPr>
            <a:xfrm>
              <a:off x="2630520" y="2303640"/>
              <a:ext cx="4249800" cy="424944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 name=""/>
            <p:cNvGrpSpPr/>
            <p:nvPr/>
          </p:nvGrpSpPr>
          <p:grpSpPr>
            <a:xfrm>
              <a:off x="2478240" y="3478320"/>
              <a:ext cx="3544560" cy="2170080"/>
              <a:chOff x="2478240" y="3478320"/>
              <a:chExt cx="3544560" cy="2170080"/>
            </a:xfrm>
          </p:grpSpPr>
          <p:grpSp>
            <p:nvGrpSpPr>
              <p:cNvPr id="164" name=""/>
              <p:cNvGrpSpPr/>
              <p:nvPr/>
            </p:nvGrpSpPr>
            <p:grpSpPr>
              <a:xfrm>
                <a:off x="3898080" y="3478320"/>
                <a:ext cx="2124720" cy="2124000"/>
                <a:chOff x="3898080" y="3478320"/>
                <a:chExt cx="2124720" cy="2124000"/>
              </a:xfrm>
            </p:grpSpPr>
            <p:sp>
              <p:nvSpPr>
                <p:cNvPr id="165" name=""/>
                <p:cNvSpPr/>
                <p:nvPr/>
              </p:nvSpPr>
              <p:spPr>
                <a:xfrm>
                  <a:off x="3898080" y="3478320"/>
                  <a:ext cx="2124720" cy="212400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898080" y="3478320"/>
                  <a:ext cx="2124720" cy="21240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2478240" y="3740760"/>
                <a:ext cx="1765080" cy="1907640"/>
                <a:chOff x="2478240" y="3740760"/>
                <a:chExt cx="1765080" cy="1907640"/>
              </a:xfrm>
            </p:grpSpPr>
            <p:sp>
              <p:nvSpPr>
                <p:cNvPr id="168" name=""/>
                <p:cNvSpPr/>
                <p:nvPr/>
              </p:nvSpPr>
              <p:spPr>
                <a:xfrm flipH="1">
                  <a:off x="2478240" y="3740760"/>
                  <a:ext cx="1765080" cy="1907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2478240" y="3740760"/>
                  <a:ext cx="1765080" cy="190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0" name=""/>
            <p:cNvSpPr/>
            <p:nvPr/>
          </p:nvSpPr>
          <p:spPr>
            <a:xfrm flipV="1">
              <a:off x="2209680" y="1904760"/>
              <a:ext cx="3873600" cy="4005000"/>
            </a:xfrm>
            <a:prstGeom prst="line">
              <a:avLst/>
            </a:prstGeom>
            <a:ln w="12600">
              <a:solidFill>
                <a:srgbClr val="96969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ICH WAY TO TURN?</a:t>
            </a:r>
            <a:endParaRPr b="0" lang="en-US" sz="4400" spc="-1" strike="noStrike">
              <a:solidFill>
                <a:srgbClr val="ffcc66"/>
              </a:solidFill>
              <a:latin typeface="Times New Roman"/>
            </a:endParaRPr>
          </a:p>
        </p:txBody>
      </p:sp>
      <p:grpSp>
        <p:nvGrpSpPr>
          <p:cNvPr id="172" name=""/>
          <p:cNvGrpSpPr/>
          <p:nvPr/>
        </p:nvGrpSpPr>
        <p:grpSpPr>
          <a:xfrm>
            <a:off x="739080" y="2403360"/>
            <a:ext cx="2169360" cy="3313800"/>
            <a:chOff x="739080" y="2403360"/>
            <a:chExt cx="2169360" cy="3313800"/>
          </a:xfrm>
        </p:grpSpPr>
        <p:grpSp>
          <p:nvGrpSpPr>
            <p:cNvPr id="173" name=""/>
            <p:cNvGrpSpPr/>
            <p:nvPr/>
          </p:nvGrpSpPr>
          <p:grpSpPr>
            <a:xfrm>
              <a:off x="739080" y="2403360"/>
              <a:ext cx="2169360" cy="2268000"/>
              <a:chOff x="739080" y="2403360"/>
              <a:chExt cx="2169360" cy="2268000"/>
            </a:xfrm>
          </p:grpSpPr>
          <p:sp>
            <p:nvSpPr>
              <p:cNvPr id="174" name=""/>
              <p:cNvSpPr/>
              <p:nvPr/>
            </p:nvSpPr>
            <p:spPr>
              <a:xfrm>
                <a:off x="914400" y="2403360"/>
                <a:ext cx="1994040" cy="199548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1093680" y="2507760"/>
                <a:ext cx="996840" cy="1018440"/>
                <a:chOff x="1093680" y="2507760"/>
                <a:chExt cx="996840" cy="1018440"/>
              </a:xfrm>
            </p:grpSpPr>
            <p:sp>
              <p:nvSpPr>
                <p:cNvPr id="176" name=""/>
                <p:cNvSpPr/>
                <p:nvPr/>
              </p:nvSpPr>
              <p:spPr>
                <a:xfrm>
                  <a:off x="1093680" y="2507760"/>
                  <a:ext cx="996840" cy="101844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1093680" y="2507760"/>
                  <a:ext cx="996840" cy="101844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739080" y="3234960"/>
                <a:ext cx="2036880" cy="1436400"/>
                <a:chOff x="739080" y="3234960"/>
                <a:chExt cx="2036880" cy="1436400"/>
              </a:xfrm>
            </p:grpSpPr>
            <p:grpSp>
              <p:nvGrpSpPr>
                <p:cNvPr id="179" name=""/>
                <p:cNvGrpSpPr/>
                <p:nvPr/>
              </p:nvGrpSpPr>
              <p:grpSpPr>
                <a:xfrm>
                  <a:off x="739080" y="3359160"/>
                  <a:ext cx="1213920" cy="1312200"/>
                  <a:chOff x="739080" y="3359160"/>
                  <a:chExt cx="1213920" cy="1312200"/>
                </a:xfrm>
              </p:grpSpPr>
              <p:sp>
                <p:nvSpPr>
                  <p:cNvPr id="180" name=""/>
                  <p:cNvSpPr/>
                  <p:nvPr/>
                </p:nvSpPr>
                <p:spPr>
                  <a:xfrm flipH="1">
                    <a:off x="739080" y="3359160"/>
                    <a:ext cx="1213920" cy="13122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739080" y="3359160"/>
                    <a:ext cx="1213920" cy="131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1779120" y="3234960"/>
                  <a:ext cx="996840" cy="1018440"/>
                  <a:chOff x="1779120" y="3234960"/>
                  <a:chExt cx="996840" cy="1018440"/>
                </a:xfrm>
              </p:grpSpPr>
              <p:sp>
                <p:nvSpPr>
                  <p:cNvPr id="183" name=""/>
                  <p:cNvSpPr/>
                  <p:nvPr/>
                </p:nvSpPr>
                <p:spPr>
                  <a:xfrm>
                    <a:off x="1779120" y="3234960"/>
                    <a:ext cx="996840" cy="101844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779120" y="3234960"/>
                    <a:ext cx="996840" cy="101844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85" name=""/>
            <p:cNvSpPr/>
            <p:nvPr/>
          </p:nvSpPr>
          <p:spPr>
            <a:xfrm>
              <a:off x="1623600" y="49528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a:t>
              </a:r>
              <a:endParaRPr b="0" lang="en-US" sz="4400" spc="-1" strike="noStrike">
                <a:solidFill>
                  <a:srgbClr val="ffffff"/>
                </a:solidFill>
                <a:latin typeface="Times New Roman"/>
              </a:endParaRPr>
            </a:p>
          </p:txBody>
        </p:sp>
      </p:grpSp>
      <p:grpSp>
        <p:nvGrpSpPr>
          <p:cNvPr id="186" name=""/>
          <p:cNvGrpSpPr/>
          <p:nvPr/>
        </p:nvGrpSpPr>
        <p:grpSpPr>
          <a:xfrm>
            <a:off x="3169440" y="2309760"/>
            <a:ext cx="2367360" cy="3407400"/>
            <a:chOff x="3169440" y="2309760"/>
            <a:chExt cx="2367360" cy="3407400"/>
          </a:xfrm>
        </p:grpSpPr>
        <p:grpSp>
          <p:nvGrpSpPr>
            <p:cNvPr id="187" name=""/>
            <p:cNvGrpSpPr/>
            <p:nvPr/>
          </p:nvGrpSpPr>
          <p:grpSpPr>
            <a:xfrm>
              <a:off x="3169440" y="2309760"/>
              <a:ext cx="2367360" cy="2164680"/>
              <a:chOff x="3169440" y="2309760"/>
              <a:chExt cx="2367360" cy="2164680"/>
            </a:xfrm>
          </p:grpSpPr>
          <p:sp>
            <p:nvSpPr>
              <p:cNvPr id="188" name=""/>
              <p:cNvSpPr/>
              <p:nvPr/>
            </p:nvSpPr>
            <p:spPr>
              <a:xfrm>
                <a:off x="3542040" y="2392200"/>
                <a:ext cx="1994760" cy="199656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9" name=""/>
              <p:cNvGrpSpPr/>
              <p:nvPr/>
            </p:nvGrpSpPr>
            <p:grpSpPr>
              <a:xfrm>
                <a:off x="3169440" y="2309760"/>
                <a:ext cx="2048040" cy="2164680"/>
                <a:chOff x="3169440" y="2309760"/>
                <a:chExt cx="2048040" cy="2164680"/>
              </a:xfrm>
            </p:grpSpPr>
            <p:grpSp>
              <p:nvGrpSpPr>
                <p:cNvPr id="190" name=""/>
                <p:cNvGrpSpPr/>
                <p:nvPr/>
              </p:nvGrpSpPr>
              <p:grpSpPr>
                <a:xfrm>
                  <a:off x="3169440" y="3037320"/>
                  <a:ext cx="2048040" cy="1437120"/>
                  <a:chOff x="3169440" y="3037320"/>
                  <a:chExt cx="2048040" cy="1437120"/>
                </a:xfrm>
              </p:grpSpPr>
              <p:grpSp>
                <p:nvGrpSpPr>
                  <p:cNvPr id="191" name=""/>
                  <p:cNvGrpSpPr/>
                  <p:nvPr/>
                </p:nvGrpSpPr>
                <p:grpSpPr>
                  <a:xfrm>
                    <a:off x="4220280" y="3037320"/>
                    <a:ext cx="997200" cy="998280"/>
                    <a:chOff x="4220280" y="3037320"/>
                    <a:chExt cx="997200" cy="998280"/>
                  </a:xfrm>
                </p:grpSpPr>
                <p:sp>
                  <p:nvSpPr>
                    <p:cNvPr id="192" name=""/>
                    <p:cNvSpPr/>
                    <p:nvPr/>
                  </p:nvSpPr>
                  <p:spPr>
                    <a:xfrm>
                      <a:off x="4220280" y="3037320"/>
                      <a:ext cx="997200" cy="99828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220280" y="3037320"/>
                      <a:ext cx="997200" cy="9982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3169440" y="3161880"/>
                    <a:ext cx="1214640" cy="1312560"/>
                    <a:chOff x="3169440" y="3161880"/>
                    <a:chExt cx="1214640" cy="1312560"/>
                  </a:xfrm>
                </p:grpSpPr>
                <p:sp>
                  <p:nvSpPr>
                    <p:cNvPr id="195" name=""/>
                    <p:cNvSpPr/>
                    <p:nvPr/>
                  </p:nvSpPr>
                  <p:spPr>
                    <a:xfrm flipH="1">
                      <a:off x="3169440" y="3161880"/>
                      <a:ext cx="1214640" cy="13125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H="1">
                      <a:off x="3169440" y="3161880"/>
                      <a:ext cx="1214640" cy="1312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7" name=""/>
                <p:cNvGrpSpPr/>
                <p:nvPr/>
              </p:nvGrpSpPr>
              <p:grpSpPr>
                <a:xfrm>
                  <a:off x="3524400" y="2309760"/>
                  <a:ext cx="997200" cy="1019160"/>
                  <a:chOff x="3524400" y="2309760"/>
                  <a:chExt cx="997200" cy="1019160"/>
                </a:xfrm>
              </p:grpSpPr>
              <p:sp>
                <p:nvSpPr>
                  <p:cNvPr id="198" name=""/>
                  <p:cNvSpPr/>
                  <p:nvPr/>
                </p:nvSpPr>
                <p:spPr>
                  <a:xfrm>
                    <a:off x="3524400" y="2309760"/>
                    <a:ext cx="997200" cy="101916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524400" y="2309760"/>
                    <a:ext cx="997200" cy="101916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00" name=""/>
            <p:cNvSpPr/>
            <p:nvPr/>
          </p:nvSpPr>
          <p:spPr>
            <a:xfrm>
              <a:off x="4321080" y="49528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t>
              </a:r>
              <a:endParaRPr b="0" lang="en-US" sz="4400" spc="-1" strike="noStrike">
                <a:solidFill>
                  <a:srgbClr val="ffffff"/>
                </a:solidFill>
                <a:latin typeface="Times New Roman"/>
              </a:endParaRPr>
            </a:p>
          </p:txBody>
        </p:sp>
      </p:grpSp>
      <p:grpSp>
        <p:nvGrpSpPr>
          <p:cNvPr id="201" name=""/>
          <p:cNvGrpSpPr/>
          <p:nvPr/>
        </p:nvGrpSpPr>
        <p:grpSpPr>
          <a:xfrm>
            <a:off x="5693760" y="2133720"/>
            <a:ext cx="2534400" cy="3583440"/>
            <a:chOff x="5693760" y="2133720"/>
            <a:chExt cx="2534400" cy="3583440"/>
          </a:xfrm>
        </p:grpSpPr>
        <p:grpSp>
          <p:nvGrpSpPr>
            <p:cNvPr id="202" name=""/>
            <p:cNvGrpSpPr/>
            <p:nvPr/>
          </p:nvGrpSpPr>
          <p:grpSpPr>
            <a:xfrm>
              <a:off x="5693760" y="2133720"/>
              <a:ext cx="2534400" cy="2233440"/>
              <a:chOff x="5693760" y="2133720"/>
              <a:chExt cx="2534400" cy="2233440"/>
            </a:xfrm>
          </p:grpSpPr>
          <p:sp>
            <p:nvSpPr>
              <p:cNvPr id="203" name=""/>
              <p:cNvSpPr/>
              <p:nvPr/>
            </p:nvSpPr>
            <p:spPr>
              <a:xfrm>
                <a:off x="6232680" y="2372040"/>
                <a:ext cx="1995480" cy="1995120"/>
              </a:xfrm>
              <a:prstGeom prst="ellipse">
                <a:avLst/>
              </a:prstGeom>
              <a:gradFill rotWithShape="0">
                <a:gsLst>
                  <a:gs pos="0">
                    <a:srgbClr val="333333"/>
                  </a:gs>
                  <a:gs pos="100000">
                    <a:srgbClr val="f8f8f8"/>
                  </a:gs>
                </a:gsLst>
                <a:path path="rect">
                  <a:fillToRect l="50000" t="50000" r="50000" b="50000"/>
                </a:path>
              </a:gra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4" name=""/>
              <p:cNvGrpSpPr/>
              <p:nvPr/>
            </p:nvGrpSpPr>
            <p:grpSpPr>
              <a:xfrm>
                <a:off x="5693760" y="2133720"/>
                <a:ext cx="2048760" cy="2163600"/>
                <a:chOff x="5693760" y="2133720"/>
                <a:chExt cx="2048760" cy="2163600"/>
              </a:xfrm>
            </p:grpSpPr>
            <p:grpSp>
              <p:nvGrpSpPr>
                <p:cNvPr id="205" name=""/>
                <p:cNvGrpSpPr/>
                <p:nvPr/>
              </p:nvGrpSpPr>
              <p:grpSpPr>
                <a:xfrm>
                  <a:off x="5693760" y="2860920"/>
                  <a:ext cx="2048760" cy="1436400"/>
                  <a:chOff x="5693760" y="2860920"/>
                  <a:chExt cx="2048760" cy="1436400"/>
                </a:xfrm>
              </p:grpSpPr>
              <p:grpSp>
                <p:nvGrpSpPr>
                  <p:cNvPr id="206" name=""/>
                  <p:cNvGrpSpPr/>
                  <p:nvPr/>
                </p:nvGrpSpPr>
                <p:grpSpPr>
                  <a:xfrm>
                    <a:off x="6744600" y="2860920"/>
                    <a:ext cx="997920" cy="997560"/>
                    <a:chOff x="6744600" y="2860920"/>
                    <a:chExt cx="997920" cy="997560"/>
                  </a:xfrm>
                </p:grpSpPr>
                <p:sp>
                  <p:nvSpPr>
                    <p:cNvPr id="207" name=""/>
                    <p:cNvSpPr/>
                    <p:nvPr/>
                  </p:nvSpPr>
                  <p:spPr>
                    <a:xfrm>
                      <a:off x="6744600" y="2860920"/>
                      <a:ext cx="997920" cy="997560"/>
                    </a:xfrm>
                    <a:prstGeom prst="ellipse">
                      <a:avLst/>
                    </a:prstGeom>
                    <a:noFill/>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6744600" y="2860920"/>
                      <a:ext cx="997920" cy="99756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5693760" y="2985120"/>
                    <a:ext cx="1213920" cy="1312200"/>
                    <a:chOff x="5693760" y="2985120"/>
                    <a:chExt cx="1213920" cy="1312200"/>
                  </a:xfrm>
                </p:grpSpPr>
                <p:sp>
                  <p:nvSpPr>
                    <p:cNvPr id="210" name=""/>
                    <p:cNvSpPr/>
                    <p:nvPr/>
                  </p:nvSpPr>
                  <p:spPr>
                    <a:xfrm flipH="1">
                      <a:off x="5693760" y="2985120"/>
                      <a:ext cx="1213920" cy="13122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5693760" y="2985120"/>
                      <a:ext cx="1213920" cy="131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6048360" y="2133720"/>
                  <a:ext cx="997560" cy="1018440"/>
                  <a:chOff x="6048360" y="2133720"/>
                  <a:chExt cx="997560" cy="1018440"/>
                </a:xfrm>
              </p:grpSpPr>
              <p:sp>
                <p:nvSpPr>
                  <p:cNvPr id="213" name=""/>
                  <p:cNvSpPr/>
                  <p:nvPr/>
                </p:nvSpPr>
                <p:spPr>
                  <a:xfrm>
                    <a:off x="6048360" y="2133720"/>
                    <a:ext cx="997560" cy="1018440"/>
                  </a:xfrm>
                  <a:prstGeom prst="ellipse">
                    <a:avLst/>
                  </a:prstGeom>
                  <a:noFill/>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6048360" y="2133720"/>
                    <a:ext cx="997560" cy="1018440"/>
                  </a:xfrm>
                  <a:prstGeom prst="ellipse">
                    <a:avLst/>
                  </a:prstGeom>
                  <a:noFill/>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15" name=""/>
            <p:cNvSpPr/>
            <p:nvPr/>
          </p:nvSpPr>
          <p:spPr>
            <a:xfrm>
              <a:off x="6987960" y="49528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DAMN – TURNED THE WRONG WAY</a:t>
            </a:r>
            <a:endParaRPr b="0" lang="en-US" sz="3200" spc="-1" strike="noStrike">
              <a:solidFill>
                <a:srgbClr val="ffcc66"/>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ERMAL MAY BE APPROACHED RADIALLY OR TANGENTIALLY</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L APPROACH GUARANTEES A WRONG DIRECTION TURN</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ANGENTIAL APPROACH HAS A 50% CHANCE</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ABILITY OF TURNING CORRECTLY IS 1 IN 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11:13:02Z</dcterms:created>
  <dc:creator> </dc:creator>
  <dc:description/>
  <dc:language>en-US</dc:language>
  <cp:lastModifiedBy> </cp:lastModifiedBy>
  <dcterms:modified xsi:type="dcterms:W3CDTF">2007-04-01T12:18:39Z</dcterms:modified>
  <cp:revision>20</cp:revision>
  <dc:subject/>
  <dc:title>A MATTER OF SCALE</dc:title>
</cp:coreProperties>
</file>