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6D-6691-4C45-9B95-FCAEF193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55D-AF55-4CD2-88BE-A1B26860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341-3525-4336-9325-7EB4A64E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BEC-258D-493C-9D55-AC67F9C5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D1D-DB66-467C-8ECB-0665F94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9D8-B345-4B1D-B529-9D432AC7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290-248A-4C86-966F-13CE709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E5E-98FE-4B31-8D39-7D0B83CD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53B-9A47-4C65-8CA1-453DB1F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305-0147-4EEF-BA10-C268E11F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E7B-8C42-4CFA-AC39-0D4BC7C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A68-CD21-4D77-B54C-C1D80D3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F136-C6DF-4949-9424-78EC59BD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03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8320" y="990720"/>
            <a:ext cx="579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eight and  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“flying” weight &amp;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your ‘pilot moment arm’ and the aircraft empty weight (option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quires a second weig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ast the aircraft to desired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D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scales (For main and tail whe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, Plumb Bob,  and Tap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blocking to support ‘tail’ scales with the aircraft ‘leve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lose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(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D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W&amp;B or Man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Plane Location - Usually the wing leading edge at the wing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ing’ criteria – Usually a level placed on the fuselage ahead of the fin with a defined taper (ratio) between the fuselage and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(usually “A”) from datum to the main wh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datum to the tail wheel or sk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ually “A” plus “B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ILPLANE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the level, with appropriate blocking / offset taped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ck the main wheel on the s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the batteries, drinking water, and whatever else gets added for flight such as the pilot and parach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tail and position scales, with appropriate support, in correct attitude, per level bub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ail lighter with pilot in cockp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- Canopy closed, wings balanced (no wing stands), level removed, no other points of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scales readings (main and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are (wheel chock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ircraft, flying config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       Weight       Station          Momen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. Wheel                 841 lbs                          7.00 inches                      5887 in.-lb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. Wheel                  28.5                               178.31                            5081.8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C, Flying               869.5                              12.62*                           10968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96252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tation = moment / weight =1096.8 / 869.5 = 12.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CATION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LLAST W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      WEIGHT        STA.      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             869.5                 12.62              10968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ast                25                      175.0               437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C &amp; bal         894.5                   16.85              15073.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352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21:21:36Z</dcterms:created>
  <dc:creator>Tim Welles</dc:creator>
  <dc:description/>
  <dc:language>en-US</dc:language>
  <cp:lastModifiedBy>Jacobs Family</cp:lastModifiedBy>
  <dcterms:modified xsi:type="dcterms:W3CDTF">2007-04-13T13:16:13Z</dcterms:modified>
  <cp:revision>5</cp:revision>
  <dc:subject/>
  <dc:title>Weight and  Balance</dc:title>
</cp:coreProperties>
</file>