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694-A08B-4F1A-95EB-0B280D80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E4A-2607-48C1-BBC1-ABB6BEE3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FA6-408B-42B9-BB87-F971F532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98D-9955-414E-A9D0-289F1729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A0ED-0812-4FC2-9651-8E3832DF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3A63-6ECE-4E8F-A075-CE978C98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ED26-C64C-4B4F-86D8-9526A257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2A9E-B0B4-43F4-8362-71075B0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0B0A-B45D-4986-BD5B-1E22D4AE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ACBB-2B5A-4D6D-A6DE-B5A8171F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3D1-32E7-4F95-BAD2-6D6FDF1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23B-545A-4EEB-87E2-1F03A10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0CB-9573-4F27-854F-100155AE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E5CD-6A62-4FB4-8DBC-8E5A562D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F05A-C371-48B0-8925-3B8DE474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E4AF-7A19-4812-A40C-FC5C5319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B195-7CD2-4068-A68F-B897D237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D236-BC47-4784-940E-3E479B57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1DC5-12C8-42E8-9688-72108DC6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E990-BA1C-41BF-BDCE-8E016C94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314A-E88F-4AAC-88D3-363FFFD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248D-F324-4A4E-A524-FEFA933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527-5550-41DA-8C85-C9DC2D03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1C7F-063F-45B3-B985-A670F11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8F74-4817-4C30-A80D-BE59687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4754-5967-4BE6-8E18-EFF1A29A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1BDB-83FD-49CB-8716-647A4F34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57FF-D243-4245-8433-95135CB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5B81-7765-4331-A69A-FAC525E1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74D1-FB17-4558-B33D-154EC930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84CD-E998-4603-B0C6-A3021CCF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50DC-D73F-4681-9660-6C114C9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FF858-B5E3-419E-8D57-67AEAAE3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28F-D0B8-448C-9E39-81B4E6C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B8A9-1D61-449B-83D1-8A88FE0C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A1D8-2306-4B93-BA70-850FC4A9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3A84-762C-4D70-91A0-A7AA78F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BA26-B031-43F3-9F50-4D04BB1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CF41-1375-414B-BB3B-3F79F82A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FAF0-6441-40EF-BE3D-33D37A7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5432-1359-4BC0-9D19-A108D7BF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92BD5-45B7-4129-A3E9-1A166531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BD1A3-3E65-4DD2-AE73-5A3CBD8E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EAD2-BC68-4349-A499-A9F77386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B93-A92C-450B-9B9E-64D0849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2814-4862-4BB6-9AD5-2E4E7870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4A95-4772-48F4-995F-69291F09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0896-E81F-428F-B354-006F7049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5DA9-56E1-472D-A94D-28E1560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E783-5DE5-40DD-9738-B753699B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CE0C-1E6A-4AFB-BFB6-1CA529B8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8E26-FB18-42AE-AE55-CDE87D3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A149-86E8-40D3-9E23-C04DBC0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D1FF-2D7B-4AC2-AC9E-04247C5A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0E41F-819F-41F0-AFE0-F2D6A2A9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92B-88F2-4376-9507-24A0E066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14F1-C55A-410B-B051-73D6D707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770-128F-4007-9A23-0CE4639C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4D1-BA3D-4718-AC5C-070BF37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21C-1616-4761-8FD7-8F9D7056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49.xml"/><Relationship Id="rId32" Type="http://schemas.openxmlformats.org/officeDocument/2006/relationships/slideLayout" Target="../slideLayouts/slideLayout50.xml"/><Relationship Id="rId33" Type="http://schemas.openxmlformats.org/officeDocument/2006/relationships/slideLayout" Target="../slideLayouts/slideLayout51.xml"/><Relationship Id="rId34" Type="http://schemas.openxmlformats.org/officeDocument/2006/relationships/slideLayout" Target="../slideLayouts/slideLayout52.xml"/><Relationship Id="rId35" Type="http://schemas.openxmlformats.org/officeDocument/2006/relationships/slideLayout" Target="../slideLayouts/slideLayout53.xml"/><Relationship Id="rId36" Type="http://schemas.openxmlformats.org/officeDocument/2006/relationships/slideLayout" Target="../slideLayouts/slideLayout54.xml"/><Relationship Id="rId37" Type="http://schemas.openxmlformats.org/officeDocument/2006/relationships/slideLayout" Target="../slideLayouts/slideLayout55.xml"/><Relationship Id="rId38" Type="http://schemas.openxmlformats.org/officeDocument/2006/relationships/slideLayout" Target="../slideLayouts/slideLayout56.xml"/><Relationship Id="rId39" Type="http://schemas.openxmlformats.org/officeDocument/2006/relationships/slideLayout" Target="../slideLayouts/slideLayout57.xml"/><Relationship Id="rId40" Type="http://schemas.openxmlformats.org/officeDocument/2006/relationships/slideLayout" Target="../slideLayouts/slideLayout58.xml"/><Relationship Id="rId41" Type="http://schemas.openxmlformats.org/officeDocument/2006/relationships/slideLayout" Target="../slideLayouts/slideLayout59.xml"/><Relationship Id="rId4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E65-5193-41CE-8E3A-797599E7E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811A-4720-4D19-A2BF-9F2E84C267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18E5-DE4C-4434-8456-2F58559676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4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4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596C-C36F-47DE-A3D2-309C448AE4D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2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3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4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4B30-D518-4E55-B813-03C623BEC1B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1"/>
    <p:sldLayoutId id="2147483702" r:id="rId32"/>
    <p:sldLayoutId id="2147483703" r:id="rId33"/>
    <p:sldLayoutId id="2147483704" r:id="rId34"/>
    <p:sldLayoutId id="2147483705" r:id="rId35"/>
    <p:sldLayoutId id="2147483706" r:id="rId36"/>
    <p:sldLayoutId id="2147483707" r:id="rId37"/>
    <p:sldLayoutId id="2147483708" r:id="rId38"/>
    <p:sldLayoutId id="2147483709" r:id="rId39"/>
    <p:sldLayoutId id="2147483710" r:id="rId40"/>
    <p:sldLayoutId id="2147483711" r:id="rId41"/>
    <p:sldLayoutId id="2147483712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6272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ying MacC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Numbers Tell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70480" y="581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2944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75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nertial &amp; Instrument Lag</a:t>
            </a:r>
            <a:br>
              <a:rPr sz="36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Conspire Against Theory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7000" y="1704960"/>
            <a:ext cx="603396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752480" y="22096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21337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54320" y="19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49480" y="16002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Comic Sans MS"/>
              </a:rPr>
              <a:t>the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080" y="3111480"/>
            <a:ext cx="5791320" cy="939960"/>
          </a:xfrm>
          <a:custGeom>
            <a:avLst/>
            <a:gdLst/>
            <a:ahLst/>
            <a:rect l="l" t="t" r="r" b="b"/>
            <a:pathLst>
              <a:path w="3648" h="592">
                <a:moveTo>
                  <a:pt x="0" y="440"/>
                </a:moveTo>
                <a:cubicBezTo>
                  <a:pt x="196" y="508"/>
                  <a:pt x="392" y="576"/>
                  <a:pt x="576" y="584"/>
                </a:cubicBezTo>
                <a:cubicBezTo>
                  <a:pt x="760" y="592"/>
                  <a:pt x="896" y="568"/>
                  <a:pt x="1104" y="488"/>
                </a:cubicBezTo>
                <a:cubicBezTo>
                  <a:pt x="1312" y="408"/>
                  <a:pt x="1672" y="176"/>
                  <a:pt x="1824" y="104"/>
                </a:cubicBezTo>
                <a:cubicBezTo>
                  <a:pt x="1976" y="32"/>
                  <a:pt x="1928" y="72"/>
                  <a:pt x="2016" y="56"/>
                </a:cubicBezTo>
                <a:cubicBezTo>
                  <a:pt x="2104" y="40"/>
                  <a:pt x="2224" y="0"/>
                  <a:pt x="2352" y="8"/>
                </a:cubicBezTo>
                <a:cubicBezTo>
                  <a:pt x="2480" y="16"/>
                  <a:pt x="2568" y="24"/>
                  <a:pt x="2784" y="104"/>
                </a:cubicBezTo>
                <a:cubicBezTo>
                  <a:pt x="3000" y="184"/>
                  <a:pt x="3504" y="424"/>
                  <a:pt x="3648" y="488"/>
                </a:cubicBezTo>
              </a:path>
            </a:pathLst>
          </a:custGeom>
          <a:noFill/>
          <a:ln w="19080">
            <a:solidFill>
              <a:srgbClr val="2f131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426708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90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95280" y="1600200"/>
            <a:ext cx="254160" cy="3429000"/>
          </a:xfrm>
          <a:custGeom>
            <a:avLst/>
            <a:gdLst/>
            <a:ahLst/>
            <a:rect l="l" t="t" r="r" b="b"/>
            <a:pathLst>
              <a:path w="160" h="2160">
                <a:moveTo>
                  <a:pt x="104" y="0"/>
                </a:moveTo>
                <a:cubicBezTo>
                  <a:pt x="52" y="36"/>
                  <a:pt x="0" y="72"/>
                  <a:pt x="8" y="144"/>
                </a:cubicBezTo>
                <a:cubicBezTo>
                  <a:pt x="16" y="216"/>
                  <a:pt x="144" y="336"/>
                  <a:pt x="152" y="432"/>
                </a:cubicBezTo>
                <a:cubicBezTo>
                  <a:pt x="160" y="528"/>
                  <a:pt x="56" y="624"/>
                  <a:pt x="56" y="720"/>
                </a:cubicBezTo>
                <a:cubicBezTo>
                  <a:pt x="56" y="816"/>
                  <a:pt x="152" y="904"/>
                  <a:pt x="152" y="1008"/>
                </a:cubicBezTo>
                <a:cubicBezTo>
                  <a:pt x="152" y="1112"/>
                  <a:pt x="56" y="1240"/>
                  <a:pt x="56" y="1344"/>
                </a:cubicBezTo>
                <a:cubicBezTo>
                  <a:pt x="56" y="1448"/>
                  <a:pt x="152" y="1544"/>
                  <a:pt x="152" y="1632"/>
                </a:cubicBezTo>
                <a:cubicBezTo>
                  <a:pt x="152" y="1720"/>
                  <a:pt x="56" y="1784"/>
                  <a:pt x="56" y="1872"/>
                </a:cubicBezTo>
                <a:cubicBezTo>
                  <a:pt x="56" y="1960"/>
                  <a:pt x="136" y="2112"/>
                  <a:pt x="152" y="2160"/>
                </a:cubicBezTo>
              </a:path>
            </a:pathLst>
          </a:custGeom>
          <a:noFill/>
          <a:ln w="19080">
            <a:solidFill>
              <a:srgbClr val="79af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1600200"/>
            <a:ext cx="254160" cy="3429000"/>
          </a:xfrm>
          <a:custGeom>
            <a:avLst/>
            <a:gdLst/>
            <a:ahLst/>
            <a:rect l="l" t="t" r="r" b="b"/>
            <a:pathLst>
              <a:path w="160" h="2160">
                <a:moveTo>
                  <a:pt x="104" y="0"/>
                </a:moveTo>
                <a:cubicBezTo>
                  <a:pt x="52" y="36"/>
                  <a:pt x="0" y="72"/>
                  <a:pt x="8" y="144"/>
                </a:cubicBezTo>
                <a:cubicBezTo>
                  <a:pt x="16" y="216"/>
                  <a:pt x="144" y="336"/>
                  <a:pt x="152" y="432"/>
                </a:cubicBezTo>
                <a:cubicBezTo>
                  <a:pt x="160" y="528"/>
                  <a:pt x="56" y="624"/>
                  <a:pt x="56" y="720"/>
                </a:cubicBezTo>
                <a:cubicBezTo>
                  <a:pt x="56" y="816"/>
                  <a:pt x="152" y="904"/>
                  <a:pt x="152" y="1008"/>
                </a:cubicBezTo>
                <a:cubicBezTo>
                  <a:pt x="152" y="1112"/>
                  <a:pt x="56" y="1240"/>
                  <a:pt x="56" y="1344"/>
                </a:cubicBezTo>
                <a:cubicBezTo>
                  <a:pt x="56" y="1448"/>
                  <a:pt x="152" y="1544"/>
                  <a:pt x="152" y="1632"/>
                </a:cubicBezTo>
                <a:cubicBezTo>
                  <a:pt x="152" y="1720"/>
                  <a:pt x="56" y="1784"/>
                  <a:pt x="56" y="1872"/>
                </a:cubicBezTo>
                <a:cubicBezTo>
                  <a:pt x="56" y="1960"/>
                  <a:pt x="136" y="2112"/>
                  <a:pt x="152" y="2160"/>
                </a:cubicBezTo>
              </a:path>
            </a:pathLst>
          </a:custGeom>
          <a:noFill/>
          <a:ln w="19080">
            <a:solidFill>
              <a:srgbClr val="79af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98680" y="426708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2 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(264 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19800" y="311796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60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25920" y="4191120"/>
            <a:ext cx="84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6 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(570 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905120" y="220968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590920" y="220968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352680" y="220968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653120" y="2742480"/>
            <a:ext cx="48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Comic Sans MS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47280" y="18162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Comic Sans MS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2286000"/>
            <a:ext cx="0" cy="3808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77080" y="274320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40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701240" y="3276720"/>
            <a:ext cx="485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Comic Sans MS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52880" y="4572000"/>
            <a:ext cx="0" cy="3808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12840" y="41911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2 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Comic Sans MS"/>
              </a:rPr>
              <a:t>(116 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5257800"/>
            <a:ext cx="3809880" cy="916920"/>
          </a:xfrm>
          <a:prstGeom prst="rect">
            <a:avLst/>
          </a:prstGeom>
          <a:solidFill>
            <a:srgbClr val="2f1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Due to instrument lag, pilot is fooled into thinking s/he was in lift longer than s/he actually w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74674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MacCready Flying Requires Attention</a:t>
            </a:r>
            <a:br>
              <a:rPr sz="32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Comic Sans MS"/>
              </a:rPr>
              <a:t>That Could Otherwise Be Applied to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Navigation - Least sink route</a:t>
            </a:r>
            <a:br>
              <a:rPr sz="2400"/>
            </a:b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Lift detection - clouds, gaggles</a:t>
            </a:r>
            <a:br>
              <a:rPr sz="2400"/>
            </a:b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Avoiding mid-air collisions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3592440" cy="24447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1432080" y="46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820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ed vs Climb R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114800" cy="33033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4194000" cy="22240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4648320" y="4362480"/>
            <a:ext cx="4267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odified MacCready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itiate pull up according to seat-of-the-pa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e a diluted or averaged flight pat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 known lift (clouds, gaggles,  etc.), pull up prior to thermal so transit is slo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ly inter-thermal speed according to:  thermal strength, height of thermal, altitude of glider, outlook ahea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ank you for attending!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380880" y="1166760"/>
            <a:ext cx="7010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lider Wing Designed for 1 G</a:t>
            </a:r>
            <a:br>
              <a:rPr sz="3600"/>
            </a:b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MacCready flight takes glider out of optimum “bucket”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7000" y="1704960"/>
            <a:ext cx="603396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14400" y="2286000"/>
            <a:ext cx="6934320" cy="3124080"/>
          </a:xfrm>
          <a:prstGeom prst="line">
            <a:avLst/>
          </a:prstGeom>
          <a:ln w="1908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1879560"/>
            <a:ext cx="7162920" cy="3479760"/>
          </a:xfrm>
          <a:custGeom>
            <a:avLst/>
            <a:gdLst/>
            <a:ahLst/>
            <a:rect l="l" t="t" r="r" b="b"/>
            <a:pathLst>
              <a:path w="4512" h="2192">
                <a:moveTo>
                  <a:pt x="0" y="256"/>
                </a:moveTo>
                <a:cubicBezTo>
                  <a:pt x="384" y="128"/>
                  <a:pt x="768" y="0"/>
                  <a:pt x="1008" y="112"/>
                </a:cubicBezTo>
                <a:cubicBezTo>
                  <a:pt x="1248" y="224"/>
                  <a:pt x="1304" y="656"/>
                  <a:pt x="1440" y="928"/>
                </a:cubicBezTo>
                <a:cubicBezTo>
                  <a:pt x="1576" y="1200"/>
                  <a:pt x="1592" y="1640"/>
                  <a:pt x="1824" y="1744"/>
                </a:cubicBezTo>
                <a:cubicBezTo>
                  <a:pt x="2056" y="1848"/>
                  <a:pt x="2488" y="1600"/>
                  <a:pt x="2832" y="1552"/>
                </a:cubicBezTo>
                <a:cubicBezTo>
                  <a:pt x="3176" y="1504"/>
                  <a:pt x="3624" y="1368"/>
                  <a:pt x="3888" y="1456"/>
                </a:cubicBezTo>
                <a:cubicBezTo>
                  <a:pt x="4152" y="1544"/>
                  <a:pt x="4320" y="1968"/>
                  <a:pt x="4416" y="2080"/>
                </a:cubicBezTo>
                <a:cubicBezTo>
                  <a:pt x="4512" y="2192"/>
                  <a:pt x="4488" y="2160"/>
                  <a:pt x="4464" y="2128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3000" y="5105520"/>
            <a:ext cx="3809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straigh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MacCready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19320" y="5257800"/>
            <a:ext cx="15238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95280" y="571500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574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_ 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44200" y="461016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+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19840" y="3614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_  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light Path Is Longer</a:t>
            </a:r>
            <a:br>
              <a:rPr sz="36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For a 500’ pull up over 4000’ distance, add 125’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60343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2286000"/>
            <a:ext cx="6934320" cy="3124080"/>
          </a:xfrm>
          <a:prstGeom prst="line">
            <a:avLst/>
          </a:prstGeom>
          <a:ln w="1908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1879560"/>
            <a:ext cx="7162920" cy="3479760"/>
          </a:xfrm>
          <a:custGeom>
            <a:avLst/>
            <a:gdLst/>
            <a:ahLst/>
            <a:rect l="l" t="t" r="r" b="b"/>
            <a:pathLst>
              <a:path w="4512" h="2192">
                <a:moveTo>
                  <a:pt x="0" y="256"/>
                </a:moveTo>
                <a:cubicBezTo>
                  <a:pt x="384" y="128"/>
                  <a:pt x="768" y="0"/>
                  <a:pt x="1008" y="112"/>
                </a:cubicBezTo>
                <a:cubicBezTo>
                  <a:pt x="1248" y="224"/>
                  <a:pt x="1304" y="656"/>
                  <a:pt x="1440" y="928"/>
                </a:cubicBezTo>
                <a:cubicBezTo>
                  <a:pt x="1576" y="1200"/>
                  <a:pt x="1592" y="1640"/>
                  <a:pt x="1824" y="1744"/>
                </a:cubicBezTo>
                <a:cubicBezTo>
                  <a:pt x="2056" y="1848"/>
                  <a:pt x="2488" y="1600"/>
                  <a:pt x="2832" y="1552"/>
                </a:cubicBezTo>
                <a:cubicBezTo>
                  <a:pt x="3176" y="1504"/>
                  <a:pt x="3624" y="1368"/>
                  <a:pt x="3888" y="1456"/>
                </a:cubicBezTo>
                <a:cubicBezTo>
                  <a:pt x="4152" y="1544"/>
                  <a:pt x="4320" y="1968"/>
                  <a:pt x="4416" y="2080"/>
                </a:cubicBezTo>
                <a:cubicBezTo>
                  <a:pt x="4512" y="2192"/>
                  <a:pt x="4488" y="2160"/>
                  <a:pt x="4464" y="2128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62320" y="5029200"/>
            <a:ext cx="3809880" cy="916920"/>
          </a:xfrm>
          <a:prstGeom prst="rect">
            <a:avLst/>
          </a:prstGeom>
          <a:solidFill>
            <a:srgbClr val="2f1311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If 40 pull ups + 40 push o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then flight is 10,000 ‘ lo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Comic Sans MS"/>
              </a:rPr>
              <a:t>which = 2 minutes or 11 pts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14400" y="1496880"/>
            <a:ext cx="25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&lt;---- + 125 ft  --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0320" y="31161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&lt;---- + 4000 ft  --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22096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500 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21337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54320" y="19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133720" y="2514600"/>
            <a:ext cx="0" cy="2286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2080" y="1859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133720" y="2057040"/>
            <a:ext cx="0" cy="2286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1:14:52Z</dcterms:created>
  <dc:creator>Iris M. Striedieck</dc:creator>
  <dc:description/>
  <dc:language>en-US</dc:language>
  <cp:lastModifiedBy>Jacobs Family</cp:lastModifiedBy>
  <dcterms:modified xsi:type="dcterms:W3CDTF">2005-06-03T13:03:56Z</dcterms:modified>
  <cp:revision>29</cp:revision>
  <dc:subject/>
  <dc:title>Flying MacCready</dc:title>
</cp:coreProperties>
</file>